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E6D1-6665-48BB-87D6-64063DE0D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FCFE-7D66-4B16-92EA-D945DD219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27AD-32CC-46D5-8E7F-BB70FD8D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 reading pages 14-18. Stop and do a demo with paper towel strip and water colored with food dye. Give out a probe. Collect and do not share yet.  Ask questions p.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3D8D-A465-4277-AD16-3A5D6D53F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reading, visualize imagine it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a cold day in December in 1848. You’re in London England, and you are headed into the Royal Institution of Great Britain to hear a famous scientist named Michael Faraday speak. Read pages 4-9.  Imagine You are packed into hard wooden seats with 4,000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269A-452C-4D45-B90D-C8C52C0F7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pp. 10-13 and ask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D387-8550-4842-9760-2FDF30E3D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out the Candle Observations sheet. Use colored penc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9F10-D9B8-4365-ABAC-517B891FE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 reading pages 14-18. Stop and do a demo with paper towel strip and water colored with food dye. Give out Birthday Candles Part 1 probe. Collect and do not share yet.  Ask questions p.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67E2-F4DE-404E-83B0-EEFC66DF5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CDBA-0FDC-4466-B5C4-74B118EA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1F7-1E56-4A20-9264-F035749C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CF6-7B2E-4E5A-AD4D-03A12F5D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E25-8A8C-4197-8E4B-E12A8E7F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FD3-480B-446D-9745-9558ED5C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0F0-3EE1-44CF-9413-D33406C3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2F9-0668-48F6-8BB0-20F608A4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073-EAC0-42A0-82F2-456231A6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DED-436C-4CA2-A3A9-9B2811A2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C30-225F-4E75-A725-27C1C4C6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F5B-0F30-4A28-B013-52712A7F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120-6371-477A-94ED-F24CB02F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DAE-EBC1-42A9-B924-9B20B583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FDF2-A870-47EF-B104-B3F2223F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PICTURE PERFECT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GRADES 3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and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dfi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et bef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. We’ll read the story, and th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our answ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thes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, answer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3 o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fter Reading Nation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ographic Ki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NOVA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answer 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ete Birthday Cand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Featured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3103560" cy="310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796000" y="2008080"/>
            <a:ext cx="24685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Disciplinary Core Idea DCI PS1.B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The Framework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tates that by the end of Grade 5, students should know that “When two or more substances are mixed, a new substance with different properties may be formed” (NRC, 2012, p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is core idea refers to a change in matter called 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hemical chan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Lesson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Chemcial Change C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Ga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Heat given off or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Solid formed or dis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Odor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Light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-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: Michael Faraday’s Candle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oyal Institution of Great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11120" y="1700280"/>
            <a:ext cx="8501040" cy="455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and try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le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towel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day Candle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red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emistry of a C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worksheet pg. 1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Wendt, Stephanie</cp:lastModifiedBy>
  <dcterms:modified xsi:type="dcterms:W3CDTF">2017-07-11T02:53:45Z</dcterms:modified>
  <cp:revision>90</cp:revision>
  <dc:subject/>
  <dc:title>Texto</dc:title>
</cp:coreProperties>
</file>