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16C44-C641-4855-AE59-1691DFCEFA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45690-D853-4D34-B611-C259B989F9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D5CC9-845D-4C3F-B6F6-A0BB416C73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tinue reading pages 14-18. Stop and do a demo with paper towel strip and water colored with food dye. Give out a probe. Collect and do not share yet.  Ask questions p. 14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209C0-87BF-40AE-B97E-F2B61AA75A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fore reading, visualize imagine it</a:t>
            </a: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 a cold day in December in 1848. You’re in London England, and you are headed into the Royal Institution of Great Britain to hear a famous scientist named Michael Faraday speak. Read pages 4-9.  Imagine You are packed into hard wooden seats with 4,000 peop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00F27-60CA-4193-A64C-EC2A289968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d pp. 10-13 and ask ques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A0E66-7670-4574-9D40-63E212CC16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ll out the Candle Observations sheet. Use colored pencil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DF39C-9C5B-41FD-8032-6B611C316A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tinue reading pages 14-18. Stop and do a demo with paper towel strip and water colored with food dye. Give out Birthday Candles Part 1 probe. Collect and do not share yet.  Ask questions p. 14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52C22-F766-4DF0-A801-1295D59993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7DEA5-93F4-4BE4-A5DA-0C9B04E346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E1AE5-E050-4E63-A59A-6650E25DF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0FDB2-21A7-49D3-96C8-A8542858D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F56D6-91A6-41DF-85E7-7AA0877EC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22262-9924-4F95-B8B5-B0E51A1E6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789AD-9F2F-4A70-AA51-1E045390D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3F0FF-904B-4D25-948C-F9B9B6CA8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769E0-A974-4744-820E-62ED51BE4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4CA7F-3375-4ED7-8B1E-0B12AB53A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6B5D2-680D-4681-AC34-A478ED154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D6D8E-3707-4E94-998D-99D1236D4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F8D9E-5A69-4F4A-B87B-A03514474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B53B1-6A81-47A0-8E62-06D395EAE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30F0F-9E2E-46B2-8064-7AD7EE8B3F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ffffff"/>
                </a:solidFill>
                <a:latin typeface="Arial"/>
              </a:rPr>
              <a:t>BUR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ffffff"/>
                </a:solidFill>
                <a:latin typeface="Arial"/>
              </a:rPr>
              <a:t>PICTURE PERFECT SC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ffffff"/>
                </a:solidFill>
                <a:latin typeface="Arial"/>
              </a:rPr>
              <a:t>GRADES 3-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labo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urn and tal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lete the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Wildfire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sheet befor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ading. We’ll read the story, and then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eck our answer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tch the Vide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valu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ynthesiz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fter reading, answer ques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-3 on the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After Reading National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Geographic Kids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tch NOVA Vide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w, answer question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valu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Complete Birthday Candl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ffffff"/>
                </a:solidFill>
                <a:latin typeface="Arial"/>
              </a:rPr>
              <a:t>Featured Boo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Picture 1" descr=""/>
          <p:cNvPicPr/>
          <p:nvPr/>
        </p:nvPicPr>
        <p:blipFill>
          <a:blip r:embed="rId1"/>
          <a:stretch/>
        </p:blipFill>
        <p:spPr>
          <a:xfrm>
            <a:off x="1979640" y="2205000"/>
            <a:ext cx="3103560" cy="31035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" descr=""/>
          <p:cNvPicPr/>
          <p:nvPr/>
        </p:nvPicPr>
        <p:blipFill>
          <a:blip r:embed="rId2"/>
          <a:stretch/>
        </p:blipFill>
        <p:spPr>
          <a:xfrm>
            <a:off x="5796000" y="2008080"/>
            <a:ext cx="2468520" cy="37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ffffff"/>
                </a:solidFill>
                <a:latin typeface="Arial"/>
              </a:rPr>
              <a:t>Disciplinary Core Idea DCI PS1.B.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       Chemical Re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ffff"/>
                </a:solidFill>
                <a:latin typeface="Arial"/>
              </a:rPr>
              <a:t>The Framework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states that by the end of Grade 5, students should know that “When two or more substances are mixed, a new substance with different properties may be formed” (NRC, 2012, p.1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This core idea refers to a change in matter called a </a:t>
            </a:r>
            <a:r>
              <a:rPr b="0" i="1" lang="es-ES" sz="2400" spc="-1" strike="noStrike">
                <a:solidFill>
                  <a:srgbClr val="ffffff"/>
                </a:solidFill>
                <a:latin typeface="Arial"/>
              </a:rPr>
              <a:t>chemical chang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is Lesson Addres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UY" sz="4400" spc="-1" strike="noStrike">
                <a:solidFill>
                  <a:srgbClr val="ffffff"/>
                </a:solidFill>
                <a:latin typeface="Arial"/>
              </a:rPr>
              <a:t>Chemcial Change C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ffffff"/>
                </a:solidFill>
                <a:latin typeface="Arial"/>
              </a:rPr>
              <a:t>Gas produ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ffffff"/>
                </a:solidFill>
                <a:latin typeface="Arial"/>
              </a:rPr>
              <a:t>Heat given off or absorb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ffffff"/>
                </a:solidFill>
                <a:latin typeface="Arial"/>
              </a:rPr>
              <a:t>Solid formed or disappea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ffffff"/>
                </a:solidFill>
                <a:latin typeface="Arial"/>
              </a:rPr>
              <a:t>Odor chang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ffffff"/>
                </a:solidFill>
                <a:latin typeface="Arial"/>
              </a:rPr>
              <a:t>Light produ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ng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ad- Alou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rn: Michael Faraday’s Candle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Royal Institution of Great Brita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"/>
          <p:cNvPicPr/>
          <p:nvPr/>
        </p:nvPicPr>
        <p:blipFill>
          <a:blip r:embed="rId1"/>
          <a:stretch/>
        </p:blipFill>
        <p:spPr>
          <a:xfrm>
            <a:off x="411120" y="1700280"/>
            <a:ext cx="8501040" cy="45561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xplo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op and try i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ndle Observ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0 Min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xpla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per towel demonst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rthday Candle Pro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aired Rea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Chemistry of a Cand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lete the worksheet pg. 15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6T00:38:52Z</dcterms:created>
  <dc:creator>Mariajose</dc:creator>
  <dc:description/>
  <dc:language>en-US</dc:language>
  <cp:lastModifiedBy>Wendt, Stephanie</cp:lastModifiedBy>
  <dcterms:modified xsi:type="dcterms:W3CDTF">2017-07-11T02:53:45Z</dcterms:modified>
  <cp:revision>90</cp:revision>
  <dc:subject/>
  <dc:title>Texto</dc:title>
</cp:coreProperties>
</file>