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EDA0-D58D-45D0-9043-16812EF36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E6EA-FB22-4D70-80FA-AB6EAF75A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22DB-0BC0-40EC-9CE6-7C1EFDBC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 reading pages 14-18. Stop and do a demo with paper towel strip and water colored with food dye. Give out a probe. Collect and do not share yet.  Ask questions p.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B888-C93E-4B23-AE46-FBB95AEDD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reading, visualize imagine it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a cold day in December in 1848. You’re in London England, and you are headed into the Royal Institution of Great Britain to hear a famous scientist named Michael Faraday speak. Read pages 4-9.  Imagine You are packed into hard wooden seats with 4,000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E3B6-418C-46EF-9A84-727D3B533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pp. 10-13 and ask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67BC-629A-4B52-9EBE-60977C380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out the Candle Observations sheet. Use colored penc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B52D-E4FB-4C63-AA6C-93412FDBE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 reading pages 14-18. Stop and do a demo with paper towel strip and water colored with food dye. Give out Birthday Candles Part 1 probe. Collect and do not share yet.  Ask questions p.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620F-423E-4B7D-B24F-D894F3092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26F9-4C44-431C-8748-8FD9ECAF1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22A-0319-4320-9B2A-E8C252C6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F82-C997-4AFE-BDD6-9DE5C9CB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969-5F09-4DA0-AF8E-DC25DAD6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AA2-57B1-4264-BCEB-2839DA2B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341-7517-44DE-937E-F2B72B76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176-DA16-4DF5-A541-25E7B823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07A-D2E5-467A-B5B7-C55F1CC1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CBD-8414-4CF3-AD8B-3BC9162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FD7-CD43-4CBD-80A3-BE6BF665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D9F-BA7B-4F79-8B7D-35FEADD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9C7-D047-466A-94EE-E8FFEF58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9A6-6D10-4545-BF65-D0198200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B528-0F72-4BB4-85D6-34E11F980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PICTURE PERFECT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GRADES 3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and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dfi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et befo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. We’ll read the story, and th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our answ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thes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, answer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3 on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fter Reading Nation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ographic Ki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NOVA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answer 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ete Birthday Cand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Featured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3103560" cy="310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796000" y="2008080"/>
            <a:ext cx="246852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Disciplinary Core Idea DCI PS1.B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The Framework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tates that by the end of Grade 5, students should know that “When two or more substances are mixed, a new substance with different properties may be formed” (NRC, 2012, p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is core idea refers to a change in matter called 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hemical chan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Lesson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emcial Change C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Ga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Heat given off or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Solid formed or disapp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Odor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Light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-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: Michael Faraday’s Candle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oyal Institution of Great Bri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11120" y="1700280"/>
            <a:ext cx="8501040" cy="455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and try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le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towel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day Candle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red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emistry of a C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worksheet pg. 1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Wendt, Stephanie</cp:lastModifiedBy>
  <dcterms:modified xsi:type="dcterms:W3CDTF">2017-07-11T02:53:45Z</dcterms:modified>
  <cp:revision>90</cp:revision>
  <dc:subject/>
  <dc:title>Texto</dc:title>
</cp:coreProperties>
</file>