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F851-ECAC-45AE-994F-C18CF216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6A0-B157-4DB1-9149-4639337E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C6F6-9ADA-4A25-901D-4649007B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a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04A-56F3-41B1-B6EE-2C41FB94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reading, visualize imagine it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a cold day in December in 1848. You’re in London England, and you are headed into the Royal Institution of Great Britain to hear a famous scientist named Michael Faraday speak. Read pages 4-9.  Imagine You are packed into hard wooden seats with 4,000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8C6B-4488-4486-8126-2237BBBB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pp. 10-13 and ask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8D98-6A09-4FCD-BE6C-2D1BB5C8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out the Candle Observations sheet. Use colored penc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202-85B9-42BC-95C1-5BF3550E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Birthday Candles Part 1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2879-2100-465F-B7E6-EDF9A525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DC34-602F-48C6-B70B-5AA32414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3F0-B351-49E9-BA77-62B5B709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1C1-3153-43D9-842C-C8EB3480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5E9-454E-47B9-BBC6-AE1B1C64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EEB-2BED-4A13-A80D-F4326D52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CC8-C807-4B69-891D-634272F5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99D-485B-4A67-A8F0-441C228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B03-D058-403B-BE71-DB1D4A52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53E-1AD6-48D8-BBF5-EB764BA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164-095A-4A61-877D-96DAA92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A11-01C2-461B-8AAA-05610B4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DB8-60A9-419E-8647-EA8F5E68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6FA-D9C7-4136-9DF0-A733CB3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F52-1CF9-471A-B727-66A23C59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PICTURE PERFECT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GRADES 3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dfi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et bef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. We’ll read the story, and th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, answer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 o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fter Reading Nation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ographic Ki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NOVA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answe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te Birthday Cand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Feature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796000" y="2008080"/>
            <a:ext cx="24685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Disciplinary Core Idea DCI PS1.B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he Framework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tates that by the end of Grade 5, students should know that “When two or more substances are mixed, a new substance with different properties may be formed” (NRC, 2012, p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core idea refers to a change in matter called 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hemical chan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Lesson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emcial Change 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Ga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Heat given off or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Solid formed or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Odor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Light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-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: Michael Faraday’s Candle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oyal Institution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11120" y="1700280"/>
            <a:ext cx="8501040" cy="455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and try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le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towel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day Candl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red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stry of a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worksheet pg. 1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Wendt, Stephanie</cp:lastModifiedBy>
  <dcterms:modified xsi:type="dcterms:W3CDTF">2017-07-11T02:53:45Z</dcterms:modified>
  <cp:revision>90</cp:revision>
  <dc:subject/>
  <dc:title>Texto</dc:title>
</cp:coreProperties>
</file>