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2395-8B14-4EF0-AD83-B0E568A6261F}" type="datetime">
              <a:rPr b="0" lang="en-US" sz="1200" spc="-1" strike="noStrike">
                <a:solidFill>
                  <a:srgbClr val="000000"/>
                </a:solidFill>
                <a:latin typeface="Calibri"/>
                <a:ea typeface="Arial"/>
              </a:rPr>
              <a:t>07/29/26</a:t>
            </a:fld>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136A-E065-4E15-8B3C-E7035868097F}"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extgenscience.org/overview-0%238.%20Career%20clusters"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DF9E-0665-4678-B38A-AA0017E4B6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9F4A-2937-4E02-A1B8-735B39036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any states currently use the NRC’s </a:t>
            </a:r>
            <a:r>
              <a:rPr b="0" i="1" lang="en-US" sz="700" spc="-1" strike="noStrike">
                <a:solidFill>
                  <a:srgbClr val="000000"/>
                </a:solidFill>
                <a:latin typeface="Calibri"/>
              </a:rPr>
              <a:t>National Science Education Standards</a:t>
            </a:r>
            <a:r>
              <a:rPr b="0" lang="en-US" sz="700" spc="-1" strike="noStrike">
                <a:solidFill>
                  <a:srgbClr val="000000"/>
                </a:solidFill>
                <a:latin typeface="Calibri"/>
              </a:rPr>
              <a:t> and AAAS’s </a:t>
            </a:r>
            <a:r>
              <a:rPr b="0" i="1" lang="en-US" sz="700" spc="-1" strike="noStrike">
                <a:solidFill>
                  <a:srgbClr val="000000"/>
                </a:solidFill>
                <a:latin typeface="Calibri"/>
              </a:rPr>
              <a:t>Benchmarks for Science Literacy</a:t>
            </a:r>
            <a:r>
              <a:rPr b="0" lang="en-US" sz="700" spc="-1" strike="noStrike">
                <a:solidFill>
                  <a:srgbClr val="000000"/>
                </a:solidFill>
                <a:latin typeface="Calibri"/>
              </a:rPr>
              <a:t> as the basis for state standards; these documents are excellent, but they are 15 years old.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Reduction of the United States' competitive economic edge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hrinking share of patents: Foreign competitors filed over half of U.S. technology patent applications in 2010</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iminishing share of high-tech exports:  Our share of high-tech exports in on the decline, while China has become the single largest exporting country for high-tech products. Correspondingly, the United States' high-tech trade deficit continues to g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Lagging achievement of U.S. students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United States ranked 14th in reading, 17th in science, and 25th in mathematics on the 2009 PISA assessment of 34 OECD countr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United States ranked 11th in high school graduation rate among the 36 OECD countries for which data is availabl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Over a third of eighth-graders scored below basic on the 2011 NAEP Science assessmen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 2012, 54% of high school graduates did not meet the college readiness benchmark levels in mathematics, and 69% of graduates failed to meet the readiness benchmark levels in scienc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Essential preparation for all careers in the modern workforc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hen we think science education, we tend to think preparation for careers in science, technology, engineering and mathematics, which are wellsprings of innovation in our economy. Why then is ensuring scientific and technological literacy for all students of equal concern? Over the past decades, demands have shifted in favor of skilled jobs requiring more education than the unskilled jobs they replaced. Moreover, many of the fastest growing occupations are those where science and mathematics play a central rol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National Association of State Directors of Career Technical Education Consortium, grouped all occupations into 16 career clusters</a:t>
            </a:r>
            <a:r>
              <a:rPr b="0" lang="en-US" sz="700" spc="-1" strike="noStrike" u="sng">
                <a:solidFill>
                  <a:srgbClr val="0000ff"/>
                </a:solidFill>
                <a:uFillTx/>
                <a:latin typeface="Calibri"/>
                <a:hlinkClick r:id="rId1"/>
              </a:rPr>
              <a:t>8</a:t>
            </a:r>
            <a:r>
              <a:rPr b="0" lang="en-US" sz="700" spc="-1" strike="noStrike">
                <a:solidFill>
                  <a:srgbClr val="000000"/>
                </a:solidFill>
                <a:latin typeface="Calibri"/>
              </a:rPr>
              <a:t>. Fourteen of the 16 career clusters call for four years of science, with the remaining two clusters calling for three years. All 16 called for four years of mathematics. The inescapable message: to keep their options open and maximize their opportunities, all students should follow a rigorous program in both science and mathematic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Scientific and technological literacy for an educated societ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eyond the concern of employability looms the larger question of what it takes to thrive in today’s society. Citizens now face problems from pandemics to energy shortages whose solutions require all the scientific and technological genius we can muster. Americans are being forced to increasingly make decisions—including on health care and retirement planning—where literacy in science and mathematics is a real advantage. Contrast these demands with the results of the 2003 National Assessment of Adult Literacy. Fewer than one in three college graduates can perform tasks such as interpreting a data table about blood pressure and physical activit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Internationally Benchmarked – Achieve studied 10 countries to benchmark the NGSS comparatively.</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trongest emphasis on Physical Sciences</a:t>
            </a:r>
            <a:endParaRPr b="0" lang="en-US" sz="7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84F1-8CEF-4B94-811E-064C9811A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CA36-4687-4F22-8BF7-551249039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52F1-13C9-418D-AD74-DF1330C885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9AFD-08CE-44D6-99EE-519C54860F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679B-B791-4F5A-B794-E2CA2CF42C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A546-0372-4CEF-A810-5420C237B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65B1-90DC-423E-82F4-91C10F619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8495-C6DC-499E-BED4-2822DDEC51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D5ED-EE9C-49F4-B444-BA6328231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FFE6-0F4E-46AF-B0CE-4D91F145B4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at 9:00</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AD89-7E40-4116-B656-38062B684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675D-7C00-4875-8EB6-D44982DDE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BACC-B74B-493E-9767-AA1622607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8CBC-8C25-4554-93B9-157F27518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 Patterns. Observed patterns of forms and events guide organization and classification,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prompt questions about relationships and the factors that influence the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 Cause and effect: Mechanism and explanation. Events have causes, sometimes simp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metimes multifaceted. A major activity of science is investigating and explaining causal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ationships and the mechanisms by which they are mediated. Such mechanisms can then b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ested across given contexts and used to predict and explain events in new contex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3. Scale, proportion, and quantity. In considering phenomena, it is critical to recognize what i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evant at different measures of size, time, and energy and to recognize how changes in sca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roportion, or quantity affect a system</a:t>
            </a:r>
            <a:r>
              <a:rPr b="0" lang="ja-JP" sz="600" spc="-1" strike="noStrike">
                <a:solidFill>
                  <a:srgbClr val="000000"/>
                </a:solidFill>
                <a:latin typeface="Calibri"/>
              </a:rPr>
              <a:t>’</a:t>
            </a:r>
            <a:r>
              <a:rPr b="0" lang="en-US" sz="600" spc="-1" strike="noStrike">
                <a:solidFill>
                  <a:srgbClr val="000000"/>
                </a:solidFill>
                <a:latin typeface="Calibri"/>
              </a:rPr>
              <a:t>s structure or performanc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4. Systems and system models. Defining the system under study—specifying its boundaries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aking explicit a model of that system—provides tools for understanding and testing ideas th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re applicable throughout science and engineer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 Energy and matter: Flows, cycles, and conservation. Tracking fluxes of energy and matter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to, out of, and within systems helps one understand the systems</a:t>
            </a:r>
            <a:r>
              <a:rPr b="0" lang="ja-JP" sz="600" spc="-1" strike="noStrike">
                <a:solidFill>
                  <a:srgbClr val="000000"/>
                </a:solidFill>
                <a:latin typeface="Calibri"/>
              </a:rPr>
              <a:t>’</a:t>
            </a:r>
            <a:r>
              <a:rPr b="0" lang="en-US" sz="600" spc="-1" strike="noStrike">
                <a:solidFill>
                  <a:srgbClr val="000000"/>
                </a:solidFill>
                <a:latin typeface="Calibri"/>
              </a:rPr>
              <a:t> possibilities and limita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6. Structure and function. The way in which an object or living thing is shaped and it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ubstructure determine many of its properties and func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7. Stability and change. For natural and built systems alike, conditions of stability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eterminants of rates of change or evolution of a system are critical elements of study.</a:t>
            </a:r>
            <a:endParaRPr b="0" lang="en-US" sz="6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E6A9-50F1-4430-8FB2-0C7B91FF1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 Patterns. Observed patterns of forms and events guide organization and classification,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prompt questions about relationships and the factors that influence the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 Cause and effect: Mechanism and explanation. Events have causes, sometimes simp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metimes multifaceted. A major activity of science is investigating and explaining causal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ationships and the mechanisms by which they are mediated. Such mechanisms can then b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ested across given contexts and used to predict and explain events in new contex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3. Scale, proportion, and quantity. In considering phenomena, it is critical to recognize what i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evant at different measures of size, time, and energy and to recognize how changes in sca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roportion, or quantity affect a system</a:t>
            </a:r>
            <a:r>
              <a:rPr b="0" lang="ja-JP" sz="600" spc="-1" strike="noStrike">
                <a:solidFill>
                  <a:srgbClr val="000000"/>
                </a:solidFill>
                <a:latin typeface="Calibri"/>
              </a:rPr>
              <a:t>’</a:t>
            </a:r>
            <a:r>
              <a:rPr b="0" lang="en-US" sz="600" spc="-1" strike="noStrike">
                <a:solidFill>
                  <a:srgbClr val="000000"/>
                </a:solidFill>
                <a:latin typeface="Calibri"/>
              </a:rPr>
              <a:t>s structure or performanc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4. Systems and system models. Defining the system under study—specifying its boundaries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aking explicit a model of that system—provides tools for understanding and testing ideas th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re applicable throughout science and engineer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 Energy and matter: Flows, cycles, and conservation. Tracking fluxes of energy and matter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to, out of, and within systems helps one understand the systems</a:t>
            </a:r>
            <a:r>
              <a:rPr b="0" lang="ja-JP" sz="600" spc="-1" strike="noStrike">
                <a:solidFill>
                  <a:srgbClr val="000000"/>
                </a:solidFill>
                <a:latin typeface="Calibri"/>
              </a:rPr>
              <a:t>’</a:t>
            </a:r>
            <a:r>
              <a:rPr b="0" lang="en-US" sz="600" spc="-1" strike="noStrike">
                <a:solidFill>
                  <a:srgbClr val="000000"/>
                </a:solidFill>
                <a:latin typeface="Calibri"/>
              </a:rPr>
              <a:t> possibilities and limita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6. Structure and function. The way in which an object or living thing is shaped and it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ubstructure determine many of its properties and func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7. Stability and change. For natural and built systems alike, conditions of stability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eterminants of rates of change or evolution of a system are critical elements of study.</a:t>
            </a:r>
            <a:endParaRPr b="0" lang="en-US" sz="6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5EB3-6CF3-4AFC-B7A6-056A2F1A5A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04CE-D67B-45B7-BE4C-2A8540143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5C1A-8B41-4BCF-8A73-4E4A8863D2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1AB8-2192-4CF9-B199-AB7B64B15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58A7-B96D-4520-A3CB-C36A88214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1533-C7F9-46CF-B7AE-28CC3CB1A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37D8F-D9E2-40F8-BCF5-A1B16217B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21CD1-0D44-4F02-940F-77B04DBDA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42D38-83D2-43E1-B9EF-3D7B9587D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AFF24-F3FD-49AF-AF49-7FA96440C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4DE37-A7C4-4733-A479-DA5A6245C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4005D-1216-4B76-94B5-40A77F193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1B587-F38E-4BAB-83CF-BFB28A17D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AFBA4-EAAC-470F-AEF0-6F47194EE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79514-6C68-4688-9427-BE9BB009D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DB24A-4DAD-44E1-ADD5-73F600CB9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AA88A-14E5-43B0-AF0A-8D592C9AD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BD2F5-2908-4324-8557-45861306A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A1A21-A89C-43A6-A735-136A72949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F8461-D660-4285-8E95-FBB009032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07E02-D774-4ED1-89DB-D885298B2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413165-C38D-4DC3-973D-03498E00B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ED49E-AEC8-4985-8F27-4D8F18C67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2EF1C45-69F8-4ABF-AA53-EF00FDC12F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679DDA8-5D90-46F6-8749-4EDC0A1634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720E47F-727D-402E-88EF-B856264DEE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3A1EFCD-B8C0-418A-AF39-1F42EC1AAA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C2372BC-14A6-4098-8FDD-C141B42562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6FB1C-C120-44C7-95B1-B27381917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DC85C9A-93B3-457D-B676-A043789AA8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5F8BB2-8974-485C-9D20-6D3F43842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6131580-E9A3-49DD-A1FD-F61690523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CB7FA4C-9816-44DA-83B3-ED1BB903B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8F7BCA-5ED8-4508-A6DA-C9B7E0C13C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C29D671-1DD1-4E01-928C-145287CD26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FB1EDC4-84A5-4AC0-BB37-C1C9EA216D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14A0A90-728D-4DA0-BE3E-A44208921E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D0F2A7F-122A-4670-9B64-41D1806379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4A64F8F-353F-4B00-B680-EF5D900C0D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D04E5-FD8A-4B42-85DA-CF52B459F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38B4C5B-5E7A-4820-8540-0602D9CA89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B1471C4-890B-468F-9E41-BA7D4DFC4D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4DBCBDF-AC9F-412B-93FC-260E3801A1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14B44A-CDB5-418B-A45E-713CED9C2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A00404-AA78-4280-9607-83D9C4BA4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9B2B3A-C5BE-4416-BD20-425642AD3A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4ACDCC0-5FAF-4E27-B104-6A1B4C3661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1A33A6B-4831-4F16-96DA-8B4805CA11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8A37AD7-F27C-48C4-8840-D6BCCF47FE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E2D4E7F-D640-44A5-BC69-3D3E183D8A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C5A7A-5DE9-4DA5-8BF5-1D53317D3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FA83A0D-EBD3-4643-B1F9-A0CAB66AEC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16FE17D-3492-49E2-A3D5-F300AE17A3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D72D224-819D-427A-9BA3-CF4835F228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77EA20E-A68A-4C26-9302-7BC476C056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D6F6A27-6AE3-4D8A-BDA5-824A706FE1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B2952BB-816B-4738-A4CF-C575EC16B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5EB1CC-6DAC-47DC-A40B-95FC097F2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30A6623-D99B-4F59-B410-75B3714F2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951C7C-D58E-4968-8E59-CF7167FD08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9515ABE-D8BC-4CA6-BBB7-C5118A51F2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8F9E6-A416-4FBA-A02C-EC49F8D34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261E2AF-FBDD-43E8-8AB1-2F73C39102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E0D358-9314-4A44-9044-A97E2D1B0F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C22580-146B-4442-9E0C-EF778B2B24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D1FF26-727B-49F6-B3CD-6A9B294196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35DB0D-29B4-4D0B-B6DA-316616B0BE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8ECA3D-73F8-452E-AF9F-66DAC084F2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B19A92-3E31-4010-9BF3-3446FFF328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C51955-ABB3-4EF6-962D-521883D44F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E01191-5E6B-4162-8742-87A60DB63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C5FC97-D8EF-4A14-B3BD-78D9132A5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9EACF-8FB1-4A73-8BE1-7E82C85A6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920FE0-9FB4-4915-9D9B-F4CD8534F6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46288C-9CEB-4EEF-9F8F-11EE09039A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D3A8D7-DB49-49E4-8E1D-2C460C1E5B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FF2608F-9B7D-4843-BE8F-ED97ED1F30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0A4C074-FE1E-45D6-AD6A-141C27CF31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353065D-B6EE-43C2-8279-02643141E2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5268547-753D-4731-976E-91787625AA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6D7CCE4-F5E9-4C1F-A65B-5D83229508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9F67B17-E7C8-4C9F-8C1C-8B44B251D2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8CAEEE1-578E-417E-9D3A-3B1EF8BD16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3ECE3-ABF5-4066-AB4C-B359332EC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1B2A779-1C28-4218-9728-ECCBD2A44D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DE936D7-254F-4894-A083-2D56EA03FA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479BB1F-76AB-409C-8673-21831963AF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E4BAA66-DD6A-4E94-9116-121D71AEE3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24B6B16-1A9B-4C19-9893-3E900CEC03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A86158-91C0-4445-80A2-CE2B0FD4A3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65D967-2C71-409D-9754-6DB9D4C190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7B79AE-35FC-4E47-9C7D-36ACA0706C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EFC8C2-3B3E-4E76-84CB-3EA5A30DE2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94D3EE-A6D9-4C26-9896-F354D2D87D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E11E6-AD68-4040-A4B7-6E29FA78B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FD4553-F768-4D59-BAB3-A3174641C9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F437FA-95CE-493B-8DC3-1441A14398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B0A065-1C00-43FD-BAC6-A8865BE45A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EC2D3F-A95B-4952-BACA-94E5539823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BD4B5C-2FB6-4A4D-83FC-B8B854A694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59A5DA-744A-4139-BDB7-5F8E3D7049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6471CC-C7DA-4F3D-AB82-11CB6112A8E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0822-C83F-4337-B399-5E7E3E56DB18}"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2CBB-E6F2-4CF4-8B4F-14E6F3ABC20E}"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1F0E-42A3-47F2-8C93-048A0A8AB63F}" type="datetime">
              <a:rPr b="0" lang="en-US" sz="2000" spc="-1" strike="noStrike">
                <a:solidFill>
                  <a:srgbClr val="ffffff"/>
                </a:solidFill>
                <a:latin typeface="Times New Roman"/>
                <a:ea typeface="Arial"/>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D1FF-2200-4E79-A08C-B28072A3A85F}" type="slidenum">
              <a:rPr b="1" lang="en-US" sz="1400" spc="-1" strike="noStrike">
                <a:solidFill>
                  <a:srgbClr val="ebddc3"/>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51A02-07FD-44CF-BB57-E6480A17B1EB}"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0EF6-7B7B-42CD-9BD0-26D546EA13DD}" type="slidenum">
              <a:rPr b="1" lang="en-US"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CBC0-7DB8-4703-9650-ED1C95C78137}"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E8E9-EF77-40F1-8FDB-E29D66F90B15}"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21B3-4A25-4C03-964E-301031373E3F}"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065A-9693-47E7-9EDF-67629D687B5F}"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4EBC-D8C3-437A-8D6C-9BC431DE2887}"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6BBB-E733-4AF2-8273-D8C6A1357A0B}" type="slidenum">
              <a:rPr b="1" lang="en-US" sz="1400" spc="-1" strike="noStrike">
                <a:solidFill>
                  <a:srgbClr val="775f55"/>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34C0-5E64-4AAD-8909-3CEFE2289910}"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A2F0-AB6B-4A48-AF77-E7B86FCA45B9}" type="slidenum">
              <a:rPr b="1" lang="en-US" sz="2800" spc="-1" strike="noStrike">
                <a:solidFill>
                  <a:srgbClr val="ffffff"/>
                </a:solidFill>
                <a:latin typeface="Times New Roman"/>
                <a:ea typeface="Arial"/>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4559-9113-4683-ACE0-0D3D21D87C86}"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122C-3DAC-45A4-B466-56D7AA90128F}"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vimeo.com/41706647"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ted.com/talks/alison_gopnik_what_do_babies_think.html"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2"/>
          <p:cNvSpPr/>
          <p:nvPr/>
        </p:nvSpPr>
        <p:spPr>
          <a:xfrm>
            <a:off x="901800" y="2709720"/>
            <a:ext cx="7619760" cy="70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Subtitle 3"/>
          <p:cNvSpPr/>
          <p:nvPr/>
        </p:nvSpPr>
        <p:spPr>
          <a:xfrm>
            <a:off x="2362320" y="5791320"/>
            <a:ext cx="678168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kellymoore@tntech.edu</a:t>
            </a:r>
            <a:endParaRPr b="0" lang="en-US" sz="2800" spc="-1" strike="noStrike">
              <a:solidFill>
                <a:srgbClr val="000000"/>
              </a:solidFill>
              <a:latin typeface="Arial"/>
            </a:endParaRPr>
          </a:p>
        </p:txBody>
      </p:sp>
      <p:sp>
        <p:nvSpPr>
          <p:cNvPr id="359" name="TextBox 5"/>
          <p:cNvSpPr/>
          <p:nvPr/>
        </p:nvSpPr>
        <p:spPr>
          <a:xfrm>
            <a:off x="-214200" y="6167520"/>
            <a:ext cx="266688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July 11, 2017</a:t>
            </a:r>
            <a:endParaRPr b="0" lang="en-US" sz="2100" spc="-1" strike="noStrike">
              <a:solidFill>
                <a:srgbClr val="000000"/>
              </a:solidFill>
              <a:latin typeface="Arial"/>
            </a:endParaRPr>
          </a:p>
        </p:txBody>
      </p:sp>
      <p:sp>
        <p:nvSpPr>
          <p:cNvPr id="360" name="TextBox 6"/>
          <p:cNvSpPr/>
          <p:nvPr/>
        </p:nvSpPr>
        <p:spPr>
          <a:xfrm>
            <a:off x="914400" y="1676520"/>
            <a:ext cx="73915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the NEW TN Science Standar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tch each term with the definition</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Put these aside for now; we will revisit them!</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hy?</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fontScale="80000"/>
          </a:bodyPr>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f7b615"/>
                </a:solidFill>
                <a:uFillTx/>
                <a:latin typeface="Tw Cen MT"/>
                <a:hlinkClick r:id="rId1"/>
              </a:rPr>
              <a:t>Why New Standards?  Why now?</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ce is central to the lives of ALL Americans</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urrent documents are excellent, but they are 15 years old.</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duction of US competitive economic edge</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gging achievement of US students</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ssential preparation for all careers in the modern workplace</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tific and technological literacy for an educated society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evelopment of the New TN Science Standards</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veloped by a committee of educators</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gan with the </a:t>
            </a:r>
            <a:r>
              <a:rPr b="0" i="1" lang="en-US" sz="2900" spc="-1" strike="noStrike">
                <a:solidFill>
                  <a:srgbClr val="000000"/>
                </a:solidFill>
                <a:latin typeface="Tw Cen MT"/>
              </a:rPr>
              <a:t>Framework for K-12 Science Education</a:t>
            </a:r>
            <a:endParaRPr b="0" lang="en-US" sz="29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vailable for free download or in print</a:t>
            </a:r>
            <a:endParaRPr b="0" lang="en-US" sz="26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mittee of 18 distinguished professionals in science and science education</a:t>
            </a:r>
            <a:endParaRPr b="0" lang="en-US" sz="26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cludes the most current research in science, science education, and what science K-12 students should know</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83000"/>
          </a:bodyPr>
          <a:p>
            <a:pPr marL="264600" indent="-2646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d K-12 Framework here:</a:t>
            </a:r>
            <a:endParaRPr b="0" lang="en-US" sz="29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https://www.nap.edu/read/13165/chapter/1</a:t>
            </a:r>
            <a:endParaRPr b="0" lang="en-US" sz="2600" spc="-1" strike="noStrike">
              <a:solidFill>
                <a:srgbClr val="000000"/>
              </a:solidFill>
              <a:latin typeface="Tw Cen MT"/>
            </a:endParaRPr>
          </a:p>
          <a:p>
            <a:pPr marL="264600" indent="-2646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avenger Hunt</a:t>
            </a:r>
            <a:endParaRPr b="0" lang="en-US" sz="29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is the </a:t>
            </a:r>
            <a:r>
              <a:rPr b="0" i="1" lang="en-US" sz="2600" spc="-1" strike="noStrike">
                <a:solidFill>
                  <a:srgbClr val="000000"/>
                </a:solidFill>
                <a:latin typeface="Tw Cen MT"/>
              </a:rPr>
              <a:t>Framework for K-12 Science Education</a:t>
            </a:r>
            <a:r>
              <a:rPr b="0" lang="en-US" sz="2600" spc="-1" strike="noStrike">
                <a:solidFill>
                  <a:srgbClr val="000000"/>
                </a:solidFill>
                <a:latin typeface="Tw Cen MT"/>
              </a:rPr>
              <a:t>?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Framework has 2 major goals: What are they? (page 12)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components of the K-12 Science Education System need to be aligned with the Framework’s vision?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guiding principles of the Framework? (pages 24 – 28)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81000"/>
          </a:bodyPr>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Three Dimensions of the Framework? (pages 29 – 30)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lthough all 8 Practices are for both Science and Engineering – identify the 2 Practices that are dissected into Science and Engineering as to show the differences.(page 42)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en you reflect on the Practices, what engages ALL scientists? (page 78)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goals of the Cross Cutting Concepts? (page 83).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dentify the 7 Cross Cutting Concepts. (page 84)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fontScale="80000"/>
          </a:bodyPr>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ow will student’s understanding of the Crosscutting Concepts be reinforced? (page 101)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isciplinary Core Ideas (DCI) for Physical Science (PS)? (page 105)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Physical Science?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Life Sciences (LS)? (page 142)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Life Sciences?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Earth and Space Sciences (ESS)? (page 171)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91" name=""/>
          <p:cNvSpPr txBox="1"/>
          <p:nvPr/>
        </p:nvSpPr>
        <p:spPr>
          <a:xfrm>
            <a:off x="612720" y="1600200"/>
            <a:ext cx="8153280" cy="4495680"/>
          </a:xfrm>
          <a:prstGeom prst="rect">
            <a:avLst/>
          </a:prstGeom>
          <a:noFill/>
          <a:ln w="0">
            <a:noFill/>
          </a:ln>
        </p:spPr>
        <p:txBody>
          <a:bodyPr anchor="t">
            <a:normAutofit fontScale="92000"/>
          </a:bodyPr>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Earth and Space Sciences?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Technology, Engineering and Application of Science? (page 203)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Technology, Engineering, and application of Science?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set of values of scientific inquiry? (page 248)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re is going to be a big impact on how science instruction, professional development and assessment will be conducted: list the big ideas from pages 253, 255, 257, 259, 260 – 264.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quity for Science and Engineering is critical. Give 2 points that support this idea of equity.(page 277)</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inking must be different!</a:t>
            </a:r>
            <a:endParaRPr b="0" lang="en-US" sz="4400" spc="-1" strike="noStrike">
              <a:solidFill>
                <a:srgbClr val="775f55"/>
              </a:solidFill>
              <a:latin typeface="Tw Cen MT"/>
            </a:endParaRPr>
          </a:p>
        </p:txBody>
      </p:sp>
      <p:pic>
        <p:nvPicPr>
          <p:cNvPr id="395" name="Content Placeholder 3" descr="Screen Shot 2013-07-16 at 11.34.57 AM.png"/>
          <p:cNvPicPr/>
          <p:nvPr/>
        </p:nvPicPr>
        <p:blipFill>
          <a:blip r:embed="rId1"/>
          <a:srcRect l="-9954" t="0" r="-9954" b="0"/>
          <a:stretch/>
        </p:blipFill>
        <p:spPr>
          <a:xfrm>
            <a:off x="612720" y="16002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5228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b3d17"/>
                </a:solidFill>
                <a:latin typeface="Constantia"/>
              </a:rPr>
              <a:t>“</a:t>
            </a:r>
            <a:r>
              <a:rPr b="1" i="1" lang="en-US" sz="3200" spc="-1" strike="noStrike">
                <a:solidFill>
                  <a:srgbClr val="7b3d17"/>
                </a:solidFill>
                <a:latin typeface="Constantia"/>
              </a:rPr>
              <a:t>Children are born investigators who strive to make sense of and influence their world</a:t>
            </a:r>
            <a:r>
              <a:rPr b="1" lang="en-US" sz="3200" spc="-1" strike="noStrike">
                <a:solidFill>
                  <a:srgbClr val="7b3d17"/>
                </a:solidFill>
                <a:latin typeface="Constantia"/>
              </a:rPr>
              <a:t>.</a:t>
            </a:r>
            <a:r>
              <a:rPr b="1" lang="ja-JP" sz="3200" spc="-1" strike="noStrike">
                <a:solidFill>
                  <a:srgbClr val="7b3d17"/>
                </a:solidFill>
                <a:latin typeface="Constantia"/>
              </a:rPr>
              <a:t>”</a:t>
            </a:r>
            <a:endParaRPr b="0" lang="en-US" sz="3200" spc="-1" strike="noStrike">
              <a:solidFill>
                <a:srgbClr val="775f55"/>
              </a:solidFill>
              <a:latin typeface="Tw Cen MT"/>
            </a:endParaRPr>
          </a:p>
        </p:txBody>
      </p:sp>
      <p:pic>
        <p:nvPicPr>
          <p:cNvPr id="397" name="Picture 2" descr="">
            <a:hlinkClick r:id="rId1"/>
          </p:cNvPr>
          <p:cNvPicPr/>
          <p:nvPr/>
        </p:nvPicPr>
        <p:blipFill>
          <a:blip r:embed="rId2"/>
          <a:srcRect l="15813" t="13543" r="27965" b="9375"/>
          <a:stretch/>
        </p:blipFill>
        <p:spPr>
          <a:xfrm>
            <a:off x="1461960" y="1806480"/>
            <a:ext cx="6158160" cy="4746600"/>
          </a:xfrm>
          <a:prstGeom prst="rect">
            <a:avLst/>
          </a:prstGeom>
          <a:ln w="9360">
            <a:solidFill>
              <a:srgbClr val="b95b22"/>
            </a:solidFill>
            <a:miter/>
          </a:ln>
          <a:effectLst>
            <a:outerShdw dist="317520" dir="5400000" blurRad="0" rotWithShape="0">
              <a:srgbClr val="000000">
                <a:alpha val="1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day’s Schedule: Morning Session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9:00 – 10:20:  Session 1</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troduction to New Standards, k-12 Framewor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pare to Current Standards, Introduce Analysis Char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0:20 – 11:40:  Session 2</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Scientific Method</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Science Fair Introduction</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632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cc3300"/>
                </a:solidFill>
                <a:latin typeface="Constantia"/>
              </a:rPr>
              <a:t> </a:t>
            </a:r>
            <a:br>
              <a:rPr sz="3200"/>
            </a:br>
            <a:r>
              <a:rPr b="1" lang="en-US" sz="3200" spc="-1" strike="noStrike">
                <a:solidFill>
                  <a:srgbClr val="7b3d17"/>
                </a:solidFill>
                <a:latin typeface="Constantia"/>
              </a:rPr>
              <a:t> </a:t>
            </a:r>
            <a:r>
              <a:rPr b="1" lang="en-US" sz="2800" spc="-1" strike="noStrike">
                <a:solidFill>
                  <a:srgbClr val="7b3d17"/>
                </a:solidFill>
                <a:latin typeface="Constantia"/>
              </a:rPr>
              <a:t>Framework: Guiding Principles </a:t>
            </a:r>
            <a:br>
              <a:rPr sz="2900"/>
            </a:br>
            <a:br>
              <a:rPr sz="2600"/>
            </a:br>
            <a:endParaRPr b="0" lang="en-US" sz="2800" spc="-1" strike="noStrike">
              <a:solidFill>
                <a:srgbClr val="775f55"/>
              </a:solidFill>
              <a:latin typeface="Tw Cen MT"/>
            </a:endParaRPr>
          </a:p>
        </p:txBody>
      </p:sp>
      <p:sp>
        <p:nvSpPr>
          <p:cNvPr id="399" name=""/>
          <p:cNvSpPr txBox="1"/>
          <p:nvPr/>
        </p:nvSpPr>
        <p:spPr>
          <a:xfrm>
            <a:off x="0" y="1447560"/>
            <a:ext cx="9144000" cy="5181480"/>
          </a:xfrm>
          <a:prstGeom prst="rect">
            <a:avLst/>
          </a:prstGeom>
          <a:noFill/>
          <a:ln w="0">
            <a:noFill/>
          </a:ln>
        </p:spPr>
        <p:txBody>
          <a:bodyPr anchor="t">
            <a:normAutofit fontScale="88000"/>
          </a:bodyPr>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Children are born investigator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Over multiple years students have learning experiences that explore fundamental questions about the world and engage in </a:t>
            </a:r>
            <a:r>
              <a:rPr b="0" lang="en-US" sz="2700" spc="-1" strike="noStrike" u="sng">
                <a:solidFill>
                  <a:srgbClr val="000000"/>
                </a:solidFill>
                <a:uFillTx/>
                <a:latin typeface="Constantia"/>
              </a:rPr>
              <a:t>science  investigations </a:t>
            </a:r>
            <a:r>
              <a:rPr b="0" lang="en-US" sz="2700" spc="-1" strike="noStrike">
                <a:solidFill>
                  <a:srgbClr val="000000"/>
                </a:solidFill>
                <a:latin typeface="Constantia"/>
              </a:rPr>
              <a:t>and</a:t>
            </a:r>
            <a:r>
              <a:rPr b="0" lang="en-US" sz="2700" spc="-1" strike="noStrike">
                <a:solidFill>
                  <a:srgbClr val="ff0000"/>
                </a:solidFill>
                <a:latin typeface="Constantia"/>
              </a:rPr>
              <a:t> </a:t>
            </a:r>
            <a:r>
              <a:rPr b="0" lang="en-US" sz="2700" spc="-1" strike="noStrike" u="sng">
                <a:solidFill>
                  <a:srgbClr val="000000"/>
                </a:solidFill>
                <a:uFillTx/>
                <a:latin typeface="Constantia"/>
              </a:rPr>
              <a:t>engineering design </a:t>
            </a:r>
            <a:r>
              <a:rPr b="0" lang="en-US" sz="2700" spc="-1" strike="noStrike">
                <a:solidFill>
                  <a:srgbClr val="000000"/>
                </a:solidFill>
                <a:latin typeface="Constantia"/>
              </a:rPr>
              <a:t>project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cience and Engineering incorporate both </a:t>
            </a:r>
            <a:r>
              <a:rPr b="0" lang="en-US" sz="2700" spc="-1" strike="noStrike" u="sng">
                <a:solidFill>
                  <a:srgbClr val="000000"/>
                </a:solidFill>
                <a:uFillTx/>
                <a:latin typeface="Constantia"/>
              </a:rPr>
              <a:t>knowledge</a:t>
            </a:r>
            <a:r>
              <a:rPr b="0" lang="en-US" sz="2700" spc="-1" strike="noStrike">
                <a:solidFill>
                  <a:srgbClr val="000000"/>
                </a:solidFill>
                <a:latin typeface="Constantia"/>
              </a:rPr>
              <a:t> and </a:t>
            </a:r>
            <a:r>
              <a:rPr b="0" lang="en-US" sz="2700" spc="-1" strike="noStrike" u="sng">
                <a:solidFill>
                  <a:srgbClr val="000000"/>
                </a:solidFill>
                <a:uFillTx/>
                <a:latin typeface="Constantia"/>
              </a:rPr>
              <a:t>practices</a:t>
            </a:r>
            <a:r>
              <a:rPr b="0" lang="en-US" sz="2700" spc="-1" strike="noStrike">
                <a:solidFill>
                  <a:srgbClr val="000000"/>
                </a:solidFill>
                <a:latin typeface="Constantia"/>
              </a:rPr>
              <a:t>.</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tudents apply </a:t>
            </a:r>
            <a:r>
              <a:rPr b="0" lang="en-US" sz="2700" spc="-1" strike="noStrike" u="sng">
                <a:solidFill>
                  <a:srgbClr val="000000"/>
                </a:solidFill>
                <a:uFillTx/>
                <a:latin typeface="Constantia"/>
              </a:rPr>
              <a:t>Crosscutting Concepts </a:t>
            </a:r>
            <a:r>
              <a:rPr b="0" lang="en-US" sz="2700" spc="-1" strike="noStrike">
                <a:solidFill>
                  <a:srgbClr val="000000"/>
                </a:solidFill>
                <a:latin typeface="Constantia"/>
              </a:rPr>
              <a:t>to deepen their understanding of </a:t>
            </a:r>
            <a:r>
              <a:rPr b="0" lang="en-US" sz="2700" spc="-1" strike="noStrike" u="sng">
                <a:solidFill>
                  <a:srgbClr val="000000"/>
                </a:solidFill>
                <a:uFillTx/>
                <a:latin typeface="Constantia"/>
              </a:rPr>
              <a:t>Disciplinary Core Ideas</a:t>
            </a:r>
            <a:r>
              <a:rPr b="0" lang="en-US" sz="2700" spc="-1" strike="noStrike">
                <a:solidFill>
                  <a:srgbClr val="c00000"/>
                </a:solidFill>
                <a:latin typeface="Constantia"/>
              </a:rPr>
              <a:t>.</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ALL students should be critical consumers of scientific information and enjoy a current understanding of the natural and human-made world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280440" indent="-28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99">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99">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99">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99">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paring the K-12 Framework and CCSS</a:t>
            </a:r>
            <a:endParaRPr b="0" lang="en-US" sz="4400" spc="-1" strike="noStrike">
              <a:solidFill>
                <a:srgbClr val="775f55"/>
              </a:solidFill>
              <a:latin typeface="Tw Cen MT"/>
            </a:endParaRPr>
          </a:p>
        </p:txBody>
      </p:sp>
      <p:pic>
        <p:nvPicPr>
          <p:cNvPr id="401" name="Picture 1" descr="Screen Shot 2017-07-10 at 10.06.53 PM.png"/>
          <p:cNvPicPr/>
          <p:nvPr/>
        </p:nvPicPr>
        <p:blipFill>
          <a:blip r:embed="rId1"/>
          <a:stretch/>
        </p:blipFill>
        <p:spPr>
          <a:xfrm>
            <a:off x="1143000" y="1600200"/>
            <a:ext cx="7010280" cy="518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ree Dimensions</a:t>
            </a:r>
            <a:endParaRPr b="0" lang="en-US" sz="4400" spc="-1" strike="noStrike">
              <a:solidFill>
                <a:srgbClr val="775f55"/>
              </a:solidFill>
              <a:latin typeface="Tw Cen MT"/>
            </a:endParaRPr>
          </a:p>
        </p:txBody>
      </p:sp>
      <p:pic>
        <p:nvPicPr>
          <p:cNvPr id="403" name="Content Placeholder 3" descr="Screen Shot 2013-07-16 at 11.39.20 AM.png"/>
          <p:cNvPicPr/>
          <p:nvPr/>
        </p:nvPicPr>
        <p:blipFill>
          <a:blip r:embed="rId1"/>
          <a:srcRect l="-3485" t="0" r="-3485" b="0"/>
          <a:stretch/>
        </p:blipFill>
        <p:spPr>
          <a:xfrm>
            <a:off x="612720" y="16002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
          <p:cNvPicPr/>
          <p:nvPr/>
        </p:nvPicPr>
        <p:blipFill>
          <a:blip r:embed="rId1"/>
          <a:srcRect l="23084" t="16988" r="40344" b="44621"/>
          <a:stretch/>
        </p:blipFill>
        <p:spPr>
          <a:xfrm>
            <a:off x="2674800" y="2286000"/>
            <a:ext cx="6197760" cy="3657600"/>
          </a:xfrm>
          <a:prstGeom prst="rect">
            <a:avLst/>
          </a:prstGeom>
          <a:ln w="9360">
            <a:solidFill>
              <a:srgbClr val="20190b"/>
            </a:solidFill>
            <a:miter/>
          </a:ln>
        </p:spPr>
      </p:pic>
      <p:pic>
        <p:nvPicPr>
          <p:cNvPr id="405" name="Picture 5" descr=""/>
          <p:cNvPicPr/>
          <p:nvPr/>
        </p:nvPicPr>
        <p:blipFill>
          <a:blip r:embed="rId2"/>
          <a:stretch/>
        </p:blipFill>
        <p:spPr>
          <a:xfrm>
            <a:off x="152280" y="3014640"/>
            <a:ext cx="2286000" cy="2316240"/>
          </a:xfrm>
          <a:prstGeom prst="rect">
            <a:avLst/>
          </a:prstGeom>
          <a:ln w="0">
            <a:noFill/>
          </a:ln>
        </p:spPr>
      </p:pic>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On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5" descr=""/>
          <p:cNvPicPr/>
          <p:nvPr/>
        </p:nvPicPr>
        <p:blipFill>
          <a:blip r:embed="rId1"/>
          <a:stretch/>
        </p:blipFill>
        <p:spPr>
          <a:xfrm>
            <a:off x="152280" y="3014640"/>
            <a:ext cx="2286000" cy="2316240"/>
          </a:xfrm>
          <a:prstGeom prst="rect">
            <a:avLst/>
          </a:prstGeom>
          <a:ln w="0">
            <a:noFill/>
          </a:ln>
        </p:spPr>
      </p:pic>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Two</a:t>
            </a:r>
            <a:endParaRPr b="0" lang="en-US" sz="4400" spc="-1" strike="noStrike">
              <a:solidFill>
                <a:srgbClr val="775f55"/>
              </a:solidFill>
              <a:latin typeface="Tw Cen MT"/>
            </a:endParaRPr>
          </a:p>
        </p:txBody>
      </p:sp>
      <p:sp>
        <p:nvSpPr>
          <p:cNvPr id="409" name=""/>
          <p:cNvSpPr txBox="1"/>
          <p:nvPr/>
        </p:nvSpPr>
        <p:spPr>
          <a:xfrm>
            <a:off x="2666880" y="1981080"/>
            <a:ext cx="6477120" cy="411480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Crosscutting Concepts</a:t>
            </a:r>
            <a:endParaRPr b="0" lang="en-US" sz="29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atterns</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ause and Effect</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cale, Proportion, and Quantity</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ystems and System Models</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nergy and Matter</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ructure and Function</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ability and Chang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5" descr=""/>
          <p:cNvPicPr/>
          <p:nvPr/>
        </p:nvPicPr>
        <p:blipFill>
          <a:blip r:embed="rId1"/>
          <a:stretch/>
        </p:blipFill>
        <p:spPr>
          <a:xfrm>
            <a:off x="152280" y="3014640"/>
            <a:ext cx="2286000" cy="2316240"/>
          </a:xfrm>
          <a:prstGeom prst="rect">
            <a:avLst/>
          </a:prstGeom>
          <a:ln w="0">
            <a:noFill/>
          </a:ln>
        </p:spPr>
      </p:pic>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Three</a:t>
            </a:r>
            <a:endParaRPr b="0" lang="en-US" sz="4400" spc="-1" strike="noStrike">
              <a:solidFill>
                <a:srgbClr val="775f55"/>
              </a:solidFill>
              <a:latin typeface="Tw Cen MT"/>
            </a:endParaRPr>
          </a:p>
        </p:txBody>
      </p:sp>
      <p:pic>
        <p:nvPicPr>
          <p:cNvPr id="412" name="Picture 6" descr="Screen Shot 2013-07-16 at 1.22.55 PM.png"/>
          <p:cNvPicPr/>
          <p:nvPr/>
        </p:nvPicPr>
        <p:blipFill>
          <a:blip r:embed="rId2"/>
          <a:stretch/>
        </p:blipFill>
        <p:spPr>
          <a:xfrm>
            <a:off x="2819520" y="1517760"/>
            <a:ext cx="5867280" cy="534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105840"/>
            <a:ext cx="9144000" cy="8082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3d17"/>
                </a:solidFill>
                <a:latin typeface="Constantia"/>
              </a:rPr>
              <a:t>Integrating the Three Dimensions:</a:t>
            </a:r>
            <a:br>
              <a:rPr sz="3400"/>
            </a:br>
            <a:r>
              <a:rPr b="1" lang="en-US" sz="3400" spc="-1" strike="noStrike">
                <a:solidFill>
                  <a:srgbClr val="7b3d17"/>
                </a:solidFill>
                <a:latin typeface="Constantia"/>
              </a:rPr>
              <a:t>Performance Expectations</a:t>
            </a:r>
            <a:endParaRPr b="0" lang="en-US" sz="3400" spc="-1" strike="noStrike">
              <a:solidFill>
                <a:srgbClr val="775f55"/>
              </a:solidFill>
              <a:latin typeface="Tw Cen MT"/>
            </a:endParaRPr>
          </a:p>
        </p:txBody>
      </p:sp>
      <p:grpSp>
        <p:nvGrpSpPr>
          <p:cNvPr id="414" name="Group 2"/>
          <p:cNvGrpSpPr/>
          <p:nvPr/>
        </p:nvGrpSpPr>
        <p:grpSpPr>
          <a:xfrm>
            <a:off x="3581280" y="1676520"/>
            <a:ext cx="5562720" cy="4800600"/>
            <a:chOff x="3581280" y="1676520"/>
            <a:chExt cx="5562720" cy="4800600"/>
          </a:xfrm>
        </p:grpSpPr>
        <p:pic>
          <p:nvPicPr>
            <p:cNvPr id="415" name="Picture 3" descr=""/>
            <p:cNvPicPr/>
            <p:nvPr/>
          </p:nvPicPr>
          <p:blipFill>
            <a:blip r:embed="rId1"/>
            <a:stretch/>
          </p:blipFill>
          <p:spPr>
            <a:xfrm rot="5400000">
              <a:off x="4202640" y="3060360"/>
              <a:ext cx="4178520" cy="2655000"/>
            </a:xfrm>
            <a:prstGeom prst="rect">
              <a:avLst/>
            </a:prstGeom>
            <a:ln w="0">
              <a:noFill/>
            </a:ln>
          </p:spPr>
        </p:pic>
        <p:sp>
          <p:nvSpPr>
            <p:cNvPr id="416" name="TextBox 4"/>
            <p:cNvSpPr/>
            <p:nvPr/>
          </p:nvSpPr>
          <p:spPr>
            <a:xfrm>
              <a:off x="7429680" y="2146320"/>
              <a:ext cx="171432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nstantia"/>
                  <a:ea typeface="MS PGothic"/>
                </a:rPr>
                <a:t>Disciplinary Core Ideas</a:t>
              </a:r>
              <a:endParaRPr b="0" lang="en-US" sz="2000" spc="-1" strike="noStrike">
                <a:solidFill>
                  <a:srgbClr val="000000"/>
                </a:solidFill>
                <a:latin typeface="Arial"/>
              </a:endParaRPr>
            </a:p>
          </p:txBody>
        </p:sp>
        <p:sp>
          <p:nvSpPr>
            <p:cNvPr id="417" name="TextBox 5"/>
            <p:cNvSpPr/>
            <p:nvPr/>
          </p:nvSpPr>
          <p:spPr>
            <a:xfrm>
              <a:off x="3581280" y="1879920"/>
              <a:ext cx="1775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nstantia"/>
                  <a:ea typeface="MS PGothic"/>
                </a:rPr>
                <a:t>Science &amp; Engineering Practices</a:t>
              </a:r>
              <a:endParaRPr b="0" lang="en-US" sz="2000" spc="-1" strike="noStrike">
                <a:solidFill>
                  <a:srgbClr val="000000"/>
                </a:solidFill>
                <a:latin typeface="Arial"/>
              </a:endParaRPr>
            </a:p>
          </p:txBody>
        </p:sp>
        <p:sp>
          <p:nvSpPr>
            <p:cNvPr id="418" name="TextBox 6"/>
            <p:cNvSpPr/>
            <p:nvPr/>
          </p:nvSpPr>
          <p:spPr>
            <a:xfrm>
              <a:off x="5270400" y="1676520"/>
              <a:ext cx="180036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onstantia"/>
                  <a:ea typeface="MS PGothic"/>
                </a:rPr>
                <a:t>Crosscutting Concepts</a:t>
              </a:r>
              <a:endParaRPr b="0" lang="en-US" sz="2000" spc="-1" strike="noStrike">
                <a:solidFill>
                  <a:srgbClr val="000000"/>
                </a:solidFill>
                <a:latin typeface="Arial"/>
              </a:endParaRPr>
            </a:p>
          </p:txBody>
        </p:sp>
      </p:grpSp>
      <p:sp>
        <p:nvSpPr>
          <p:cNvPr id="419" name="TextBox 13"/>
          <p:cNvSpPr/>
          <p:nvPr/>
        </p:nvSpPr>
        <p:spPr>
          <a:xfrm>
            <a:off x="228600" y="2139840"/>
            <a:ext cx="4267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nstantia"/>
              </a:rPr>
              <a:t>Practices</a:t>
            </a:r>
            <a:r>
              <a:rPr b="0" lang="en-US" sz="3200" spc="-1" strike="noStrike">
                <a:solidFill>
                  <a:srgbClr val="000000"/>
                </a:solidFill>
                <a:latin typeface="Constantia"/>
              </a:rPr>
              <a:t> are the processes of using </a:t>
            </a:r>
            <a:r>
              <a:rPr b="1" lang="en-US" sz="3200" spc="-1" strike="noStrike">
                <a:solidFill>
                  <a:srgbClr val="009900"/>
                </a:solidFill>
                <a:latin typeface="Constantia"/>
              </a:rPr>
              <a:t>Core Ideas </a:t>
            </a:r>
            <a:r>
              <a:rPr b="0" lang="en-US" sz="3200" spc="-1" strike="noStrike">
                <a:solidFill>
                  <a:srgbClr val="000000"/>
                </a:solidFill>
                <a:latin typeface="Constantia"/>
              </a:rPr>
              <a:t>to make sense of the natural and designed world, and </a:t>
            </a:r>
            <a:r>
              <a:rPr b="1" lang="en-US" sz="3200" spc="-1" strike="noStrike">
                <a:solidFill>
                  <a:srgbClr val="ff6600"/>
                </a:solidFill>
                <a:latin typeface="Constantia"/>
              </a:rPr>
              <a:t>Crosscutting Concepts</a:t>
            </a:r>
            <a:r>
              <a:rPr b="0" lang="en-US" sz="3200" spc="-1" strike="noStrike">
                <a:solidFill>
                  <a:srgbClr val="ff6600"/>
                </a:solidFill>
                <a:latin typeface="Constantia"/>
              </a:rPr>
              <a:t> </a:t>
            </a:r>
            <a:r>
              <a:rPr b="0" lang="en-US" sz="3200" spc="-1" strike="noStrike">
                <a:solidFill>
                  <a:srgbClr val="000000"/>
                </a:solidFill>
                <a:latin typeface="Constantia"/>
              </a:rPr>
              <a:t>hold the disciplines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pare to current standards…</a:t>
            </a:r>
            <a:endParaRPr b="0" lang="en-US" sz="4400" spc="-1" strike="noStrike">
              <a:solidFill>
                <a:srgbClr val="775f55"/>
              </a:solidFill>
              <a:latin typeface="Tw Cen MT"/>
            </a:endParaRPr>
          </a:p>
        </p:txBody>
      </p:sp>
      <p:sp>
        <p:nvSpPr>
          <p:cNvPr id="421"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GROUP WORK!</a:t>
            </a:r>
            <a:endParaRPr b="0" lang="en-US" sz="1800" spc="-1" strike="noStrike">
              <a:solidFill>
                <a:srgbClr val="000000"/>
              </a:solidFill>
              <a:latin typeface="Tw Cen MT"/>
            </a:endParaRPr>
          </a:p>
        </p:txBody>
      </p:sp>
      <p:sp>
        <p:nvSpPr>
          <p:cNvPr id="422" name=""/>
          <p:cNvSpPr txBox="1"/>
          <p:nvPr/>
        </p:nvSpPr>
        <p:spPr>
          <a:xfrm>
            <a:off x="2362320" y="1752120"/>
            <a:ext cx="6400800" cy="441972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ok through your standards</a:t>
            </a:r>
            <a:endParaRPr b="0" lang="en-US" sz="29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New</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Old</a:t>
            </a:r>
            <a:endParaRPr b="0" lang="en-US" sz="26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see that is the SAME?</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see that is DIFFERENT?</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ill be GOOD for your students?</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ill be a CHALLENG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12 Framework Planning Template</a:t>
            </a:r>
            <a:endParaRPr b="0" lang="en-US" sz="4400" spc="-1" strike="noStrike">
              <a:solidFill>
                <a:srgbClr val="775f55"/>
              </a:solidFill>
              <a:latin typeface="Tw Cen MT"/>
            </a:endParaRPr>
          </a:p>
        </p:txBody>
      </p:sp>
      <p:sp>
        <p:nvSpPr>
          <p:cNvPr id="424"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More Group Work!</a:t>
            </a:r>
            <a:endParaRPr b="0" lang="en-US" sz="1800" spc="-1" strike="noStrike">
              <a:solidFill>
                <a:srgbClr val="000000"/>
              </a:solidFill>
              <a:latin typeface="Tw Cen MT"/>
            </a:endParaRPr>
          </a:p>
        </p:txBody>
      </p:sp>
      <p:sp>
        <p:nvSpPr>
          <p:cNvPr id="425" name=""/>
          <p:cNvSpPr txBox="1"/>
          <p:nvPr/>
        </p:nvSpPr>
        <p:spPr>
          <a:xfrm>
            <a:off x="2362320" y="1752120"/>
            <a:ext cx="6400800" cy="44197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nk of an activity you do in your classroo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lete the template based on that activit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4" name=""/>
          <p:cNvSpPr txBox="1"/>
          <p:nvPr/>
        </p:nvSpPr>
        <p:spPr>
          <a:xfrm>
            <a:off x="304920" y="1523520"/>
            <a:ext cx="8610480" cy="449604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6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6" name=""/>
          <p:cNvSpPr txBox="1"/>
          <p:nvPr/>
        </p:nvSpPr>
        <p:spPr>
          <a:xfrm>
            <a:off x="304920" y="1523520"/>
            <a:ext cx="8610480" cy="449604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66">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66">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8" name=""/>
          <p:cNvSpPr txBox="1"/>
          <p:nvPr/>
        </p:nvSpPr>
        <p:spPr>
          <a:xfrm>
            <a:off x="304920" y="1523520"/>
            <a:ext cx="8610480" cy="4496040"/>
          </a:xfrm>
          <a:prstGeom prst="rect">
            <a:avLst/>
          </a:prstGeom>
          <a:noFill/>
          <a:ln w="0">
            <a:noFill/>
          </a:ln>
        </p:spPr>
        <p:txBody>
          <a:bodyPr anchor="t">
            <a:normAutofit fontScale="98000"/>
          </a:bodyPr>
          <a:p>
            <a:pPr marL="312480" indent="-312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006600"/>
                </a:solidFill>
                <a:latin typeface="Constantia"/>
              </a:rPr>
              <a:t>I’m eager for the New TN State Standards to be implemented so that I can begin to use them in my classroom.</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68">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68">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68">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70" name=""/>
          <p:cNvSpPr txBox="1"/>
          <p:nvPr/>
        </p:nvSpPr>
        <p:spPr>
          <a:xfrm>
            <a:off x="304920" y="1523520"/>
            <a:ext cx="8610480" cy="4496040"/>
          </a:xfrm>
          <a:prstGeom prst="rect">
            <a:avLst/>
          </a:prstGeom>
          <a:noFill/>
          <a:ln w="0">
            <a:noFill/>
          </a:ln>
        </p:spPr>
        <p:txBody>
          <a:bodyPr anchor="t">
            <a:normAutofit fontScale="83000"/>
          </a:bodyPr>
          <a:p>
            <a:pPr marL="264600" indent="-264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006600"/>
                </a:solidFill>
                <a:latin typeface="Constantia"/>
              </a:rPr>
              <a:t>I’m eager for the New TN State Standards to be implemented so that I can begin to use them in my classroom.</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660066"/>
                </a:solidFill>
                <a:latin typeface="Constantia"/>
              </a:rPr>
              <a:t>Successful implementation of  the new TN State Standards is going to require extensive, high-quality Professional Development for teachers.</a:t>
            </a:r>
            <a:endParaRPr b="0" lang="en-US" sz="2400" spc="-1" strike="noStrike">
              <a:solidFill>
                <a:srgbClr val="000000"/>
              </a:solidFill>
              <a:latin typeface="Tw Cen MT"/>
            </a:endParaRPr>
          </a:p>
          <a:p>
            <a:pPr marL="264600" indent="-26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70">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70">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70">
                                            <p:txEl>
                                              <p:pRg st="3" end="3"/>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WL</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your group, use a large poster chart to start a K-W-L for the New TN Science Standard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a:t>
            </a:r>
            <a:r>
              <a:rPr b="1" lang="en-US" sz="2900" spc="-1" strike="noStrike">
                <a:solidFill>
                  <a:srgbClr val="000000"/>
                </a:solidFill>
                <a:latin typeface="Tw Cen MT"/>
              </a:rPr>
              <a:t>K</a:t>
            </a:r>
            <a:r>
              <a:rPr b="0" lang="en-US" sz="2900" spc="-1" strike="noStrike">
                <a:solidFill>
                  <a:srgbClr val="000000"/>
                </a:solidFill>
                <a:latin typeface="Tw Cen MT"/>
              </a:rPr>
              <a:t>now?</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a:t>
            </a:r>
            <a:r>
              <a:rPr b="1" lang="en-US" sz="2900" spc="-1" strike="noStrike">
                <a:solidFill>
                  <a:srgbClr val="000000"/>
                </a:solidFill>
                <a:latin typeface="Tw Cen MT"/>
              </a:rPr>
              <a:t>W</a:t>
            </a:r>
            <a:r>
              <a:rPr b="0" lang="en-US" sz="2900" spc="-1" strike="noStrike">
                <a:solidFill>
                  <a:srgbClr val="000000"/>
                </a:solidFill>
                <a:latin typeface="Tw Cen MT"/>
              </a:rPr>
              <a:t>an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to know?</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3" name="Picture 3" descr="KWL-graphic-organizer.gif"/>
          <p:cNvPicPr/>
          <p:nvPr/>
        </p:nvPicPr>
        <p:blipFill>
          <a:blip r:embed="rId1"/>
          <a:stretch/>
        </p:blipFill>
        <p:spPr>
          <a:xfrm>
            <a:off x="4037040" y="2514600"/>
            <a:ext cx="5106960" cy="394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tch each term with the defini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16:14:59Z</dcterms:created>
  <dc:creator>Owner</dc:creator>
  <dc:description/>
  <dc:language>en-US</dc:language>
  <cp:lastModifiedBy/>
  <cp:lastPrinted>2013-07-17T12:46:02Z</cp:lastPrinted>
  <dcterms:modified xsi:type="dcterms:W3CDTF">2017-07-11T15:25:27Z</dcterms:modified>
  <cp:revision>325</cp:revision>
  <dc:subject/>
  <dc:title>Presentatio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968265</vt:lpwstr>
  </property>
</Properties>
</file>