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311B-520E-4D2A-8334-24672A63CFFE}" type="datetime">
              <a:rPr b="0" lang="en-US" sz="1200" spc="-1" strike="noStrike">
                <a:solidFill>
                  <a:srgbClr val="000000"/>
                </a:solidFill>
                <a:latin typeface="Calibri"/>
                <a:ea typeface="Arial"/>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040B-625C-4B46-8112-3E0A1794CE7E}"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7107-5221-430F-BB8C-E2F2B804E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D749-A0E6-487A-AF1B-399CA8D08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0587-0AD2-45E1-97CA-4B61126E4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9777-81D4-485D-B0DF-1B4C7CD76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E6CA-A589-465F-B14B-BA98472E2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D819-BA47-4579-B1E9-609EF04F0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E52C-6148-4530-89D7-5C9CDDFF4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5877-1BCB-4F90-92B1-94633026B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966F-EE0E-4C83-BFAB-B0084AD5D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034D-F30D-488D-84C3-46A75D4FE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5894-C9CA-4494-9C7F-8E1B5815F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9E97-709E-4D78-933D-78B0CB4B3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ACF5-47F2-4A8F-A6C3-DA1D349B8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0123-50BB-41A6-885D-B0103D44E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47F2-E17D-4F01-A930-89D908AA6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8F2F-98C5-40A8-AC5A-14D2FE266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1C2F-9A89-4B13-A0E6-BE2580296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5F78-F519-4659-B18A-E46758E67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8797-FFDA-49B4-BA1E-58784CD3B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70FD-6D63-4710-9AE6-A0F69807E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56E6-6C98-4600-9BE0-8F8B612C2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7592-F264-47FD-A17B-C920469B7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72CF-7348-47B3-BD90-793A920C9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8E21-CCA4-416C-B2EA-85F0532A2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8243-64CA-4675-9677-D6CE8B1C3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8BDA1-A1B5-47FA-BE52-3D50B8107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14AB3-8E62-41EE-8084-195215930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52010-E6EC-456F-AD89-CEF6FAF61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71318-3106-4A59-9156-10C400231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67C21-9696-4B4E-BCB6-F2986CCFA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0350A-2B21-4150-AD1B-811767B58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AAE11-0D6E-4675-8ADE-5316B4628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E8FD-081F-4B51-B0D1-8DDD2999D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79E3B-6F70-4DA5-9215-27C2FF82B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864E-BACD-474C-9D48-A7364B7F2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2F40A-4892-486D-91D6-145272616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ED986-0C00-4473-8B63-68B5BF23A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DDDD2-E1BD-445F-A1DC-1B933A9F4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1E74D-ABAD-4F82-BA1A-C2348C945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E28F8-2D20-417B-A102-C84A20CA2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ECFBF5-38D5-40C2-8906-8277E8760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7C85DB-8707-4D73-A19F-923004FD9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DABF56-BDDB-4973-A744-1E697BE77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52CE45-6FB8-4836-BE7E-F6609EC34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BEB8C2-F940-4E55-86DB-6E95B78C0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9C12-B7F1-4459-BDA3-7D71B676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BCDD7B-AAEC-4F34-BFE7-D11630B45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F6F853-B384-4469-B784-05B57DE72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24DD25-BD09-481B-A976-6AF471B78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B65EFD-3DC9-4894-9D09-E6F0AFDC2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DD2823-EDD0-4BD3-8FDC-EF0440263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D3DBFA-A5C8-4BAA-80A2-742892924C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574417-A26D-4FFE-B286-8679917FA6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7A08839-A916-47B3-A726-890A3AA35D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51B037-B53A-4217-81F9-1A97AC1C7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0E5AFB-BDA0-4B4C-AEEE-EAAF2E864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990B6-2681-4451-A06F-3D085FEE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7D88A01-D4A2-46B3-ACBD-0BB03CAA7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FFF87D-DAB5-4F70-92BC-D6D62A4DD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7E7763-22B5-4D30-ABBE-8321BB667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336CE6-738C-4DBC-AC52-94B489D85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8D6822-4BB7-4E3A-952F-C3908F020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6CCCDD-A758-4490-A201-8F404168E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8B55F8-7B6D-4A23-A91C-4591DD54B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701DB20-F993-4042-9818-F158FF663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01FBB86-33D7-4237-8831-8622C5D09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83AD19E-A960-43ED-9821-3BAF2494F8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12AB-63C9-4A99-9353-2F106CB1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99BAE0-4518-458A-80DB-EF49CB5D5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A5F49A-5EF3-41A1-9792-FF5F4033C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4D122A-BE94-448D-B71C-17C6FA7D1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F95067-D20F-41BB-9E80-650A9FFCA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477EC1-8495-418B-9136-C176D0318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36D00F-17D3-45D8-8E2F-3F6A91B2F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9CF7B5-5997-452C-8102-ECCC34F7B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456702-2136-4AB7-9693-1A48AA699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C656EE-9122-4745-BB60-515FA5264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94AA78E-11C0-4CC5-BC22-4D8EC5F063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C438-57CA-43F5-9C05-A51677A3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4CA217-A94D-45C1-A537-3B0ECA471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56D7B1-6D21-4F83-A15F-726E58D79C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8EB73-B37F-4ECD-A371-1505FEF8D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2462E-EF0D-496C-8714-08EAC64EDE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568BA-8665-4F0F-AE28-8163CD56C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34AD1-E015-42D5-9067-5A2B1C7E8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B0DB6-53D1-4FA5-A8EE-CE5D64131E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190E4-1DE5-4E1D-B376-E23F85427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CA711-8C6D-4BF8-8E0B-A104F7F80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DA04E-43A0-4915-A5E5-D365AC014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32CF-5A1C-4869-AA44-11559E3C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60E77-4EAD-4034-8FC1-6789169A1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28A536-2246-4F64-A149-73D66FA34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AE039-5E2E-4F6E-8996-B2E494ABE1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6463365-38D1-4EE6-97A4-1FB10539A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C855E5-E7D9-4D5B-BB3C-315EC5C02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59DBAE-137F-4C57-8981-1308AD0FE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A063DC-6D94-4FCD-B520-F6750A467A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735A80-8172-4038-B3AD-C69243DCE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8EB116-9E01-407F-A747-216477C31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493248-ABF5-475C-8353-4507AF3CC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0725-5146-4890-B127-707E2C91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FAFCD4-93B2-4988-8C16-049E20F6D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832AEA-CF48-475F-BEDF-69D64A1B8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CC6451-D642-4DC3-8EE6-40EE76C331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1A99586-C6CD-4D74-B950-91405701B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FB2ADB9-9E89-4BAE-BE09-8CAAE175B7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3D4F3B-BBE2-4436-BAC5-970643BA17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E6724-97BF-4FDC-8ECD-5659E298A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280AF-1EB0-43A2-BEF7-1C53C7840A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E0AB3-B678-43B3-8D20-8C104FF34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CC05B8-80BE-497B-9EB1-AFB6C762B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F254-79BC-441F-A758-487FE5F95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C6B02C-9078-459E-9150-456C714BF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63242-2BC5-4715-A60E-9DB661E19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D2FA0-9782-447B-83AB-98A7896BE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03D563-296A-48A7-B2EB-93BFC95AE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A89F5-C81B-48AF-A8EA-804AB10B2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1C4FD-F829-4368-9AB1-7B370D5BD9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994F6E-DD28-417E-8D04-84F566D95CC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D464-7F35-4B68-A0FB-72F784F4460D}"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4E7E-0292-4024-892B-DEABC7C4BC12}"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96E0-292E-4BF0-92CB-B67723369D7A}" type="datetime">
              <a:rPr b="0" lang="en-US" sz="2000" spc="-1" strike="noStrike">
                <a:solidFill>
                  <a:srgbClr val="ffffff"/>
                </a:solidFill>
                <a:latin typeface="Times New Roman"/>
                <a:ea typeface="Arial"/>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A9A3-F3AD-46EB-A031-ED7F23977752}"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B06C-A98A-43CE-8B9D-4FAC7CA79AD9}"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63C3-F54B-485A-BBB6-B1B94070616A}"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C8B6-C04F-4335-A3ED-8A65EA11C060}"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9103-C5C8-41FB-AB93-ED4A9D2B1213}"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4D38-D6A3-49C3-B422-BF9CCD9C1662}"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6576-F7C3-4D77-BBDA-772543B05C2A}"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5EF3-B4DD-4B1D-96C6-1FAC3D20C6CA}"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BDC7-6173-4A75-B9AA-9D2599A5EB6C}"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C8D0-3B6A-4B0C-8FDD-BD5B0AA8C631}"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FFE7-3CDD-467F-AA8D-CD3A37EA3592}"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C2AA-5065-4846-93D9-5AA92163338E}"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5CE9-05C6-4DFE-8EC0-986FE8BF0A75}"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