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92D4-CF78-4028-800C-1312D18E9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the I Found a Rock student page and centimeter rulers. Make sure students understand how to record the properties listed on the data table by discussing ques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observations of size such as big or small are not scientific observations because they are not exact. Using measurements to describe the size of a rock is more scientific. Ten have students make careful observations of their rocks and complete their data tables. Next, have students think about the unique properties of their rocks and fill in the cloze sentence, “I found a rock that would be good for _______________________ because it is ___________________.”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FEC9-F41D-4362-BE65-5C8233635BE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175B-6048-46B5-B252-D68091BF6D9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ell students that the picture book </a:t>
            </a:r>
            <a:r>
              <a:rPr b="0" i="1" lang="en-US" sz="1200" spc="-1" strike="noStrike">
                <a:solidFill>
                  <a:srgbClr val="000000"/>
                </a:solidFill>
                <a:latin typeface="Calibri"/>
              </a:rPr>
              <a:t>Rocks: Hard, Soft, Smooth, and Rough </a:t>
            </a:r>
            <a:r>
              <a:rPr b="0" lang="en-US" sz="1200" spc="-1" strike="noStrike">
                <a:solidFill>
                  <a:srgbClr val="000000"/>
                </a:solidFill>
                <a:latin typeface="Calibri"/>
              </a:rPr>
              <a:t>can give them clues about their rock’s identity.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ne of the rocks they have been observing is described in the book. As you read the book aloud, stop after reading each rock description and ask students to hold up their rock if they think it is the one being describe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ding, use the rocks chart on page 21 to help students identify their rocks correctly. Explain that many different kinds of scientists use these kinds of charts, also called keys, to identify unknown objects.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6BB9-A60D-47D9-AEEA-66760233053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nerals that make up their rocks. Some rocks are made of a single mineral, but most are made of several mineral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who is observing a very fine-grained rock may not be able to see any minerals. Geologists often use special microscopes to look at very thin slices of rocks so that they can determine mineral content and thus rock type.)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D1EA-0821-40EB-9813-53AA7B2C30D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eous, sedimentary, and metamorphic</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s are classified based on how they are form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observe their properties and use a key.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232D-9073-433A-B986-CC515D8D727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that the rock is probably one of the oldest things they will ever touch.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s to share observations of the rock as it is being passed aroun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you have a special book to read to them.</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8EDC-CBAA-4203-8E5C-A51AFE51B1F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Christian is a rock hound born in the Rocky Mts. Of Co who loves camping, skiing, and reading.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ny men and women are geologists and devote their lives to it.  Peggy’s father was a geologist, and maybe that’s why she likes rocks so muc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81A7-9F10-468F-A3C5-9860540DC65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F1B7-D548-4157-A12C-23449DBC62A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C673-DFD7-4A6E-95AB-64038898EE0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place it near the rocks or it will scratch.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66AD-37D4-4583-914F-9B0EE4F135B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11FB-0602-409E-8537-54746AA2F93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kipping rock is used for skipping across water.  The properties that make it suited for that purpose are its flat and rounded shape and its small siz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e and size are properties of the rock.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lk rock is used to make pictures.  The properties that make it suited for that purpose are its white color and its soft, dusty textur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re describes how a rock feels.  Color and texture are properties of rock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uster is another property.  It describes how the tiny specks in the rock reflect light.  Words that describe luster include shiny, dull, and sparkly.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90D8-1D52-4773-8E5E-49AA9711CFA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2187F-FB75-4286-8819-2DB117969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6F511-4F1F-4E8D-ABDD-218156ABC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0B9CE-7353-4051-A002-42D0B290D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9D157-E5BB-40AF-8B83-16C63F633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97771-2AF8-401C-95AF-F74F62FAA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E4A47-8B61-42CE-906D-A78D56E9B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1DE84-72B0-48EA-9E28-1C3FD510A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E6786-3B25-4244-8EF7-C7BE130DB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E7074-7B5C-4784-920C-01CB87B94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E5B11-CB13-4AE6-996C-08D78E4CC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117B6-9C1C-424C-BC99-5447174B3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3B67-70DC-4A7A-BCDD-61A77414D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CB187-D5D2-4AD1-B0B6-C313B1C09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FA01B-6F8F-4D2F-A1E5-F983B7FA6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C9654-B14E-4F94-A7D2-77D72C6C4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E7590-4043-444B-B9EA-4CB435B1F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FD821-C94F-41D4-B49C-FFD26257A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37B0B-87E9-43EA-BB9B-3A4C21697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0402C-582F-4C9D-B1A9-74C427C18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5A9D1-45F1-4304-B283-E4C302663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A77F-017A-4E91-ADB5-5E98DEA49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C283-6C5C-424B-8DF1-64AECCFA1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B2EF-1D6A-4000-AC2A-0220F77C4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0C59-5B80-49C8-96D2-63FE8FFD9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73A0-E755-441B-B361-0F1A0FBC9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9B62-0162-4CDC-A976-1E49500F8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133720"/>
            <a:ext cx="8077320" cy="1676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f You Find a Rock</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533160" y="4038120"/>
            <a:ext cx="7924680" cy="38124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Picture-Perfect Science Lessons</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I Found a Rock </a:t>
            </a:r>
            <a:r>
              <a:rPr b="0" lang="en-US" sz="4400" spc="-1" strike="noStrike">
                <a:solidFill>
                  <a:srgbClr val="000000"/>
                </a:solidFill>
                <a:latin typeface="Comic Sans MS"/>
              </a:rPr>
              <a:t>Guides</a:t>
            </a:r>
            <a:endParaRPr b="0" lang="en-US" sz="4400" spc="-1" strike="noStrike">
              <a:solidFill>
                <a:srgbClr val="000000"/>
              </a:solidFill>
              <a:latin typeface="Comic Sans MS"/>
            </a:endParaRPr>
          </a:p>
        </p:txBody>
      </p:sp>
      <p:sp>
        <p:nvSpPr>
          <p:cNvPr id="182" name=""/>
          <p:cNvSpPr txBox="1"/>
          <p:nvPr/>
        </p:nvSpPr>
        <p:spPr>
          <a:xfrm>
            <a:off x="1676520" y="1828800"/>
            <a:ext cx="6705360" cy="3657600"/>
          </a:xfrm>
          <a:prstGeom prst="rect">
            <a:avLst/>
          </a:prstGeom>
          <a:noFill/>
          <a:ln w="0">
            <a:noFill/>
          </a:ln>
        </p:spPr>
        <p:txBody>
          <a:bodyPr anchor="t">
            <a:normAutofit fontScale="84000"/>
          </a:bodyPr>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colo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texture</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luste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one way to measure a rock’s siz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ck Sorting</a:t>
            </a:r>
            <a:endParaRPr b="0" lang="en-US" sz="44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ss your </a:t>
            </a:r>
            <a:r>
              <a:rPr b="0" i="1" lang="en-US" sz="3200" spc="-1" strike="noStrike">
                <a:solidFill>
                  <a:srgbClr val="000000"/>
                </a:solidFill>
                <a:latin typeface="Comic Sans MS"/>
              </a:rPr>
              <a:t>If I Found a Rock </a:t>
            </a:r>
            <a:r>
              <a:rPr b="0" lang="en-US" sz="3200" spc="-1" strike="noStrike">
                <a:solidFill>
                  <a:srgbClr val="000000"/>
                </a:solidFill>
                <a:latin typeface="Comic Sans MS"/>
              </a:rPr>
              <a:t>pages to the first person in each row.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nd up and hold your rock.</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properties of your rock.</a:t>
            </a:r>
            <a:endParaRPr b="0" lang="en-US" sz="32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has that property, stay standing.</a:t>
            </a:r>
            <a:endParaRPr b="0" lang="en-US" sz="28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doesn’t have that property, please sit back down.</a:t>
            </a:r>
            <a:endParaRPr b="0" lang="en-US" sz="2800" spc="-1" strike="noStrike">
              <a:solidFill>
                <a:srgbClr val="000000"/>
              </a:solidFill>
              <a:latin typeface="Comic Sans MS"/>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fontScale="79000"/>
          </a:bodyPr>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into groups of 4-5.</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a hand lens and a set of rocks.</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your rock and the rocks in the rock set. </a:t>
            </a:r>
            <a:endParaRPr b="0" lang="en-US" sz="32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the rocks in the rock set all the same kind of rocks?</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y different?</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it possible to look at a rock and tell what kind of rock it 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701028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Rocks: Hard, Soft, Smooth, and Rough</a:t>
            </a:r>
            <a:endParaRPr b="0" lang="en-US" sz="4400" spc="-1" strike="noStrike">
              <a:solidFill>
                <a:srgbClr val="000000"/>
              </a:solidFill>
              <a:latin typeface="Comic Sans MS"/>
            </a:endParaRPr>
          </a:p>
        </p:txBody>
      </p:sp>
      <p:sp>
        <p:nvSpPr>
          <p:cNvPr id="188" name=""/>
          <p:cNvSpPr txBox="1"/>
          <p:nvPr/>
        </p:nvSpPr>
        <p:spPr>
          <a:xfrm>
            <a:off x="456840" y="1447560"/>
            <a:ext cx="7924680" cy="41907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properties did you use to identify your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you able to identify your rock based on its size or shape al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ize not be a good property to use to identify a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hape not be a good property to use to identify rock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basic building blocks of rocks called? </a:t>
            </a:r>
            <a:endParaRPr b="0" lang="en-US" sz="2400" spc="-1" strike="noStrike">
              <a:solidFill>
                <a:srgbClr val="000000"/>
              </a:solidFill>
              <a:latin typeface="Comic Sans MS"/>
            </a:endParaRPr>
          </a:p>
        </p:txBody>
      </p:sp>
      <p:pic>
        <p:nvPicPr>
          <p:cNvPr id="189" name="Picture 3" descr=""/>
          <p:cNvPicPr/>
          <p:nvPr/>
        </p:nvPicPr>
        <p:blipFill>
          <a:blip r:embed="rId1"/>
          <a:stretch/>
        </p:blipFill>
        <p:spPr>
          <a:xfrm>
            <a:off x="3429000" y="4876920"/>
            <a:ext cx="1901880" cy="1904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hand lenses to see if you can find any specks, crystals, swirls, or stripes in your rock sampl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3" name=""/>
          <p:cNvSpPr txBox="1"/>
          <p:nvPr/>
        </p:nvSpPr>
        <p:spPr>
          <a:xfrm>
            <a:off x="685800" y="1066320"/>
            <a:ext cx="7696080" cy="441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three main types of rocks you learned about in the boo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rocks classified into these three group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scientists identify unknown rock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9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ssil Fashion Show</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m I?</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older than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the school buil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your teac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that could be millions of years old.</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3" name=""/>
          <p:cNvSpPr txBox="1"/>
          <p:nvPr/>
        </p:nvSpPr>
        <p:spPr>
          <a:xfrm>
            <a:off x="4100400" y="1740960"/>
            <a:ext cx="4267440" cy="4419720"/>
          </a:xfrm>
          <a:prstGeom prst="rect">
            <a:avLst/>
          </a:prstGeom>
          <a:noFill/>
          <a:ln w="0">
            <a:noFill/>
          </a:ln>
        </p:spPr>
        <p:txBody>
          <a:bodyPr anchor="t">
            <a:normAutofit fontScale="92000"/>
          </a:bodyPr>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nyone here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all a scientist who studies rocks?</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 like to be a geologist? </a:t>
            </a:r>
            <a:endParaRPr b="0" lang="en-US" sz="3200" spc="-1" strike="noStrike">
              <a:solidFill>
                <a:srgbClr val="000000"/>
              </a:solidFill>
              <a:latin typeface="Comic Sans MS"/>
            </a:endParaRPr>
          </a:p>
        </p:txBody>
      </p:sp>
      <p:pic>
        <p:nvPicPr>
          <p:cNvPr id="164"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6" name=""/>
          <p:cNvSpPr txBox="1"/>
          <p:nvPr/>
        </p:nvSpPr>
        <p:spPr>
          <a:xfrm>
            <a:off x="4100400" y="1740960"/>
            <a:ext cx="4267440" cy="4419720"/>
          </a:xfrm>
          <a:prstGeom prst="rect">
            <a:avLst/>
          </a:prstGeom>
          <a:noFill/>
          <a:ln w="0">
            <a:noFill/>
          </a:ln>
        </p:spPr>
        <p:txBody>
          <a:bodyPr anchor="t">
            <a:normAutofit fontScale="98000"/>
          </a:bodyPr>
          <a:p>
            <a:pPr marL="504000" indent="-447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what some of the rocks in this book are used for and what properties, or characteristics, make them well suited for those uses.  </a:t>
            </a:r>
            <a:endParaRPr b="0" lang="en-US" sz="3200" spc="-1" strike="noStrike">
              <a:solidFill>
                <a:srgbClr val="000000"/>
              </a:solidFill>
              <a:latin typeface="Comic Sans MS"/>
            </a:endParaRPr>
          </a:p>
        </p:txBody>
      </p:sp>
      <p:pic>
        <p:nvPicPr>
          <p:cNvPr id="167"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9" name=""/>
          <p:cNvSpPr txBox="1"/>
          <p:nvPr/>
        </p:nvSpPr>
        <p:spPr>
          <a:xfrm>
            <a:off x="4100040" y="1740960"/>
            <a:ext cx="4434120" cy="4659480"/>
          </a:xfrm>
          <a:prstGeom prst="rect">
            <a:avLst/>
          </a:prstGeom>
          <a:noFill/>
          <a:ln w="0">
            <a:noFill/>
          </a:ln>
        </p:spPr>
        <p:txBody>
          <a:bodyPr anchor="t">
            <a:normAutofit fontScale="99000"/>
          </a:bodyPr>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of the uses for the special rocks in the boo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you ever owned a special roc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de it special to you?</a:t>
            </a:r>
            <a:endParaRPr b="0" lang="en-US" sz="3200" spc="-1" strike="noStrike">
              <a:solidFill>
                <a:srgbClr val="000000"/>
              </a:solidFill>
              <a:latin typeface="Comic Sans MS"/>
            </a:endParaRPr>
          </a:p>
        </p:txBody>
      </p:sp>
      <p:pic>
        <p:nvPicPr>
          <p:cNvPr id="170"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a hand le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the lens close to your eye while bringing the rock toward the lens until it comes back in to focus</a:t>
            </a:r>
            <a:endParaRPr b="0" lang="en-US" sz="2800" spc="-1" strike="noStrike">
              <a:solidFill>
                <a:srgbClr val="000000"/>
              </a:solidFill>
              <a:latin typeface="Comic Sans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3" name="Picture 4" descr=""/>
          <p:cNvPicPr/>
          <p:nvPr/>
        </p:nvPicPr>
        <p:blipFill>
          <a:blip r:embed="rId1"/>
          <a:stretch/>
        </p:blipFill>
        <p:spPr>
          <a:xfrm>
            <a:off x="3193920" y="3962520"/>
            <a:ext cx="5153040" cy="25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your rocks on your desks and observe them like a scientis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look around at some of the rocks around you.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alik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diffe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ain</a:t>
            </a:r>
            <a:endParaRPr b="0" lang="en-US" sz="4400" spc="-1" strike="noStrike">
              <a:solidFill>
                <a:srgbClr val="000000"/>
              </a:solidFill>
              <a:latin typeface="Comic Sans MS"/>
            </a:endParaRPr>
          </a:p>
        </p:txBody>
      </p:sp>
      <p:sp>
        <p:nvSpPr>
          <p:cNvPr id="17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the rocks we saw in </a:t>
            </a:r>
            <a:r>
              <a:rPr b="0" i="1" lang="en-US" sz="3200" spc="-1" strike="noStrike">
                <a:solidFill>
                  <a:srgbClr val="000000"/>
                </a:solidFill>
                <a:latin typeface="Comic Sans MS"/>
              </a:rPr>
              <a:t>If You Find a Ro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ere some of the rocks lis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each rock suited for its special u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ocks</a:t>
            </a:r>
            <a:endParaRPr b="0" lang="en-US" sz="4400" spc="-1" strike="noStrike">
              <a:solidFill>
                <a:srgbClr val="000000"/>
              </a:solidFill>
              <a:latin typeface="Comic Sans MS"/>
            </a:endParaRPr>
          </a:p>
        </p:txBody>
      </p:sp>
      <p:sp>
        <p:nvSpPr>
          <p:cNvPr id="17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z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p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uster</a:t>
            </a:r>
            <a:endParaRPr b="0" lang="en-US" sz="3200" spc="-1" strike="noStrike">
              <a:solidFill>
                <a:srgbClr val="000000"/>
              </a:solidFill>
              <a:latin typeface="Comic Sans MS"/>
            </a:endParaRPr>
          </a:p>
        </p:txBody>
      </p:sp>
      <p:pic>
        <p:nvPicPr>
          <p:cNvPr id="180" name="Picture 3" descr=""/>
          <p:cNvPicPr/>
          <p:nvPr/>
        </p:nvPicPr>
        <p:blipFill>
          <a:blip r:embed="rId1"/>
          <a:stretch/>
        </p:blipFill>
        <p:spPr>
          <a:xfrm>
            <a:off x="3505320" y="2174760"/>
            <a:ext cx="4457520" cy="29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41:01Z</dcterms:created>
  <dc:creator>Shane  Trent</dc:creator>
  <dc:description/>
  <dc:language>en-US</dc:language>
  <cp:lastModifiedBy>Pennycuff, Kristen</cp:lastModifiedBy>
  <dcterms:modified xsi:type="dcterms:W3CDTF">2016-07-14T03:44:40Z</dcterms:modified>
  <cp:revision>25</cp:revision>
  <dc:subject/>
  <dc:title>Active Participation</dc:title>
</cp:coreProperties>
</file>