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2A63-9CCE-413B-A9C9-2BC20D67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A2C6-D75D-4622-B970-FA11FD73BE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DB19-DE46-41E2-B50C-271FA57EF6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D990-DCA0-4646-8D2E-F1C9BBB51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FBF3-2F28-4754-8075-56BB04A024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F67-3D69-426B-BA3C-B707055989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A60-1CB1-4212-92CC-30CEAEAE0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CE8-343A-4591-9573-43B965D75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7CA-2C7C-4A34-A262-6FE807E408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427A-9FCE-423A-912E-F94F61659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F66E-B13D-4C4D-898A-D5D4E3EA8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0789-92C9-4ACA-88D3-8B9C573ABE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09F6-3271-46E0-9D7E-AD7F35BF0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FA9-B8CD-4CF4-B91E-8A567134F6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ED9C-EF27-4E91-B0BF-EC2F2208C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EE28-9A50-49C3-80C1-A1B72648B2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C58-DC4C-4078-9DFA-86B0EEF6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AE2-5B45-4821-A094-09F8D6BD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4EB-ACC0-469D-A227-F0509EE9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17F-15FE-49C0-ACCD-FE0DCBFD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CA5-66E0-40D1-A211-3B8F7DE3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6183-FBEC-4D27-9088-F58A5F6E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9250-1A66-4DC2-A464-7E9597D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6CB2-B9F6-44C6-B21E-59260AD8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5A46-E7B3-4140-8BB3-CDDF0896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760E-736D-4781-B262-8DC851FC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9C02-3288-47ED-B3AE-7C8A02B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D29-1915-4A1C-90DE-CD632BD1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91B3-4D65-4FD5-B0BC-D3D7476D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C4E7-22DC-4539-9BB5-65F6AF0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AFEA-6292-4BE7-83BB-AEDD4D01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5C27-A975-428E-9029-FBF6166B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F0C8-A937-41B1-9028-09C82744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C80-CB9E-4151-AD24-C703760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D59-31FC-49A1-835D-8A89FA8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556-1D66-4488-8F88-75A13DD9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02D-CF39-4D05-8501-89E28E85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030-C2B2-4B72-B7B4-3B89698F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18B-5FD0-485A-9354-ADB0EEA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CD2-919A-406F-8C74-26416135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6590-486C-4700-AB8D-E50663859D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5E12-BB07-40BA-8CBB-F7383429A0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Freds_excellent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yw.iewatershed.com/media/060331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he Great American Eclips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gust 21, 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afe View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0" y="9144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rtial pha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ny time Sun is not completely blocke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use special glasses or pinhole vie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1"/>
          <a:srcRect l="0" t="32401" r="0" b="32989"/>
          <a:stretch/>
        </p:blipFill>
        <p:spPr>
          <a:xfrm>
            <a:off x="334800" y="2009880"/>
            <a:ext cx="8382240" cy="1630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7"/>
          <p:cNvSpPr/>
          <p:nvPr/>
        </p:nvSpPr>
        <p:spPr>
          <a:xfrm>
            <a:off x="380880" y="2209680"/>
            <a:ext cx="3289320" cy="116388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5487840" y="2214720"/>
            <a:ext cx="3227400" cy="116352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95840" y="2206800"/>
            <a:ext cx="1544400" cy="1163520"/>
          </a:xfrm>
          <a:prstGeom prst="rect">
            <a:avLst/>
          </a:prstGeom>
          <a:noFill/>
          <a:ln w="38160">
            <a:solidFill>
              <a:srgbClr val="23f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1136520" y="3780000"/>
            <a:ext cx="3114720" cy="1573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9" descr=""/>
          <p:cNvPicPr/>
          <p:nvPr/>
        </p:nvPicPr>
        <p:blipFill>
          <a:blip r:embed="rId3"/>
          <a:stretch/>
        </p:blipFill>
        <p:spPr>
          <a:xfrm>
            <a:off x="4984920" y="3689280"/>
            <a:ext cx="3373200" cy="19065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52280" y="5799240"/>
            <a:ext cx="8686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otal eclipse is safe to view directly without 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projector - bas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rcRect l="0" t="10475" r="0" b="10475"/>
          <a:stretch/>
        </p:blipFill>
        <p:spPr>
          <a:xfrm>
            <a:off x="609480" y="1371600"/>
            <a:ext cx="775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real box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447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56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518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ed from within the path of totality, the Moon completely blocks the main body of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a ‘black hole’ in the sk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ee planet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nd plants behave as if it’s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1"/>
          <a:srcRect l="15494" t="16540" r="9923" b="11115"/>
          <a:stretch/>
        </p:blipFill>
        <p:spPr>
          <a:xfrm>
            <a:off x="1992240" y="3139920"/>
            <a:ext cx="54453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8"/>
          <p:cNvGrpSpPr/>
          <p:nvPr/>
        </p:nvGrpSpPr>
        <p:grpSpPr>
          <a:xfrm>
            <a:off x="533520" y="2971800"/>
            <a:ext cx="8381880" cy="2703600"/>
            <a:chOff x="533520" y="2971800"/>
            <a:chExt cx="8381880" cy="2703600"/>
          </a:xfrm>
        </p:grpSpPr>
        <p:pic>
          <p:nvPicPr>
            <p:cNvPr id="459" name="Picture 6" descr=""/>
            <p:cNvPicPr/>
            <p:nvPr/>
          </p:nvPicPr>
          <p:blipFill>
            <a:blip r:embed="rId1"/>
            <a:stretch/>
          </p:blipFill>
          <p:spPr>
            <a:xfrm>
              <a:off x="533520" y="2971800"/>
              <a:ext cx="838188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7"/>
            <p:cNvSpPr/>
            <p:nvPr/>
          </p:nvSpPr>
          <p:spPr>
            <a:xfrm>
              <a:off x="1279800" y="31082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romosp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s details of the Su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ly too dim to s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study for very practical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0"/>
          <p:cNvGrpSpPr/>
          <p:nvPr/>
        </p:nvGrpSpPr>
        <p:grpSpPr>
          <a:xfrm>
            <a:off x="1676520" y="2666880"/>
            <a:ext cx="5649840" cy="3770280"/>
            <a:chOff x="1676520" y="2666880"/>
            <a:chExt cx="5649840" cy="3770280"/>
          </a:xfrm>
        </p:grpSpPr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1676520" y="2666880"/>
              <a:ext cx="5649840" cy="37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9"/>
            <p:cNvSpPr/>
            <p:nvPr/>
          </p:nvSpPr>
          <p:spPr>
            <a:xfrm>
              <a:off x="2347920" y="2955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o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amond Ring Effe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patch of bright light shines through valley on edge of M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1895400" y="1992240"/>
            <a:ext cx="5896080" cy="39387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4173120" y="61563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imes New Roman"/>
                <a:hlinkClick r:id="rId2"/>
              </a:rPr>
              <a:t>Watch short movie of 1994 ecli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TU Tucker Stadium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:01:15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9:43 pm –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be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32:15 pm –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3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56:00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11"/>
          <p:cNvGrpSpPr/>
          <p:nvPr/>
        </p:nvGrpSpPr>
        <p:grpSpPr>
          <a:xfrm>
            <a:off x="5378400" y="1038240"/>
            <a:ext cx="3308400" cy="1557000"/>
            <a:chOff x="5378400" y="1038240"/>
            <a:chExt cx="3308400" cy="1557000"/>
          </a:xfrm>
        </p:grpSpPr>
        <p:sp>
          <p:nvSpPr>
            <p:cNvPr id="473" name="TextBox 2"/>
            <p:cNvSpPr/>
            <p:nvPr/>
          </p:nvSpPr>
          <p:spPr>
            <a:xfrm>
              <a:off x="5378400" y="1038240"/>
              <a:ext cx="43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Box 3"/>
            <p:cNvSpPr/>
            <p:nvPr/>
          </p:nvSpPr>
          <p:spPr>
            <a:xfrm>
              <a:off x="6070320" y="160668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13"/>
          <p:cNvGrpSpPr/>
          <p:nvPr/>
        </p:nvGrpSpPr>
        <p:grpSpPr>
          <a:xfrm>
            <a:off x="5389560" y="3289320"/>
            <a:ext cx="3297240" cy="1557000"/>
            <a:chOff x="5389560" y="3289320"/>
            <a:chExt cx="3297240" cy="1557000"/>
          </a:xfrm>
        </p:grpSpPr>
        <p:sp>
          <p:nvSpPr>
            <p:cNvPr id="476" name="TextBox 5"/>
            <p:cNvSpPr/>
            <p:nvPr/>
          </p:nvSpPr>
          <p:spPr>
            <a:xfrm>
              <a:off x="5389560" y="32893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Box 9"/>
            <p:cNvSpPr/>
            <p:nvPr/>
          </p:nvSpPr>
          <p:spPr>
            <a:xfrm>
              <a:off x="6081480" y="3806640"/>
              <a:ext cx="26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14"/>
          <p:cNvGrpSpPr/>
          <p:nvPr/>
        </p:nvGrpSpPr>
        <p:grpSpPr>
          <a:xfrm>
            <a:off x="5372280" y="2133720"/>
            <a:ext cx="3147840" cy="1557000"/>
            <a:chOff x="5372280" y="2133720"/>
            <a:chExt cx="3147840" cy="1557000"/>
          </a:xfrm>
        </p:grpSpPr>
        <p:sp>
          <p:nvSpPr>
            <p:cNvPr id="479" name="TextBox 6"/>
            <p:cNvSpPr/>
            <p:nvPr/>
          </p:nvSpPr>
          <p:spPr>
            <a:xfrm>
              <a:off x="5372280" y="21337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Box 10"/>
            <p:cNvSpPr/>
            <p:nvPr/>
          </p:nvSpPr>
          <p:spPr>
            <a:xfrm>
              <a:off x="6104160" y="2638440"/>
              <a:ext cx="241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Can view safely with naked ey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o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hadow hits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122480" y="1812960"/>
            <a:ext cx="757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system mod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Picture 11" descr=""/>
          <p:cNvPicPr/>
          <p:nvPr/>
        </p:nvPicPr>
        <p:blipFill>
          <a:blip r:embed="rId1"/>
          <a:stretch/>
        </p:blipFill>
        <p:spPr>
          <a:xfrm>
            <a:off x="1041480" y="1536840"/>
            <a:ext cx="7054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rth - Sun dist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4114800" cy="37843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5"/>
          <p:cNvSpPr/>
          <p:nvPr/>
        </p:nvSpPr>
        <p:spPr>
          <a:xfrm>
            <a:off x="380880" y="1752480"/>
            <a:ext cx="44197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closer in win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ignificant effe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clim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ote: This is a factor for some planets, but NOT Earth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is it warmer in summer for 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rest of ac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54"/>
          <p:cNvSpPr/>
          <p:nvPr/>
        </p:nvSpPr>
        <p:spPr>
          <a:xfrm>
            <a:off x="3733920" y="3581280"/>
            <a:ext cx="1447560" cy="14479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447920"/>
              <a:gd name="textAreaBottom" fmla="*/ 1447920 h 1447920"/>
            </a:gdLst>
            <a:ahLst/>
            <a:rect l="textAreaLeft" t="textAreaTop" r="textAreaRight" b="textAreaBottom"/>
            <a:pathLst>
              <a:path w="912" h="816">
                <a:moveTo>
                  <a:pt x="864" y="0"/>
                </a:moveTo>
                <a:lnTo>
                  <a:pt x="0" y="384"/>
                </a:lnTo>
                <a:lnTo>
                  <a:pt x="912" y="816"/>
                </a:lnTo>
                <a:lnTo>
                  <a:pt x="864" y="0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Freeform 53"/>
          <p:cNvSpPr/>
          <p:nvPr/>
        </p:nvSpPr>
        <p:spPr>
          <a:xfrm>
            <a:off x="1295280" y="2971800"/>
            <a:ext cx="7696440" cy="3809880"/>
          </a:xfrm>
          <a:custGeom>
            <a:avLst/>
            <a:gdLst>
              <a:gd name="textAreaLeft" fmla="*/ 0 w 7696440"/>
              <a:gd name="textAreaRight" fmla="*/ 7696800 w 76964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48" h="2352">
                <a:moveTo>
                  <a:pt x="0" y="0"/>
                </a:moveTo>
                <a:lnTo>
                  <a:pt x="4848" y="2352"/>
                </a:lnTo>
                <a:lnTo>
                  <a:pt x="3744" y="2352"/>
                </a:lnTo>
                <a:lnTo>
                  <a:pt x="0" y="1488"/>
                </a:lnTo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52"/>
          <p:cNvSpPr/>
          <p:nvPr/>
        </p:nvSpPr>
        <p:spPr>
          <a:xfrm>
            <a:off x="1295280" y="1600200"/>
            <a:ext cx="7925040" cy="380988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96" h="2400">
                <a:moveTo>
                  <a:pt x="0" y="912"/>
                </a:moveTo>
                <a:lnTo>
                  <a:pt x="0" y="2400"/>
                </a:lnTo>
                <a:lnTo>
                  <a:pt x="4896" y="192"/>
                </a:lnTo>
                <a:lnTo>
                  <a:pt x="4368" y="0"/>
                </a:lnTo>
                <a:lnTo>
                  <a:pt x="0" y="912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51"/>
          <p:cNvSpPr/>
          <p:nvPr/>
        </p:nvSpPr>
        <p:spPr>
          <a:xfrm>
            <a:off x="5181480" y="3657600"/>
            <a:ext cx="3886200" cy="129528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2448" h="816">
                <a:moveTo>
                  <a:pt x="0" y="816"/>
                </a:moveTo>
                <a:lnTo>
                  <a:pt x="2448" y="480"/>
                </a:lnTo>
                <a:lnTo>
                  <a:pt x="2448" y="384"/>
                </a:lnTo>
                <a:lnTo>
                  <a:pt x="0" y="0"/>
                </a:lnTo>
                <a:lnTo>
                  <a:pt x="0" y="81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ght sources and shadow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9200" y="97272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light 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larg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zz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ad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entral area smaller th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547560" y="3024360"/>
            <a:ext cx="1371600" cy="2361960"/>
          </a:xfrm>
          <a:prstGeom prst="ellipse">
            <a:avLst/>
          </a:prstGeom>
          <a:solidFill>
            <a:srgbClr val="fffe0a"/>
          </a:solidFill>
          <a:ln w="9360">
            <a:solidFill>
              <a:srgbClr val="fffe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4667400" y="3733920"/>
            <a:ext cx="1143000" cy="1143000"/>
          </a:xfrm>
          <a:prstGeom prst="ellipse">
            <a:avLst/>
          </a:prstGeom>
          <a:solidFill>
            <a:srgbClr val="6fa9b7"/>
          </a:solidFill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Freeform 55"/>
          <p:cNvSpPr/>
          <p:nvPr/>
        </p:nvSpPr>
        <p:spPr>
          <a:xfrm>
            <a:off x="5181480" y="1905120"/>
            <a:ext cx="3962520" cy="2361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496" h="1488">
                <a:moveTo>
                  <a:pt x="2496" y="0"/>
                </a:moveTo>
                <a:lnTo>
                  <a:pt x="0" y="1104"/>
                </a:lnTo>
                <a:lnTo>
                  <a:pt x="2448" y="1488"/>
                </a:lnTo>
              </a:path>
            </a:pathLst>
          </a:custGeom>
          <a:gradFill rotWithShape="0">
            <a:gsLst>
              <a:gs pos="0">
                <a:srgbClr val="fffcca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Freeform 56"/>
          <p:cNvSpPr/>
          <p:nvPr/>
        </p:nvSpPr>
        <p:spPr>
          <a:xfrm>
            <a:off x="5105520" y="4444920"/>
            <a:ext cx="3968640" cy="2489400"/>
          </a:xfrm>
          <a:custGeom>
            <a:avLst/>
            <a:gdLst>
              <a:gd name="textAreaLeft" fmla="*/ 0 w 3968640"/>
              <a:gd name="textAreaRight" fmla="*/ 3968640 w 3968640"/>
              <a:gd name="textAreaTop" fmla="*/ 0 h 2489400"/>
              <a:gd name="textAreaBottom" fmla="*/ 2489760 h 2489400"/>
            </a:gdLst>
            <a:ahLst/>
            <a:rect l="textAreaLeft" t="textAreaTop" r="textAreaRight" b="textAreaBottom"/>
            <a:pathLst>
              <a:path w="2451" h="1485">
                <a:moveTo>
                  <a:pt x="0" y="271"/>
                </a:moveTo>
                <a:lnTo>
                  <a:pt x="2451" y="0"/>
                </a:lnTo>
                <a:lnTo>
                  <a:pt x="2426" y="1485"/>
                </a:lnTo>
                <a:lnTo>
                  <a:pt x="0" y="271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fffc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57"/>
          <p:cNvSpPr/>
          <p:nvPr/>
        </p:nvSpPr>
        <p:spPr>
          <a:xfrm>
            <a:off x="6782760" y="205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58"/>
          <p:cNvSpPr/>
          <p:nvPr/>
        </p:nvSpPr>
        <p:spPr>
          <a:xfrm>
            <a:off x="6096960" y="5943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59"/>
          <p:cNvSpPr/>
          <p:nvPr/>
        </p:nvSpPr>
        <p:spPr>
          <a:xfrm>
            <a:off x="6402240" y="4114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No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60"/>
          <p:cNvSpPr/>
          <p:nvPr/>
        </p:nvSpPr>
        <p:spPr>
          <a:xfrm>
            <a:off x="7315200" y="320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61"/>
          <p:cNvSpPr/>
          <p:nvPr/>
        </p:nvSpPr>
        <p:spPr>
          <a:xfrm>
            <a:off x="7315200" y="49528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zzy shadow patter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85800" y="1752480"/>
            <a:ext cx="7848720" cy="4419720"/>
          </a:xfrm>
          <a:prstGeom prst="rect">
            <a:avLst/>
          </a:pr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590920" y="1752480"/>
            <a:ext cx="4343400" cy="4343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e9e7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3c14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343400" y="3505320"/>
            <a:ext cx="838080" cy="838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573080" y="37339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03992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4480" y="2952720"/>
            <a:ext cx="5594400" cy="37656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on’s shado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91600" y="1117440"/>
            <a:ext cx="854100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as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dark area (umbra) will be ~80 miles acro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s across Earth’s face at ~2000 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small area experiences this for a shor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ch larger area experiences ‘fuzzy shadow’ (penumb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shadow crosses face of Earth it traces out the ‘Path of Totality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6312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505720" cy="5076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519120" y="1182600"/>
            <a:ext cx="80564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1600" y="218880"/>
            <a:ext cx="854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acksboro Middle School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04:00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33:25 pm – Maximum ecli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9.3%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:57:42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Group 11"/>
          <p:cNvGrpSpPr/>
          <p:nvPr/>
        </p:nvGrpSpPr>
        <p:grpSpPr>
          <a:xfrm>
            <a:off x="5127480" y="673200"/>
            <a:ext cx="3765600" cy="3142080"/>
            <a:chOff x="5127480" y="673200"/>
            <a:chExt cx="3765600" cy="3142080"/>
          </a:xfrm>
        </p:grpSpPr>
        <p:sp>
          <p:nvSpPr>
            <p:cNvPr id="429" name="TextBox 2"/>
            <p:cNvSpPr/>
            <p:nvPr/>
          </p:nvSpPr>
          <p:spPr>
            <a:xfrm>
              <a:off x="5127480" y="673200"/>
              <a:ext cx="43956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2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Box 3"/>
            <p:cNvSpPr/>
            <p:nvPr/>
          </p:nvSpPr>
          <p:spPr>
            <a:xfrm>
              <a:off x="6276600" y="207324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9.3% parti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in crescent remains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still use eye protection or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2475000" y="2052720"/>
            <a:ext cx="3201840" cy="3201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177840" y="5318280"/>
            <a:ext cx="883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get noticeably dar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ird-looking shad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NOT see dark sky or Sun’s cor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20:53:04Z</dcterms:created>
  <dc:creator>Trial User</dc:creator>
  <dc:description/>
  <dc:language>en-US</dc:language>
  <cp:lastModifiedBy>Steve Robinson</cp:lastModifiedBy>
  <dcterms:modified xsi:type="dcterms:W3CDTF">2017-07-14T19:03:44Z</dcterms:modified>
  <cp:revision>119</cp:revision>
  <dc:subject/>
  <dc:title>Astronomy 1010</dc:title>
</cp:coreProperties>
</file>