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303-A23C-4B85-9620-A3809E7F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C18-82AF-4207-8EDE-9BF856EADE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D945-D5C6-4D44-B09C-0258566C8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FB87-918D-401E-8259-45853D90A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7E4-1C2C-48AA-8A94-916AE6A3E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4E88-3B24-4DAC-862E-13E12C10A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9B5-0B81-4D86-8484-6EA30FF34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FE4-0478-4578-9233-9E0A98A60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A1A-6457-4566-8B5A-4AF592DAB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6DA-D8F1-4E04-8424-7028BBAC6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AAC-ECAE-440F-8CA0-E8D9A3667F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74E3-B734-4CC0-B00F-39F67E9AA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B6CE-8CA4-4188-B370-9EAB92E55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55B7-9878-4C16-8990-3BC9B3DBD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861-5EE5-4C76-AA43-EA18FAFF4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A30-1C3B-4156-8B41-E0E86D30F1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8C0-CDDE-4213-AE36-955E663C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A0-9DDB-417F-A3E9-13EA22D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7E4-2476-4653-8D85-134B7F56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479-157D-4D9C-9934-F25F3D9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1DA-654B-4D2F-8B47-4B84FB03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194-2654-4347-9BDD-D562ACAF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1CE4-48FD-4364-B05E-BF12DA2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134-012E-4589-A372-66A7BE9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609-1397-48CD-8D86-C64A5BAB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02A-8D6D-4BE1-9CA9-06D0DEE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C46-A706-446B-8905-E07468F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411-5427-4AEF-8FC0-A8A7DB6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41F2-65B4-4077-8035-07E83A4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21D3-B8E1-462B-A379-F4C9031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5DC-0323-4908-AECE-CFC8088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AE6-64A9-4AD3-AEB3-D5058D25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3548-D206-4847-8F5D-6941283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AB0-3688-4A58-A091-F8615C8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82C-0B16-4C8C-8A67-2DA6919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C1B-2299-4CF2-89BA-1244E9C1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E22-76F1-40E2-874E-AF8D9E8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537-F6A0-442D-81E7-5AE7C17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638-35EA-42B2-AD5C-D9BECE1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C87-B84D-4991-94B3-4AFE11B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E834-1CD1-4719-97F5-A5E4A44BD9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F2C1-78F9-4B56-83E2-032A3A4D70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Freds_excellent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yw.iewatershed.com/media/060331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he Great American Eclips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gust 21, 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fe View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0" y="914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rtial pha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ny time Sun is not completely blocke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use special glasses or pinhole view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1"/>
          <a:srcRect l="0" t="32401" r="0" b="32989"/>
          <a:stretch/>
        </p:blipFill>
        <p:spPr>
          <a:xfrm>
            <a:off x="334800" y="2009880"/>
            <a:ext cx="8382240" cy="163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380880" y="2209680"/>
            <a:ext cx="3289320" cy="116388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5487840" y="2214720"/>
            <a:ext cx="3227400" cy="1163520"/>
          </a:xfrm>
          <a:prstGeom prst="rect">
            <a:avLst/>
          </a:prstGeom>
          <a:noFill/>
          <a:ln w="38160">
            <a:solidFill>
              <a:srgbClr val="ff0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95840" y="2206800"/>
            <a:ext cx="1544400" cy="1163520"/>
          </a:xfrm>
          <a:prstGeom prst="rect">
            <a:avLst/>
          </a:prstGeom>
          <a:noFill/>
          <a:ln w="38160">
            <a:solidFill>
              <a:srgbClr val="23f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1136520" y="3780000"/>
            <a:ext cx="3114720" cy="1573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9" descr=""/>
          <p:cNvPicPr/>
          <p:nvPr/>
        </p:nvPicPr>
        <p:blipFill>
          <a:blip r:embed="rId3"/>
          <a:stretch/>
        </p:blipFill>
        <p:spPr>
          <a:xfrm>
            <a:off x="4984920" y="3689280"/>
            <a:ext cx="3373200" cy="19065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52280" y="5799240"/>
            <a:ext cx="8686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otal eclipse is safe to view directly without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projector - bas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rcRect l="0" t="10475" r="0" b="10475"/>
          <a:stretch/>
        </p:blipFill>
        <p:spPr>
          <a:xfrm>
            <a:off x="609480" y="1371600"/>
            <a:ext cx="775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real box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447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6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inhole ‘viewer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518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ed from within the path of totality, the Moon completely blocks the main body of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a ‘black hole’ in the sk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ee planet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nd plants behave as if it’s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rcRect l="15494" t="16540" r="9923" b="11115"/>
          <a:stretch/>
        </p:blipFill>
        <p:spPr>
          <a:xfrm>
            <a:off x="1992240" y="3139920"/>
            <a:ext cx="5445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8"/>
          <p:cNvGrpSpPr/>
          <p:nvPr/>
        </p:nvGrpSpPr>
        <p:grpSpPr>
          <a:xfrm>
            <a:off x="533520" y="2971800"/>
            <a:ext cx="8381880" cy="2703600"/>
            <a:chOff x="533520" y="2971800"/>
            <a:chExt cx="8381880" cy="2703600"/>
          </a:xfrm>
        </p:grpSpPr>
        <p:pic>
          <p:nvPicPr>
            <p:cNvPr id="459" name="Picture 6" descr=""/>
            <p:cNvPicPr/>
            <p:nvPr/>
          </p:nvPicPr>
          <p:blipFill>
            <a:blip r:embed="rId1"/>
            <a:stretch/>
          </p:blipFill>
          <p:spPr>
            <a:xfrm>
              <a:off x="533520" y="2971800"/>
              <a:ext cx="838188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7"/>
            <p:cNvSpPr/>
            <p:nvPr/>
          </p:nvSpPr>
          <p:spPr>
            <a:xfrm>
              <a:off x="1279800" y="31082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rom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s details of the Su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ly too dim to s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study for very practical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0"/>
          <p:cNvGrpSpPr/>
          <p:nvPr/>
        </p:nvGrpSpPr>
        <p:grpSpPr>
          <a:xfrm>
            <a:off x="1676520" y="2666880"/>
            <a:ext cx="5649840" cy="3770280"/>
            <a:chOff x="1676520" y="2666880"/>
            <a:chExt cx="5649840" cy="377028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1676520" y="2666880"/>
              <a:ext cx="564984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9"/>
            <p:cNvSpPr/>
            <p:nvPr/>
          </p:nvSpPr>
          <p:spPr>
            <a:xfrm>
              <a:off x="2347920" y="2955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on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amond Ring Effe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patch of bright light shines through valley on edge of M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1895400" y="1992240"/>
            <a:ext cx="5896080" cy="39387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4173120" y="61563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imes New Roman"/>
                <a:hlinkClick r:id="rId2"/>
              </a:rPr>
              <a:t>Watch short movie of 1994 ecli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TU Tucker Stadium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:01:15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9:43 pm –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be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32:15 pm –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3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t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56:00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5378400" y="1038240"/>
            <a:ext cx="3308400" cy="1557000"/>
            <a:chOff x="5378400" y="1038240"/>
            <a:chExt cx="3308400" cy="1557000"/>
          </a:xfrm>
        </p:grpSpPr>
        <p:sp>
          <p:nvSpPr>
            <p:cNvPr id="473" name="TextBox 2"/>
            <p:cNvSpPr/>
            <p:nvPr/>
          </p:nvSpPr>
          <p:spPr>
            <a:xfrm>
              <a:off x="5378400" y="1038240"/>
              <a:ext cx="43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Box 3"/>
            <p:cNvSpPr/>
            <p:nvPr/>
          </p:nvSpPr>
          <p:spPr>
            <a:xfrm>
              <a:off x="6070320" y="160668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13"/>
          <p:cNvGrpSpPr/>
          <p:nvPr/>
        </p:nvGrpSpPr>
        <p:grpSpPr>
          <a:xfrm>
            <a:off x="5389560" y="3289320"/>
            <a:ext cx="3297240" cy="1557000"/>
            <a:chOff x="5389560" y="3289320"/>
            <a:chExt cx="3297240" cy="1557000"/>
          </a:xfrm>
        </p:grpSpPr>
        <p:sp>
          <p:nvSpPr>
            <p:cNvPr id="476" name="TextBox 5"/>
            <p:cNvSpPr/>
            <p:nvPr/>
          </p:nvSpPr>
          <p:spPr>
            <a:xfrm>
              <a:off x="5389560" y="32893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Box 9"/>
            <p:cNvSpPr/>
            <p:nvPr/>
          </p:nvSpPr>
          <p:spPr>
            <a:xfrm>
              <a:off x="6081480" y="3806640"/>
              <a:ext cx="26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4"/>
          <p:cNvGrpSpPr/>
          <p:nvPr/>
        </p:nvGrpSpPr>
        <p:grpSpPr>
          <a:xfrm>
            <a:off x="5372280" y="2133720"/>
            <a:ext cx="3147840" cy="1557000"/>
            <a:chOff x="5372280" y="2133720"/>
            <a:chExt cx="3147840" cy="1557000"/>
          </a:xfrm>
        </p:grpSpPr>
        <p:sp>
          <p:nvSpPr>
            <p:cNvPr id="479" name="TextBox 6"/>
            <p:cNvSpPr/>
            <p:nvPr/>
          </p:nvSpPr>
          <p:spPr>
            <a:xfrm>
              <a:off x="5372280" y="2133720"/>
              <a:ext cx="439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Box 10"/>
            <p:cNvSpPr/>
            <p:nvPr/>
          </p:nvSpPr>
          <p:spPr>
            <a:xfrm>
              <a:off x="6104160" y="2638440"/>
              <a:ext cx="241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Can view safely with naked ey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hadow hits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122480" y="1812960"/>
            <a:ext cx="757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ar system mod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Picture 11" descr=""/>
          <p:cNvPicPr/>
          <p:nvPr/>
        </p:nvPicPr>
        <p:blipFill>
          <a:blip r:embed="rId1"/>
          <a:stretch/>
        </p:blipFill>
        <p:spPr>
          <a:xfrm>
            <a:off x="1041480" y="1536840"/>
            <a:ext cx="7054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arth - Sun dist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4114800" cy="37843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380880" y="1752480"/>
            <a:ext cx="4419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closer in win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ignificant 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clim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002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te: This is a factor for some planets, but NOT Earth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is it warmer in summer for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rest of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54"/>
          <p:cNvSpPr/>
          <p:nvPr/>
        </p:nvSpPr>
        <p:spPr>
          <a:xfrm>
            <a:off x="3733920" y="3581280"/>
            <a:ext cx="1447560" cy="1447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447920"/>
              <a:gd name="textAreaBottom" fmla="*/ 1447920 h 1447920"/>
            </a:gdLst>
            <a:ahLst/>
            <a:rect l="textAreaLeft" t="textAreaTop" r="textAreaRight" b="textAreaBottom"/>
            <a:pathLst>
              <a:path w="912" h="816">
                <a:moveTo>
                  <a:pt x="864" y="0"/>
                </a:moveTo>
                <a:lnTo>
                  <a:pt x="0" y="384"/>
                </a:lnTo>
                <a:lnTo>
                  <a:pt x="912" y="816"/>
                </a:lnTo>
                <a:lnTo>
                  <a:pt x="864" y="0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Freeform 53"/>
          <p:cNvSpPr/>
          <p:nvPr/>
        </p:nvSpPr>
        <p:spPr>
          <a:xfrm>
            <a:off x="1295280" y="2971800"/>
            <a:ext cx="7696440" cy="380988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48" h="2352">
                <a:moveTo>
                  <a:pt x="0" y="0"/>
                </a:moveTo>
                <a:lnTo>
                  <a:pt x="4848" y="2352"/>
                </a:lnTo>
                <a:lnTo>
                  <a:pt x="3744" y="2352"/>
                </a:lnTo>
                <a:lnTo>
                  <a:pt x="0" y="1488"/>
                </a:lnTo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52"/>
          <p:cNvSpPr/>
          <p:nvPr/>
        </p:nvSpPr>
        <p:spPr>
          <a:xfrm>
            <a:off x="1295280" y="1600200"/>
            <a:ext cx="7925040" cy="380988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4896" h="2400">
                <a:moveTo>
                  <a:pt x="0" y="912"/>
                </a:moveTo>
                <a:lnTo>
                  <a:pt x="0" y="2400"/>
                </a:lnTo>
                <a:lnTo>
                  <a:pt x="4896" y="192"/>
                </a:lnTo>
                <a:lnTo>
                  <a:pt x="4368" y="0"/>
                </a:lnTo>
                <a:lnTo>
                  <a:pt x="0" y="912"/>
                </a:lnTo>
                <a:close/>
              </a:path>
            </a:pathLst>
          </a:cu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51"/>
          <p:cNvSpPr/>
          <p:nvPr/>
        </p:nvSpPr>
        <p:spPr>
          <a:xfrm>
            <a:off x="5181480" y="365760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2448" h="816">
                <a:moveTo>
                  <a:pt x="0" y="816"/>
                </a:moveTo>
                <a:lnTo>
                  <a:pt x="2448" y="480"/>
                </a:lnTo>
                <a:lnTo>
                  <a:pt x="2448" y="384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ght sources and shadow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9200" y="9727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light 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larg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zz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d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entral area smaller th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5"/>
          <p:cNvSpPr/>
          <p:nvPr/>
        </p:nvSpPr>
        <p:spPr>
          <a:xfrm>
            <a:off x="547560" y="3024360"/>
            <a:ext cx="1371600" cy="2361960"/>
          </a:xfrm>
          <a:prstGeom prst="ellipse">
            <a:avLst/>
          </a:prstGeom>
          <a:solidFill>
            <a:srgbClr val="fffe0a"/>
          </a:solidFill>
          <a:ln w="9360">
            <a:solidFill>
              <a:srgbClr val="fffe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4667400" y="3733920"/>
            <a:ext cx="1143000" cy="1143000"/>
          </a:xfrm>
          <a:prstGeom prst="ellipse">
            <a:avLst/>
          </a:prstGeom>
          <a:solidFill>
            <a:srgbClr val="6fa9b7"/>
          </a:solidFill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reeform 55"/>
          <p:cNvSpPr/>
          <p:nvPr/>
        </p:nvSpPr>
        <p:spPr>
          <a:xfrm>
            <a:off x="5181480" y="1905120"/>
            <a:ext cx="3962520" cy="2361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496" h="1488">
                <a:moveTo>
                  <a:pt x="2496" y="0"/>
                </a:moveTo>
                <a:lnTo>
                  <a:pt x="0" y="1104"/>
                </a:lnTo>
                <a:lnTo>
                  <a:pt x="2448" y="1488"/>
                </a:lnTo>
              </a:path>
            </a:pathLst>
          </a:custGeom>
          <a:gradFill rotWithShape="0">
            <a:gsLst>
              <a:gs pos="0">
                <a:srgbClr val="fffcca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reeform 56"/>
          <p:cNvSpPr/>
          <p:nvPr/>
        </p:nvSpPr>
        <p:spPr>
          <a:xfrm>
            <a:off x="5105520" y="4444920"/>
            <a:ext cx="3968640" cy="2489400"/>
          </a:xfrm>
          <a:custGeom>
            <a:avLst/>
            <a:gdLst>
              <a:gd name="textAreaLeft" fmla="*/ 0 w 3968640"/>
              <a:gd name="textAreaRight" fmla="*/ 3968640 w 3968640"/>
              <a:gd name="textAreaTop" fmla="*/ 0 h 2489400"/>
              <a:gd name="textAreaBottom" fmla="*/ 2489760 h 2489400"/>
            </a:gdLst>
            <a:ahLst/>
            <a:rect l="textAreaLeft" t="textAreaTop" r="textAreaRight" b="textAreaBottom"/>
            <a:pathLst>
              <a:path w="2451" h="1485">
                <a:moveTo>
                  <a:pt x="0" y="271"/>
                </a:moveTo>
                <a:lnTo>
                  <a:pt x="2451" y="0"/>
                </a:lnTo>
                <a:lnTo>
                  <a:pt x="2426" y="1485"/>
                </a:lnTo>
                <a:lnTo>
                  <a:pt x="0" y="271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fffc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57"/>
          <p:cNvSpPr/>
          <p:nvPr/>
        </p:nvSpPr>
        <p:spPr>
          <a:xfrm>
            <a:off x="678276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58"/>
          <p:cNvSpPr/>
          <p:nvPr/>
        </p:nvSpPr>
        <p:spPr>
          <a:xfrm>
            <a:off x="6096960" y="5943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59"/>
          <p:cNvSpPr/>
          <p:nvPr/>
        </p:nvSpPr>
        <p:spPr>
          <a:xfrm>
            <a:off x="6402240" y="4114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No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60"/>
          <p:cNvSpPr/>
          <p:nvPr/>
        </p:nvSpPr>
        <p:spPr>
          <a:xfrm>
            <a:off x="7315200" y="320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61"/>
          <p:cNvSpPr/>
          <p:nvPr/>
        </p:nvSpPr>
        <p:spPr>
          <a:xfrm>
            <a:off x="7315200" y="49528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cca"/>
                </a:solidFill>
                <a:latin typeface="Times New Roman"/>
              </a:rPr>
              <a:t>Som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zzy shadow patter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1752480"/>
            <a:ext cx="7848720" cy="4419720"/>
          </a:xfrm>
          <a:prstGeom prst="rect">
            <a:avLst/>
          </a:prstGeom>
          <a:solidFill>
            <a:srgbClr val="fff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590920" y="1752480"/>
            <a:ext cx="4343400" cy="4343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e9e7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3c14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343400" y="3505320"/>
            <a:ext cx="838080" cy="838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3080" y="37339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0399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um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4480" y="2952720"/>
            <a:ext cx="5594400" cy="37656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on’s shado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1600" y="1117440"/>
            <a:ext cx="854100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as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dark area (umbra) will be ~80 miles acro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s across Earth’s face at ~2000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small area experiences this for a shor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larger area experiences ‘fuzzy shadow’ (penumb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t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hadow crosses face of Earth it traces out the ‘Path of Totality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312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05720" cy="5076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519120" y="1182600"/>
            <a:ext cx="80564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1600" y="218880"/>
            <a:ext cx="854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cksboro Middle School - Monday, August 21, 20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5440" y="974880"/>
            <a:ext cx="9088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To nearest second - times vary slightly depending on exact location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04:00 pm –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st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33:25 pm – Maximum ecli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9.3%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:57:42 pm –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(C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al Eclipse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11"/>
          <p:cNvGrpSpPr/>
          <p:nvPr/>
        </p:nvGrpSpPr>
        <p:grpSpPr>
          <a:xfrm>
            <a:off x="5127480" y="673200"/>
            <a:ext cx="3765600" cy="3142080"/>
            <a:chOff x="5127480" y="673200"/>
            <a:chExt cx="3765600" cy="3142080"/>
          </a:xfrm>
        </p:grpSpPr>
        <p:sp>
          <p:nvSpPr>
            <p:cNvPr id="429" name="TextBox 2"/>
            <p:cNvSpPr/>
            <p:nvPr/>
          </p:nvSpPr>
          <p:spPr>
            <a:xfrm>
              <a:off x="5127480" y="673200"/>
              <a:ext cx="43956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2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6276600" y="2073240"/>
              <a:ext cx="261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59"/>
                  </a:solidFill>
                  <a:latin typeface="Times New Roman"/>
                </a:rPr>
                <a:t>MUST use eclipse glasses or view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9.3% partial eclip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in crescent remains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still use eye protection or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2475000" y="2052720"/>
            <a:ext cx="3201840" cy="3201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177840" y="53182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get noticeably dar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ird-looking shad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 NOT see dark sky or Sun’s co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20:53:04Z</dcterms:created>
  <dc:creator>Trial User</dc:creator>
  <dc:description/>
  <dc:language>en-US</dc:language>
  <cp:lastModifiedBy>Steve Robinson</cp:lastModifiedBy>
  <dcterms:modified xsi:type="dcterms:W3CDTF">2017-07-14T19:03:44Z</dcterms:modified>
  <cp:revision>119</cp:revision>
  <dc:subject/>
  <dc:title>Astronomy 1010</dc:title>
</cp:coreProperties>
</file>