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16E-3D6D-4ED4-A4AA-C28EFA4EF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6DB6-5484-4C8D-B27C-9DD81DD3BB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995-8384-4E77-AADC-22E19EC99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1A2-7977-4DAF-97CA-80E9EE1864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7201-6901-4E5B-AB53-95F62A871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E49-596E-4C71-A79D-15C68B28B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C572-DE66-424F-B89C-29C697193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D541-E45C-40CE-9645-FE262A77F4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9B52-8E16-4699-B90C-E64CB22C4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F9C0-55B5-491E-9BE4-9297B48C3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0D1F-D290-4A0F-BAD4-4BA50ED1D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D33-8A40-4654-B151-2CAB16FAE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7578-6F2A-4364-A55A-EB99E77D4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6D49-1E2A-4A7A-9A56-1BAA9BEF61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640B-BD52-47B9-A730-095A99B76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EBC4-33A0-46EF-8150-91649CBF9C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83A-8D81-4505-B102-3B675B6F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B3D-B89F-497F-86B9-6F41371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586-5BF1-40E4-86BC-BCADB01D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891-ACC6-4B0B-9961-A3BF625A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04BC-CD2B-4215-97CC-FDEDB04D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D86-010F-40BB-8A26-BF0F53E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08CB-6529-4524-9E5D-4FA556BA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00A4-1D2C-4E72-A92B-0F65FBC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440C-A748-4218-A46D-308102C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1E3-EEC2-4367-A49A-9C42C431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198A-B1E6-458E-96C9-1B942A20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34C-FF6E-415B-848A-0611977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622-B32C-4DCF-BACC-4BADC6A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F2F2-1777-4977-A5CF-74541EB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1031-5815-42D8-94AD-26BAEC57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C506-CA04-4E25-886B-55C5FDD2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F184-482A-45B3-A1A1-DACCDC96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F25-4AAB-4C55-B033-9810D58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DAB-FE75-4FB7-8790-FFE3CC83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C43-59E3-4FB9-97F4-8DAF2104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27C-1F5C-4A40-A8CD-93534EB2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E7E-6B0C-4558-9E7D-786B9D81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8A4-7B36-4C4A-AFA8-A9090B9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4EC-48DF-4373-B190-36723045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4017-B2A7-4457-A585-E4BADEA62A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5F2B-7326-492F-8AD7-4B6780EB53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Freds_excellent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yw.iewatershed.com/media/060331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he Great American Eclips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gust 21, 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afe View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0" y="9144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rtial pha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ny time Sun is not completely blocke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use special glasses or pinhole vie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1"/>
          <a:srcRect l="0" t="32401" r="0" b="32989"/>
          <a:stretch/>
        </p:blipFill>
        <p:spPr>
          <a:xfrm>
            <a:off x="334800" y="2009880"/>
            <a:ext cx="8382240" cy="163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380880" y="2209680"/>
            <a:ext cx="3289320" cy="116388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5487840" y="2214720"/>
            <a:ext cx="3227400" cy="116352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95840" y="2206800"/>
            <a:ext cx="1544400" cy="1163520"/>
          </a:xfrm>
          <a:prstGeom prst="rect">
            <a:avLst/>
          </a:prstGeom>
          <a:noFill/>
          <a:ln w="38160">
            <a:solidFill>
              <a:srgbClr val="23f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1136520" y="3780000"/>
            <a:ext cx="3114720" cy="1573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9" descr=""/>
          <p:cNvPicPr/>
          <p:nvPr/>
        </p:nvPicPr>
        <p:blipFill>
          <a:blip r:embed="rId3"/>
          <a:stretch/>
        </p:blipFill>
        <p:spPr>
          <a:xfrm>
            <a:off x="4984920" y="3689280"/>
            <a:ext cx="3373200" cy="19065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52280" y="5799240"/>
            <a:ext cx="8686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otal eclipse is safe to view directly without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projector - bas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rcRect l="0" t="10475" r="0" b="10475"/>
          <a:stretch/>
        </p:blipFill>
        <p:spPr>
          <a:xfrm>
            <a:off x="609480" y="1371600"/>
            <a:ext cx="775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real box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7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56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518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ed from within the path of totality, the Moon completely blocks the main body of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a ‘black hole’ in the sk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ee planet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nd plants behave as if it’s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1"/>
          <a:srcRect l="15494" t="16540" r="9923" b="11115"/>
          <a:stretch/>
        </p:blipFill>
        <p:spPr>
          <a:xfrm>
            <a:off x="1992240" y="3139920"/>
            <a:ext cx="5445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8"/>
          <p:cNvGrpSpPr/>
          <p:nvPr/>
        </p:nvGrpSpPr>
        <p:grpSpPr>
          <a:xfrm>
            <a:off x="533520" y="2971800"/>
            <a:ext cx="8381880" cy="2703600"/>
            <a:chOff x="533520" y="2971800"/>
            <a:chExt cx="8381880" cy="2703600"/>
          </a:xfrm>
        </p:grpSpPr>
        <p:pic>
          <p:nvPicPr>
            <p:cNvPr id="459" name="Picture 6" descr=""/>
            <p:cNvPicPr/>
            <p:nvPr/>
          </p:nvPicPr>
          <p:blipFill>
            <a:blip r:embed="rId1"/>
            <a:stretch/>
          </p:blipFill>
          <p:spPr>
            <a:xfrm>
              <a:off x="533520" y="2971800"/>
              <a:ext cx="838188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7"/>
            <p:cNvSpPr/>
            <p:nvPr/>
          </p:nvSpPr>
          <p:spPr>
            <a:xfrm>
              <a:off x="1279800" y="31082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romosp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s details of the Su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ly too dim to s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study for very practical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0"/>
          <p:cNvGrpSpPr/>
          <p:nvPr/>
        </p:nvGrpSpPr>
        <p:grpSpPr>
          <a:xfrm>
            <a:off x="1676520" y="2666880"/>
            <a:ext cx="5649840" cy="3770280"/>
            <a:chOff x="1676520" y="2666880"/>
            <a:chExt cx="5649840" cy="377028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1676520" y="2666880"/>
              <a:ext cx="564984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9"/>
            <p:cNvSpPr/>
            <p:nvPr/>
          </p:nvSpPr>
          <p:spPr>
            <a:xfrm>
              <a:off x="2347920" y="2955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o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amond Ring Effe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patch of bright light shines through valley on edge of M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1895400" y="1992240"/>
            <a:ext cx="5896080" cy="39387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4173120" y="61563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imes New Roman"/>
                <a:hlinkClick r:id="rId2"/>
              </a:rPr>
              <a:t>Watch short movie of 1994 ecli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TU Tucker Stadium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:01:15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9:43 pm –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be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32:15 pm –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3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56:00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11"/>
          <p:cNvGrpSpPr/>
          <p:nvPr/>
        </p:nvGrpSpPr>
        <p:grpSpPr>
          <a:xfrm>
            <a:off x="5378400" y="1038240"/>
            <a:ext cx="3308400" cy="1557000"/>
            <a:chOff x="5378400" y="1038240"/>
            <a:chExt cx="3308400" cy="1557000"/>
          </a:xfrm>
        </p:grpSpPr>
        <p:sp>
          <p:nvSpPr>
            <p:cNvPr id="473" name="TextBox 2"/>
            <p:cNvSpPr/>
            <p:nvPr/>
          </p:nvSpPr>
          <p:spPr>
            <a:xfrm>
              <a:off x="5378400" y="1038240"/>
              <a:ext cx="43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Box 3"/>
            <p:cNvSpPr/>
            <p:nvPr/>
          </p:nvSpPr>
          <p:spPr>
            <a:xfrm>
              <a:off x="6070320" y="160668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13"/>
          <p:cNvGrpSpPr/>
          <p:nvPr/>
        </p:nvGrpSpPr>
        <p:grpSpPr>
          <a:xfrm>
            <a:off x="5389560" y="3289320"/>
            <a:ext cx="3297240" cy="1557000"/>
            <a:chOff x="5389560" y="3289320"/>
            <a:chExt cx="3297240" cy="1557000"/>
          </a:xfrm>
        </p:grpSpPr>
        <p:sp>
          <p:nvSpPr>
            <p:cNvPr id="476" name="TextBox 5"/>
            <p:cNvSpPr/>
            <p:nvPr/>
          </p:nvSpPr>
          <p:spPr>
            <a:xfrm>
              <a:off x="5389560" y="32893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Box 9"/>
            <p:cNvSpPr/>
            <p:nvPr/>
          </p:nvSpPr>
          <p:spPr>
            <a:xfrm>
              <a:off x="6081480" y="3806640"/>
              <a:ext cx="26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14"/>
          <p:cNvGrpSpPr/>
          <p:nvPr/>
        </p:nvGrpSpPr>
        <p:grpSpPr>
          <a:xfrm>
            <a:off x="5372280" y="2133720"/>
            <a:ext cx="3147840" cy="1557000"/>
            <a:chOff x="5372280" y="2133720"/>
            <a:chExt cx="3147840" cy="1557000"/>
          </a:xfrm>
        </p:grpSpPr>
        <p:sp>
          <p:nvSpPr>
            <p:cNvPr id="479" name="TextBox 6"/>
            <p:cNvSpPr/>
            <p:nvPr/>
          </p:nvSpPr>
          <p:spPr>
            <a:xfrm>
              <a:off x="5372280" y="21337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Box 10"/>
            <p:cNvSpPr/>
            <p:nvPr/>
          </p:nvSpPr>
          <p:spPr>
            <a:xfrm>
              <a:off x="6104160" y="2638440"/>
              <a:ext cx="241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Can view safely with naked ey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o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hadow hits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122480" y="1812960"/>
            <a:ext cx="757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system mod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Picture 11" descr=""/>
          <p:cNvPicPr/>
          <p:nvPr/>
        </p:nvPicPr>
        <p:blipFill>
          <a:blip r:embed="rId1"/>
          <a:stretch/>
        </p:blipFill>
        <p:spPr>
          <a:xfrm>
            <a:off x="1041480" y="1536840"/>
            <a:ext cx="7054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rth - Sun dist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4114800" cy="37843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380880" y="1752480"/>
            <a:ext cx="44197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closer in win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ignificant effe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clim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te: This is a factor for some planets, but NOT Earth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is it warmer in summer for 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rest of ac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54"/>
          <p:cNvSpPr/>
          <p:nvPr/>
        </p:nvSpPr>
        <p:spPr>
          <a:xfrm>
            <a:off x="3733920" y="3581280"/>
            <a:ext cx="1447560" cy="14479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447920"/>
              <a:gd name="textAreaBottom" fmla="*/ 1447920 h 1447920"/>
            </a:gdLst>
            <a:ahLst/>
            <a:rect l="textAreaLeft" t="textAreaTop" r="textAreaRight" b="textAreaBottom"/>
            <a:pathLst>
              <a:path w="912" h="816">
                <a:moveTo>
                  <a:pt x="864" y="0"/>
                </a:moveTo>
                <a:lnTo>
                  <a:pt x="0" y="384"/>
                </a:lnTo>
                <a:lnTo>
                  <a:pt x="912" y="816"/>
                </a:lnTo>
                <a:lnTo>
                  <a:pt x="864" y="0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Freeform 53"/>
          <p:cNvSpPr/>
          <p:nvPr/>
        </p:nvSpPr>
        <p:spPr>
          <a:xfrm>
            <a:off x="1295280" y="2971800"/>
            <a:ext cx="7696440" cy="380988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48" h="2352">
                <a:moveTo>
                  <a:pt x="0" y="0"/>
                </a:moveTo>
                <a:lnTo>
                  <a:pt x="4848" y="2352"/>
                </a:lnTo>
                <a:lnTo>
                  <a:pt x="3744" y="2352"/>
                </a:lnTo>
                <a:lnTo>
                  <a:pt x="0" y="1488"/>
                </a:lnTo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52"/>
          <p:cNvSpPr/>
          <p:nvPr/>
        </p:nvSpPr>
        <p:spPr>
          <a:xfrm>
            <a:off x="1295280" y="1600200"/>
            <a:ext cx="7925040" cy="380988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96" h="2400">
                <a:moveTo>
                  <a:pt x="0" y="912"/>
                </a:moveTo>
                <a:lnTo>
                  <a:pt x="0" y="2400"/>
                </a:lnTo>
                <a:lnTo>
                  <a:pt x="4896" y="192"/>
                </a:lnTo>
                <a:lnTo>
                  <a:pt x="4368" y="0"/>
                </a:lnTo>
                <a:lnTo>
                  <a:pt x="0" y="912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51"/>
          <p:cNvSpPr/>
          <p:nvPr/>
        </p:nvSpPr>
        <p:spPr>
          <a:xfrm>
            <a:off x="5181480" y="3657600"/>
            <a:ext cx="3886200" cy="12952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2448" h="816">
                <a:moveTo>
                  <a:pt x="0" y="816"/>
                </a:moveTo>
                <a:lnTo>
                  <a:pt x="2448" y="480"/>
                </a:lnTo>
                <a:lnTo>
                  <a:pt x="2448" y="384"/>
                </a:lnTo>
                <a:lnTo>
                  <a:pt x="0" y="0"/>
                </a:lnTo>
                <a:lnTo>
                  <a:pt x="0" y="81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ght sources and shadow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9200" y="9727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light 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larg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zz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d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entral area smaller th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547560" y="3024360"/>
            <a:ext cx="1371600" cy="2361960"/>
          </a:xfrm>
          <a:prstGeom prst="ellipse">
            <a:avLst/>
          </a:prstGeom>
          <a:solidFill>
            <a:srgbClr val="fffe0a"/>
          </a:solidFill>
          <a:ln w="9360">
            <a:solidFill>
              <a:srgbClr val="fffe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4667400" y="3733920"/>
            <a:ext cx="1143000" cy="1143000"/>
          </a:xfrm>
          <a:prstGeom prst="ellipse">
            <a:avLst/>
          </a:prstGeom>
          <a:solidFill>
            <a:srgbClr val="6fa9b7"/>
          </a:solidFill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reeform 55"/>
          <p:cNvSpPr/>
          <p:nvPr/>
        </p:nvSpPr>
        <p:spPr>
          <a:xfrm>
            <a:off x="5181480" y="1905120"/>
            <a:ext cx="3962520" cy="2361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496" h="1488">
                <a:moveTo>
                  <a:pt x="2496" y="0"/>
                </a:moveTo>
                <a:lnTo>
                  <a:pt x="0" y="1104"/>
                </a:lnTo>
                <a:lnTo>
                  <a:pt x="2448" y="1488"/>
                </a:lnTo>
              </a:path>
            </a:pathLst>
          </a:custGeom>
          <a:gradFill rotWithShape="0">
            <a:gsLst>
              <a:gs pos="0">
                <a:srgbClr val="fffcca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reeform 56"/>
          <p:cNvSpPr/>
          <p:nvPr/>
        </p:nvSpPr>
        <p:spPr>
          <a:xfrm>
            <a:off x="5105520" y="4444920"/>
            <a:ext cx="3968640" cy="2489400"/>
          </a:xfrm>
          <a:custGeom>
            <a:avLst/>
            <a:gdLst>
              <a:gd name="textAreaLeft" fmla="*/ 0 w 3968640"/>
              <a:gd name="textAreaRight" fmla="*/ 3968640 w 3968640"/>
              <a:gd name="textAreaTop" fmla="*/ 0 h 2489400"/>
              <a:gd name="textAreaBottom" fmla="*/ 2489760 h 2489400"/>
            </a:gdLst>
            <a:ahLst/>
            <a:rect l="textAreaLeft" t="textAreaTop" r="textAreaRight" b="textAreaBottom"/>
            <a:pathLst>
              <a:path w="2451" h="1485">
                <a:moveTo>
                  <a:pt x="0" y="271"/>
                </a:moveTo>
                <a:lnTo>
                  <a:pt x="2451" y="0"/>
                </a:lnTo>
                <a:lnTo>
                  <a:pt x="2426" y="1485"/>
                </a:lnTo>
                <a:lnTo>
                  <a:pt x="0" y="271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fffc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57"/>
          <p:cNvSpPr/>
          <p:nvPr/>
        </p:nvSpPr>
        <p:spPr>
          <a:xfrm>
            <a:off x="678276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58"/>
          <p:cNvSpPr/>
          <p:nvPr/>
        </p:nvSpPr>
        <p:spPr>
          <a:xfrm>
            <a:off x="6096960" y="5943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59"/>
          <p:cNvSpPr/>
          <p:nvPr/>
        </p:nvSpPr>
        <p:spPr>
          <a:xfrm>
            <a:off x="6402240" y="4114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No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60"/>
          <p:cNvSpPr/>
          <p:nvPr/>
        </p:nvSpPr>
        <p:spPr>
          <a:xfrm>
            <a:off x="7315200" y="320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61"/>
          <p:cNvSpPr/>
          <p:nvPr/>
        </p:nvSpPr>
        <p:spPr>
          <a:xfrm>
            <a:off x="7315200" y="49528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zzy shadow patter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1752480"/>
            <a:ext cx="7848720" cy="4419720"/>
          </a:xfrm>
          <a:prstGeom prst="rect">
            <a:avLst/>
          </a:pr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590920" y="1752480"/>
            <a:ext cx="4343400" cy="4343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e9e7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3c14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343400" y="3505320"/>
            <a:ext cx="838080" cy="838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3080" y="3733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03992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4480" y="2952720"/>
            <a:ext cx="5594400" cy="37656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on’s shado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1600" y="1117440"/>
            <a:ext cx="85410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as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dark area (umbra) will be ~80 miles acro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s across Earth’s face at ~2000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small area experiences this for a shor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larger area experiences ‘fuzzy shadow’ (penumb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shadow crosses face of Earth it traces out the ‘Path of Totality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6312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05720" cy="5076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519120" y="1182600"/>
            <a:ext cx="80564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1600" y="218880"/>
            <a:ext cx="854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acksboro Middle School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04:00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33:25 pm – Maximum ecli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9.3%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:57:42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Group 11"/>
          <p:cNvGrpSpPr/>
          <p:nvPr/>
        </p:nvGrpSpPr>
        <p:grpSpPr>
          <a:xfrm>
            <a:off x="5127480" y="673200"/>
            <a:ext cx="3765600" cy="3142080"/>
            <a:chOff x="5127480" y="673200"/>
            <a:chExt cx="3765600" cy="3142080"/>
          </a:xfrm>
        </p:grpSpPr>
        <p:sp>
          <p:nvSpPr>
            <p:cNvPr id="429" name="TextBox 2"/>
            <p:cNvSpPr/>
            <p:nvPr/>
          </p:nvSpPr>
          <p:spPr>
            <a:xfrm>
              <a:off x="5127480" y="673200"/>
              <a:ext cx="4395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2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6276600" y="207324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9.3% parti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in crescent remains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still use eye protection or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2475000" y="2052720"/>
            <a:ext cx="3201840" cy="3201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177840" y="53182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get noticeably dar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ird-looking shad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NOT see dark sky or Sun’s cor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20:53:04Z</dcterms:created>
  <dc:creator>Trial User</dc:creator>
  <dc:description/>
  <dc:language>en-US</dc:language>
  <cp:lastModifiedBy>Steve Robinson</cp:lastModifiedBy>
  <dcterms:modified xsi:type="dcterms:W3CDTF">2017-07-14T19:03:44Z</dcterms:modified>
  <cp:revision>119</cp:revision>
  <dc:subject/>
  <dc:title>Astronomy 1010</dc:title>
</cp:coreProperties>
</file>