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1BA8-826A-435C-A836-FC15E80B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E5C-9B73-4F9D-A0BB-7004EE51DF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3C8-6E9D-4AE3-A21F-04C9D7F50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192C-374A-482E-B614-02E0F3AC6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884-DE65-42B1-8D7D-5508D8B84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83F-49B6-40DF-B91E-767015D5B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1D0-2561-467F-BB66-2A24788548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AF1-5962-4FC1-BFD1-66FDF4DE9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5691-1936-448E-9DB7-9CA5203BF7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CC0-0EDD-460D-B687-68F9D5313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876-C446-43BE-B5FE-86520210D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968-64A8-49A9-8D0C-2633BD65B9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249-CC9A-4DC1-8B7E-2843EF5AA4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DBD-B51A-4AB0-B576-82797E87B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B25-EF3F-4C16-9199-47CB8E22E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A7F-9EC1-455E-8F27-EEA628893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2C7-F30F-4BBC-851C-1A1DE1A1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E6E-58F6-4B92-825F-C06E75A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BCF-CF19-4C8C-A493-67D80176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96E-C2A4-4635-9D2F-7E6ADCAB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F06-9F7F-4838-B6B4-170CC06A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C46-921A-4983-8327-F371DCAB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9F9-9C54-45DE-81F2-F40712CA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1FE7-AEB1-4F57-AE8E-DCDB271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AC2-6FA8-44CD-91E2-291E3B5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7AC-2586-4652-8149-BA9587D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8D4-B007-4B1B-B9DA-F8C5B01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80F-BA19-4674-9183-2F35A376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3F4-81B6-4196-B795-2ACEDEC8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78AA-E0B3-448F-8B0D-BC1101D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1B78-72C5-4DB4-B5EC-3897B75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D87-1A5E-4EFC-A0DD-600AC158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B233-5EFC-410F-B356-F6E8A34A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418-B7FF-4DA3-8A32-B3EE383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D25-C202-4140-9DC6-269F57B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9C2-962E-4837-8B5E-237CC7DF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996-1570-4085-BBA0-AD29CD2A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CC8-CC57-4497-9845-51B62AD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244-60FC-4579-9A9E-83A70A7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172-2545-4F56-8546-AE7A22C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F66-8D36-4016-AA75-96D5BB162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33E8-F2C1-4507-826B-36776685FA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Freds_excellent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yw.iewatershed.com/media/060331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he Great American Eclips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gust 21, 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fe View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0" y="914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rtial pha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ny time Sun is not completely blocke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use special glasses or pinhole vie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1"/>
          <a:srcRect l="0" t="32401" r="0" b="32989"/>
          <a:stretch/>
        </p:blipFill>
        <p:spPr>
          <a:xfrm>
            <a:off x="334800" y="2009880"/>
            <a:ext cx="8382240" cy="163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380880" y="2209680"/>
            <a:ext cx="3289320" cy="116388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5487840" y="2214720"/>
            <a:ext cx="3227400" cy="116352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95840" y="2206800"/>
            <a:ext cx="1544400" cy="1163520"/>
          </a:xfrm>
          <a:prstGeom prst="rect">
            <a:avLst/>
          </a:prstGeom>
          <a:noFill/>
          <a:ln w="38160">
            <a:solidFill>
              <a:srgbClr val="23f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1136520" y="3780000"/>
            <a:ext cx="3114720" cy="1573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9" descr=""/>
          <p:cNvPicPr/>
          <p:nvPr/>
        </p:nvPicPr>
        <p:blipFill>
          <a:blip r:embed="rId3"/>
          <a:stretch/>
        </p:blipFill>
        <p:spPr>
          <a:xfrm>
            <a:off x="4984920" y="3689280"/>
            <a:ext cx="3373200" cy="19065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52280" y="5799240"/>
            <a:ext cx="8686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otal eclipse is safe to view directly without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projector - bas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rcRect l="0" t="10475" r="0" b="10475"/>
          <a:stretch/>
        </p:blipFill>
        <p:spPr>
          <a:xfrm>
            <a:off x="609480" y="1371600"/>
            <a:ext cx="775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real box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7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6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518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d from within the path of totality, the Moon completely blocks the main body of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a ‘black hole’ in the sk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ee planet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behave as if it’s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rcRect l="15494" t="16540" r="9923" b="11115"/>
          <a:stretch/>
        </p:blipFill>
        <p:spPr>
          <a:xfrm>
            <a:off x="1992240" y="3139920"/>
            <a:ext cx="5445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8"/>
          <p:cNvGrpSpPr/>
          <p:nvPr/>
        </p:nvGrpSpPr>
        <p:grpSpPr>
          <a:xfrm>
            <a:off x="533520" y="2971800"/>
            <a:ext cx="8381880" cy="2703600"/>
            <a:chOff x="533520" y="2971800"/>
            <a:chExt cx="8381880" cy="2703600"/>
          </a:xfrm>
        </p:grpSpPr>
        <p:pic>
          <p:nvPicPr>
            <p:cNvPr id="459" name="Picture 6" descr="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838188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7"/>
            <p:cNvSpPr/>
            <p:nvPr/>
          </p:nvSpPr>
          <p:spPr>
            <a:xfrm>
              <a:off x="1279800" y="31082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rom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s details of the Su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ly too dim to s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study for very practical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0"/>
          <p:cNvGrpSpPr/>
          <p:nvPr/>
        </p:nvGrpSpPr>
        <p:grpSpPr>
          <a:xfrm>
            <a:off x="1676520" y="2666880"/>
            <a:ext cx="5649840" cy="3770280"/>
            <a:chOff x="1676520" y="2666880"/>
            <a:chExt cx="5649840" cy="377028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1676520" y="2666880"/>
              <a:ext cx="564984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9"/>
            <p:cNvSpPr/>
            <p:nvPr/>
          </p:nvSpPr>
          <p:spPr>
            <a:xfrm>
              <a:off x="2347920" y="2955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o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amond Ring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tch of bright light shines through valley on edge of M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895400" y="1992240"/>
            <a:ext cx="5896080" cy="39387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4173120" y="61563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Watch short movie of 1994 ecli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TU Tucker Stadium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:01:15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9:43 pm –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be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32:15 pm –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3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56:00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5378400" y="1038240"/>
            <a:ext cx="3308400" cy="1557000"/>
            <a:chOff x="5378400" y="1038240"/>
            <a:chExt cx="3308400" cy="1557000"/>
          </a:xfrm>
        </p:grpSpPr>
        <p:sp>
          <p:nvSpPr>
            <p:cNvPr id="473" name="TextBox 2"/>
            <p:cNvSpPr/>
            <p:nvPr/>
          </p:nvSpPr>
          <p:spPr>
            <a:xfrm>
              <a:off x="5378400" y="1038240"/>
              <a:ext cx="43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Box 3"/>
            <p:cNvSpPr/>
            <p:nvPr/>
          </p:nvSpPr>
          <p:spPr>
            <a:xfrm>
              <a:off x="6070320" y="160668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13"/>
          <p:cNvGrpSpPr/>
          <p:nvPr/>
        </p:nvGrpSpPr>
        <p:grpSpPr>
          <a:xfrm>
            <a:off x="5389560" y="3289320"/>
            <a:ext cx="3297240" cy="1557000"/>
            <a:chOff x="5389560" y="3289320"/>
            <a:chExt cx="3297240" cy="1557000"/>
          </a:xfrm>
        </p:grpSpPr>
        <p:sp>
          <p:nvSpPr>
            <p:cNvPr id="476" name="TextBox 5"/>
            <p:cNvSpPr/>
            <p:nvPr/>
          </p:nvSpPr>
          <p:spPr>
            <a:xfrm>
              <a:off x="5389560" y="32893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Box 9"/>
            <p:cNvSpPr/>
            <p:nvPr/>
          </p:nvSpPr>
          <p:spPr>
            <a:xfrm>
              <a:off x="6081480" y="3806640"/>
              <a:ext cx="26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4"/>
          <p:cNvGrpSpPr/>
          <p:nvPr/>
        </p:nvGrpSpPr>
        <p:grpSpPr>
          <a:xfrm>
            <a:off x="5372280" y="2133720"/>
            <a:ext cx="3147840" cy="1557000"/>
            <a:chOff x="5372280" y="2133720"/>
            <a:chExt cx="3147840" cy="1557000"/>
          </a:xfrm>
        </p:grpSpPr>
        <p:sp>
          <p:nvSpPr>
            <p:cNvPr id="479" name="TextBox 6"/>
            <p:cNvSpPr/>
            <p:nvPr/>
          </p:nvSpPr>
          <p:spPr>
            <a:xfrm>
              <a:off x="5372280" y="21337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Box 10"/>
            <p:cNvSpPr/>
            <p:nvPr/>
          </p:nvSpPr>
          <p:spPr>
            <a:xfrm>
              <a:off x="6104160" y="2638440"/>
              <a:ext cx="241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Can view safely with naked ey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hadow hits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122480" y="1812960"/>
            <a:ext cx="757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system mod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Picture 11" descr=""/>
          <p:cNvPicPr/>
          <p:nvPr/>
        </p:nvPicPr>
        <p:blipFill>
          <a:blip r:embed="rId1"/>
          <a:stretch/>
        </p:blipFill>
        <p:spPr>
          <a:xfrm>
            <a:off x="1041480" y="1536840"/>
            <a:ext cx="70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th - Sun dist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4114800" cy="37843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380880" y="1752480"/>
            <a:ext cx="4419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closer in win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ignificant 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clim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te: This is a factor for some planets, but NOT Earth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it warmer in summer for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rest of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54"/>
          <p:cNvSpPr/>
          <p:nvPr/>
        </p:nvSpPr>
        <p:spPr>
          <a:xfrm>
            <a:off x="3733920" y="3581280"/>
            <a:ext cx="1447560" cy="1447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447920"/>
              <a:gd name="textAreaBottom" fmla="*/ 1447920 h 1447920"/>
            </a:gdLst>
            <a:ahLst/>
            <a:rect l="textAreaLeft" t="textAreaTop" r="textAreaRight" b="textAreaBottom"/>
            <a:pathLst>
              <a:path w="912" h="816">
                <a:moveTo>
                  <a:pt x="864" y="0"/>
                </a:moveTo>
                <a:lnTo>
                  <a:pt x="0" y="384"/>
                </a:lnTo>
                <a:lnTo>
                  <a:pt x="912" y="816"/>
                </a:lnTo>
                <a:lnTo>
                  <a:pt x="864" y="0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Freeform 53"/>
          <p:cNvSpPr/>
          <p:nvPr/>
        </p:nvSpPr>
        <p:spPr>
          <a:xfrm>
            <a:off x="1295280" y="2971800"/>
            <a:ext cx="7696440" cy="380988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48" h="2352">
                <a:moveTo>
                  <a:pt x="0" y="0"/>
                </a:moveTo>
                <a:lnTo>
                  <a:pt x="4848" y="2352"/>
                </a:lnTo>
                <a:lnTo>
                  <a:pt x="3744" y="2352"/>
                </a:lnTo>
                <a:lnTo>
                  <a:pt x="0" y="1488"/>
                </a:lnTo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52"/>
          <p:cNvSpPr/>
          <p:nvPr/>
        </p:nvSpPr>
        <p:spPr>
          <a:xfrm>
            <a:off x="1295280" y="1600200"/>
            <a:ext cx="7925040" cy="380988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96" h="2400">
                <a:moveTo>
                  <a:pt x="0" y="912"/>
                </a:moveTo>
                <a:lnTo>
                  <a:pt x="0" y="2400"/>
                </a:lnTo>
                <a:lnTo>
                  <a:pt x="4896" y="192"/>
                </a:lnTo>
                <a:lnTo>
                  <a:pt x="4368" y="0"/>
                </a:lnTo>
                <a:lnTo>
                  <a:pt x="0" y="912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51"/>
          <p:cNvSpPr/>
          <p:nvPr/>
        </p:nvSpPr>
        <p:spPr>
          <a:xfrm>
            <a:off x="5181480" y="365760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2448" h="816">
                <a:moveTo>
                  <a:pt x="0" y="816"/>
                </a:moveTo>
                <a:lnTo>
                  <a:pt x="2448" y="480"/>
                </a:lnTo>
                <a:lnTo>
                  <a:pt x="2448" y="384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ght sources and shadow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9200" y="9727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light 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larg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zz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d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entral area smaller th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547560" y="3024360"/>
            <a:ext cx="1371600" cy="2361960"/>
          </a:xfrm>
          <a:prstGeom prst="ellipse">
            <a:avLst/>
          </a:prstGeom>
          <a:solidFill>
            <a:srgbClr val="fffe0a"/>
          </a:solidFill>
          <a:ln w="9360">
            <a:solidFill>
              <a:srgbClr val="fffe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667400" y="3733920"/>
            <a:ext cx="1143000" cy="1143000"/>
          </a:xfrm>
          <a:prstGeom prst="ellipse">
            <a:avLst/>
          </a:prstGeom>
          <a:solidFill>
            <a:srgbClr val="6fa9b7"/>
          </a:solidFill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reeform 55"/>
          <p:cNvSpPr/>
          <p:nvPr/>
        </p:nvSpPr>
        <p:spPr>
          <a:xfrm>
            <a:off x="5181480" y="1905120"/>
            <a:ext cx="3962520" cy="2361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496" h="1488">
                <a:moveTo>
                  <a:pt x="2496" y="0"/>
                </a:moveTo>
                <a:lnTo>
                  <a:pt x="0" y="1104"/>
                </a:lnTo>
                <a:lnTo>
                  <a:pt x="2448" y="1488"/>
                </a:lnTo>
              </a:path>
            </a:pathLst>
          </a:custGeom>
          <a:gradFill rotWithShape="0">
            <a:gsLst>
              <a:gs pos="0">
                <a:srgbClr val="fffcca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6"/>
          <p:cNvSpPr/>
          <p:nvPr/>
        </p:nvSpPr>
        <p:spPr>
          <a:xfrm>
            <a:off x="5105520" y="4444920"/>
            <a:ext cx="3968640" cy="2489400"/>
          </a:xfrm>
          <a:custGeom>
            <a:avLst/>
            <a:gdLst>
              <a:gd name="textAreaLeft" fmla="*/ 0 w 3968640"/>
              <a:gd name="textAreaRight" fmla="*/ 3968640 w 396864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2451" h="1485">
                <a:moveTo>
                  <a:pt x="0" y="271"/>
                </a:moveTo>
                <a:lnTo>
                  <a:pt x="2451" y="0"/>
                </a:lnTo>
                <a:lnTo>
                  <a:pt x="2426" y="1485"/>
                </a:lnTo>
                <a:lnTo>
                  <a:pt x="0" y="271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fffc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57"/>
          <p:cNvSpPr/>
          <p:nvPr/>
        </p:nvSpPr>
        <p:spPr>
          <a:xfrm>
            <a:off x="678276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58"/>
          <p:cNvSpPr/>
          <p:nvPr/>
        </p:nvSpPr>
        <p:spPr>
          <a:xfrm>
            <a:off x="6096960" y="5943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59"/>
          <p:cNvSpPr/>
          <p:nvPr/>
        </p:nvSpPr>
        <p:spPr>
          <a:xfrm>
            <a:off x="6402240" y="4114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No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0"/>
          <p:cNvSpPr/>
          <p:nvPr/>
        </p:nvSpPr>
        <p:spPr>
          <a:xfrm>
            <a:off x="7315200" y="320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1"/>
          <p:cNvSpPr/>
          <p:nvPr/>
        </p:nvSpPr>
        <p:spPr>
          <a:xfrm>
            <a:off x="7315200" y="49528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zzy shadow patt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1752480"/>
            <a:ext cx="7848720" cy="4419720"/>
          </a:xfrm>
          <a:prstGeom prst="rect">
            <a:avLst/>
          </a:pr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590920" y="1752480"/>
            <a:ext cx="4343400" cy="4343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e9e7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3c14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343400" y="3505320"/>
            <a:ext cx="838080" cy="838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3080" y="3733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0399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4480" y="2952720"/>
            <a:ext cx="5594400" cy="37656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on’s shado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1600" y="1117440"/>
            <a:ext cx="85410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as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dark area (umbra) will be ~80 miles acr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across Earth’s face at ~2000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small area experiences this for a shor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larger area experiences ‘fuzzy shadow’ (penumb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hadow crosses face of Earth it traces out the ‘Path of Totality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312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05720" cy="5076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519120" y="1182600"/>
            <a:ext cx="80564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1600" y="218880"/>
            <a:ext cx="854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cksboro Middle School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04:00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33:25 pm – Maximum ecli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9.3%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:57:42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5127480" y="673200"/>
            <a:ext cx="3765600" cy="3142080"/>
            <a:chOff x="5127480" y="673200"/>
            <a:chExt cx="3765600" cy="3142080"/>
          </a:xfrm>
        </p:grpSpPr>
        <p:sp>
          <p:nvSpPr>
            <p:cNvPr id="429" name="TextBox 2"/>
            <p:cNvSpPr/>
            <p:nvPr/>
          </p:nvSpPr>
          <p:spPr>
            <a:xfrm>
              <a:off x="5127480" y="673200"/>
              <a:ext cx="4395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2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6276600" y="207324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9.3% parti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in crescent remains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still use eye protection or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2475000" y="2052720"/>
            <a:ext cx="3201840" cy="3201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177840" y="53182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get noticeably dar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ird-looking shad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NOT see dark sky or Sun’s co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20:53:04Z</dcterms:created>
  <dc:creator>Trial User</dc:creator>
  <dc:description/>
  <dc:language>en-US</dc:language>
  <cp:lastModifiedBy>Steve Robinson</cp:lastModifiedBy>
  <dcterms:modified xsi:type="dcterms:W3CDTF">2017-07-14T19:03:44Z</dcterms:modified>
  <cp:revision>119</cp:revision>
  <dc:subject/>
  <dc:title>Astronomy 1010</dc:title>
</cp:coreProperties>
</file>