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2C1-FE2B-46F8-A5D8-9FA3C852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BD9-BA92-4F84-B0D3-073D1F4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1B3-3AB3-475C-BB3E-1F09CF49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947-36AE-4320-9A36-162E3D33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544-BE3A-46AD-8763-71EC4585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2EF-9E31-4C8E-939F-4D9B878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099-628C-4A3D-B87C-81226610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2EC-7EFE-4C0A-8F8B-40959EE6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0A0-16D6-4156-A709-2F90FBC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17D-AF6A-419B-A254-0311E74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C64-36A2-40FE-96F9-B857DF0C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0AD-974C-4232-A34B-94A371C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A2FE-870B-46AA-A58B-AAFFEBBE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0033"/>
                </a:solidFill>
                <a:latin typeface="Arial"/>
              </a:rPr>
              <a:t>Organizing Science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9"/>
          <p:cNvSpPr/>
          <p:nvPr/>
        </p:nvSpPr>
        <p:spPr>
          <a:xfrm>
            <a:off x="395280" y="2781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660033"/>
                </a:solidFill>
                <a:latin typeface="Arial"/>
              </a:rPr>
              <a:t>Dr.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to do after the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take down their projects, clean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e the process with committee; note changes that should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ank judges for their particip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Researchabl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question usually starts with: How, What, When, Who, Which, Why, or 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characteristics of a good science fair project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be interesting enough to read about, then work on for the next few wee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at least three sources of written information on the subject. You want to be able to build on the experience of other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 should contain one factor (variable) that you can change in your experiment and at least one factor (variable) that you can mea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examples of good science fair project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water purity affect surface tens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best time to plant soy be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erial is the best insulat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rch curvature affect load carrying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different foundations stand up to earthqu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ugars do yeas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cience Bud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objective of a science f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  the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students how to do an independent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an opportunity to study a topic they are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 the students communication skills and critical thinking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opportunity to compete with others in the district a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eachers need to know to plan a successful 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6 Months Before Science F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ppoint a Science Fair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 Science Fair is a school event, not just an individual teacher’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legate the work associated with the Scienc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mittee may consist of teachers and interested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ne person should be the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eas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etting up and tak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deline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69640"/>
            <a:ext cx="83628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the Science Fair to the students early – in the fall if the science fair is in the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need time to get ideas, plan their project, design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Note to parents re: purpose of Science Fair, their role. Timefram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keep a notebook dedicated to the Science Fa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stablish deadlines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.g. selection of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ign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ing actual experimental work (data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mplet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81000"/>
            <a:ext cx="857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4 Months Before Science Fa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ide students with pictures/slides/video or previous science fai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librarian or resource person to talk to students about do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esent rules and regulations to students re: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ether students are to work individually or i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I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 Month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parents, community members, other teachers, etc. to serve as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have to be science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re are enough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judges with judg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ow students a sample write-up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 month b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firm that the necessary facilities are bo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termine what is needed (e.g. tables, electrical outl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rrange for other classes to view the science fair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eek before Scienc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students have project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refreshments for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rm list of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nd staff of schedule for the science 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students their projec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ufficient judging f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judging forms with project number, project title, student na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tables, chairs for project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lectricity for those projects that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nge for supervision of the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all projects to ensure that the safety guidelines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first judge projects without the stud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should be at their projects for the second half of the judging process to be interviewed by the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udges should meet to discuss the bes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displays to rest of the classes; best to have one class at a time view th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can be asked to write a report on specific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pen House for parents and community in the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cognition of top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crosoft Office User</cp:lastModifiedBy>
  <dcterms:modified xsi:type="dcterms:W3CDTF">2017-07-13T17:08:24Z</dcterms:modified>
  <cp:revision>577</cp:revision>
  <dc:subject/>
  <dc:title>Diapositiva 1</dc:title>
</cp:coreProperties>
</file>