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689-D4D2-4B86-8616-460E759E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B79-0449-46B4-B177-D185560C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9B3-CEAE-4125-BAEB-BCE81F5A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AD6-2C1E-4E37-BE79-56B058E4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22C-46E9-423C-985A-FB175E1F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45F-F5E0-4D6F-8C8B-7879E996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138-403C-4C95-9A06-5D65343E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E35-42DF-4EDA-95D4-6ECCB281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93B-7CD2-456A-924C-61D04DA6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7C8-157B-45FA-89C5-186CB1F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1F2-15E2-45CC-9180-F42B70F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BA0-89E3-4D72-A83D-CB9F59B6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6EF1-3A3A-464E-82BB-62365C107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660033"/>
                </a:solidFill>
                <a:latin typeface="Arial"/>
              </a:rPr>
              <a:t>Organizing Science 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9"/>
          <p:cNvSpPr/>
          <p:nvPr/>
        </p:nvSpPr>
        <p:spPr>
          <a:xfrm>
            <a:off x="395280" y="2781360"/>
            <a:ext cx="66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r.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to do after the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take down their projects, clean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valuate the process with committee; note changes that should b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ank judges for their partici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Researchabl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ientific question usually starts with: How, What, When, Who, Which, Why, or 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characteristics of a good science fair project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be interesting enough to read about, then work on for the next few wee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at least three sources of written information on the subject. You want to be able to build on the experience of other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contain one factor (variable) that you can change in your experiment and at least one factor (variable) that you can mea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examples of good science fair project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water purity affect surface tens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the best time to plant soy bea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terial is the best insulat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rch curvature affect load carrying streng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different foundations stand up to earthquak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gars do yeast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cience Budd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objective of a science fa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or   the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students how to do an independent research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an opportunity to study a topic they are interest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the students communication skills and critical thinking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opportunity to compete with others in the district a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eachers need to know to plan a successful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-6 Months Before Science F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ppoint a Science Fair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 Science Fair is a school event, not just an individual teacher’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legate the work associated with the Science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mittee may consist of teachers and interested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ne person should be the overall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eas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etting up and taking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eline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169640"/>
            <a:ext cx="83628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e the Science Fair to the students early – in the fall if the science fair is in the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need time to get ideas, plan their project, design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ote to parents re: purpose of Science Fair, their role. Timefram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keep a notebook dedicated to the Science Fai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stablish deadlines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.g. selection of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sign of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ing actual experimental work (data 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plete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81000"/>
            <a:ext cx="8578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-4 Months Before Science Fa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pictures/slides/video or previous science fai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k librarian or resource person to talk to students about doing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esent rules and regulations to students re: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ether students are to work individually or i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I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 Months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parents, community members, other teachers, etc. to serve as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have to be science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re are enough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judges with judg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how students a sample write-up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 month b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firm that the necessary facilities are bo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at is needed (e.g. tables, electrical outl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range for other classes to view the science fair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eek before Science 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students have project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refreshments for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 list of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nd staff of schedule for the science 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 students their proj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sufficient judging f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judging forms with project number, project title, student nam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tables, chairs for project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lectricity for those projects that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supervision of the displa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all projects to ensure that the safety guidelines have been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first judge projects without the stud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be at their projects for the second half of the judging process to be interviewed by the j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meet to discuss the bes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displays to rest of the classes; best to have one class at a time view th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can be asked to write a report on specific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House for parents and community in the ev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ecognition of top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crosoft Office User</cp:lastModifiedBy>
  <dcterms:modified xsi:type="dcterms:W3CDTF">2017-07-13T17:08:24Z</dcterms:modified>
  <cp:revision>577</cp:revision>
  <dc:subject/>
  <dc:title>Diapositiva 1</dc:title>
</cp:coreProperties>
</file>