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10402-A7F5-4FB8-B2F6-B484BA768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2DB0D-9351-48C3-97EA-E1230B966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43CEF-F4A6-4A56-A14D-50780D100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F1F5D-6A2A-460A-951E-EE24CEE45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B7484-9858-4D2D-AA14-CD7CD12DB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63249-67E2-4F77-BAF4-C0C145325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36FBB-7916-43CA-94EF-752A8D331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FC4EE-4975-4145-B13A-BA20127FE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533F2-643D-4DE7-811D-57405313E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1D637-9272-437F-8780-7B25C4E86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8D507-672C-4CA8-BF15-94070C856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5B4A9-C9AA-473F-9957-25F1D929C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700ED-E077-4D6F-96AF-274145ADF3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4920" y="1557000"/>
            <a:ext cx="66978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3600" spc="-1" strike="noStrike">
                <a:solidFill>
                  <a:srgbClr val="660033"/>
                </a:solidFill>
                <a:latin typeface="Arial"/>
              </a:rPr>
              <a:t>Organizing Science Fai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29"/>
          <p:cNvSpPr/>
          <p:nvPr/>
        </p:nvSpPr>
        <p:spPr>
          <a:xfrm>
            <a:off x="395280" y="2781360"/>
            <a:ext cx="66978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5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2400" spc="-1" strike="noStrike">
                <a:solidFill>
                  <a:srgbClr val="660033"/>
                </a:solidFill>
                <a:latin typeface="Arial"/>
              </a:rPr>
              <a:t>Day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2400" spc="-1" strike="noStrike">
                <a:solidFill>
                  <a:srgbClr val="660033"/>
                </a:solidFill>
                <a:latin typeface="Arial"/>
              </a:rPr>
              <a:t>Dr. Ogbomo- T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What to do after the Fai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Students take down their projects, clean up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Evaluate the process with committee; note changes that should be ma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Thank judges for their particip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riting Researchable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cientific question usually starts with: How, What, When, Who, Which, Why, or Wher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re are some characteristics of a good science fair project question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question should be interesting enough to read about, then work on for the next few week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should be at least three sources of written information on the subject. You want to be able to build on the experience of others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question should contain one factor (variable) that you can change in your experiment and at least one factor (variable) that you can measur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se are examples of good science fair project question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es water purity affect surface tension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is the best time to plant soy beans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ch material is the best insulator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es arch curvature affect load carrying strength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 different foundations stand up to earthquakes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sugars do yeast use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ource: Science Buddi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are the objective of a science fair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For   the Stud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Teach students how to do an independent research proje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Provide students with an opportunity to study a topic they are interested 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Teach the students communication skills and critical thinking ski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Provide students opportunity to compete with others in the district and st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Teachers need to know to plan a successful fai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5-6 Months Before Science Fai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Appoint a Science Fair Committ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A Science Fair is a school event, not just an individual teacher’s proj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Delegate the work associated with the Science F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Committee may consist of teachers and interested par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One person should be the overall coordina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Areas of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Setting up and taking dow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Judg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Promo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uidelines for teach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24000" y="1169640"/>
            <a:ext cx="8362800" cy="542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Introduce the Science Fair to the students early – in the fall if the science fair is in the sp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Students need time to get ideas, plan their project, design experi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Note to parents re: purpose of Science Fair, their role. Timeframe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Students should keep a notebook dedicated to the Science Fair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Establish deadlines for stud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E.g. selection of top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Design of experi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Doing actual experimental work (data collec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Completed pro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getting sta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981000"/>
            <a:ext cx="857880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3-4 Months Before Science Fair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Provide students with pictures/slides/video or previous science fair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Ask librarian or resource person to talk to students about doing a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Present rules and regulations to students re: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Determine whether students are to work individually or in pai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do I nee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2 Months befo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sk parents, community members, other teachers, etc. to serve as jud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o not have to be science speciali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sure that there are enough jud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vide judges with judging crite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Show students a sample write-up of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1 month befo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Confirm that the necessary facilities are book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Determine what is needed (e.g. tables, electrical outle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Arrange for other classes to view the science fair displ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Week before Science fa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ke sure students have projects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rrange for refreshments for jud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firm list of jud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mind staff of schedule for the science fa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ssign students their project num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ave sufficient judging form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epare judging forms with project number, project title, student name(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day befo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339840"/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5160"/>
                <a:tab algn="l" pos="1051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5160"/>
                <a:tab algn="l" pos="1051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 up tables, chairs for project displ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5160"/>
                <a:tab algn="l" pos="1051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 electricity for those projects that need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5160"/>
                <a:tab algn="l" pos="1051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rrange for supervision of the display 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5160"/>
                <a:tab algn="l" pos="1051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view all projects to ensure that the safety guidelines have been m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5160"/>
                <a:tab algn="l" pos="1051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Big day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Judges should first judge projects without the students pres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Students should be at their projects for the second half of the judging process to be interviewed by the ju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Judges should meet to discuss the best pro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Open displays to rest of the classes; best to have one class at a time view the pro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Students can be asked to write a report on specific top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Open House for parents and community in the eve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Recognition of top pro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icrosoft Office User</cp:lastModifiedBy>
  <dcterms:modified xsi:type="dcterms:W3CDTF">2017-07-13T17:08:24Z</dcterms:modified>
  <cp:revision>577</cp:revision>
  <dc:subject/>
  <dc:title>Diapositiva 1</dc:title>
</cp:coreProperties>
</file>