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EC3-B2C9-4887-B502-A5DC8C81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7A7-43B4-42F6-82C9-0AA98CD0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697-00F2-47A1-8907-917E6D6B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A2CD-61C4-42F5-B716-E226C2CE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017A-E804-4814-86A8-44670FFF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950-7463-418F-B483-F6CAD16F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1A1-7148-479F-9D37-16E656B8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0CD-44D0-4F0D-8E27-7FF7BB0E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8F0-6D08-42D5-A798-1571820A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241-4648-469A-BCE9-93B79572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3F9A-9BED-41DD-8C7A-4A193CB4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399-E815-4924-BE19-1649314A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67EA-031B-4B2C-9B9C-8251D0CEA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669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660033"/>
                </a:solidFill>
                <a:latin typeface="Arial"/>
              </a:rPr>
              <a:t>Organizing Science Fa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9"/>
          <p:cNvSpPr/>
          <p:nvPr/>
        </p:nvSpPr>
        <p:spPr>
          <a:xfrm>
            <a:off x="395280" y="2781360"/>
            <a:ext cx="66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660033"/>
                </a:solidFill>
                <a:latin typeface="Arial"/>
              </a:rPr>
              <a:t>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660033"/>
                </a:solidFill>
                <a:latin typeface="Arial"/>
              </a:rPr>
              <a:t>Dr. Ogbomo- T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to do after the F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take down their projects, clean u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valuate the process with committee; note changes that should b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ank judges for their particip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Researchabl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ientific question usually starts with: How, What, When, Who, Which, Why, or W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some characteristics of a good science fair project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stion should be interesting enough to read about, then work on for the next few wee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should be at least three sources of written information on the subject. You want to be able to build on the experience of other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stion should contain one factor (variable) that you can change in your experiment and at least one factor (variable) that you can meas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examples of good science fair project ques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water purity affect surface tens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s the best time to plant soy bean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material is the best insulat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arch curvature affect load carrying strengt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different foundations stand up to earthquak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ugars do yeast u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rce: Science Budd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the objective of a science fai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For   the Stud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each students how to do an independent research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vide students with an opportunity to study a topic they are interested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each the students communication skills and critical thinking sk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vide students opportunity to compete with others in the district a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eachers need to know to plan a successful f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5-6 Months Before Science Fa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ppoint a Science Fair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 Science Fair is a school event, not just an individual teacher’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legate the work associated with the Science F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mmittee may consist of teachers and interested 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One person should be the overall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reas of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etting up and taking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Jud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mo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idelines for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169640"/>
            <a:ext cx="836280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ntroduce the Science Fair to the students early – in the fall if the science fair is in the 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need time to get ideas, plan their project, design experi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Note to parents re: purpose of Science Fair, their role. Timefram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should keep a notebook dedicated to the Science Fai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stablish deadlines fo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.g. selection of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sign of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oing actual experimental work (data coll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mpleted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981000"/>
            <a:ext cx="8578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3-4 Months Before Science Fai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vide students with pictures/slides/video or previous science fair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sk librarian or resource person to talk to students about doing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esent rules and regulations to students re: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termine whether students are to work individually or in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I ne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2 Months bef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k parents, community members, other teachers, etc. to serve as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have to be science 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re are enough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judges with judging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how students a sample write-up of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1 month b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nfirm that the necessary facilities are bo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termine what is needed (e.g. tables, electrical outl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rrange for other classes to view the science fair disp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Week before Science f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students have project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range for refreshments for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irm list of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ind staff of schedule for the science f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gn students their projec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sufficient judging fo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judging forms with project number, project title, student nam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day 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up tables, chairs for project disp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lectricity for those projects that nee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range for supervision of the display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iew all projects to ensure that the safety guidelines have been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d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Judges should first judge projects without the student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should be at their projects for the second half of the judging process to be interviewed by the ju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Judges should meet to discuss the best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Open displays to rest of the classes; best to have one class at a time view th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can be asked to write a report on specific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Open House for parents and community in the ev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Recognition of top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crosoft Office User</cp:lastModifiedBy>
  <dcterms:modified xsi:type="dcterms:W3CDTF">2017-07-13T17:08:24Z</dcterms:modified>
  <cp:revision>577</cp:revision>
  <dc:subject/>
  <dc:title>Diapositiva 1</dc:title>
</cp:coreProperties>
</file>