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4B37-002D-4509-9323-BD379D3F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BB25-5E67-462D-822B-F134BC67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1172-840F-4FFD-B29B-94BDC5F1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38EA-2FFD-4630-8158-E36EDE2D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B4B3-BF8B-483F-B71E-FA7BE2A7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6655-BD00-4C82-981D-3696E835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5535-9BA0-441B-9783-0EF13EEF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6763-51EF-4038-BAE1-8D02F7B4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D4BD-670F-4768-830A-22081FBF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23EA-1C0E-4C27-918B-358DFC38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6F4A-D8E8-46CF-9AE8-9E6FD6A8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E36C-2E92-4EC8-B8E3-AEFF8E05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7788-6864-4C1C-A4E9-B0B2C7BB7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vimeo.com/13626297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vimeo.com/26028916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2133360"/>
            <a:ext cx="6553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Arial"/>
              </a:rPr>
              <a:t>Star Stu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ature 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 Stuff: Carl Sag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Mysteries of the Cos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mp Into Science: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6588000" y="1479600"/>
            <a:ext cx="2382840" cy="2382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1619280" y="4365720"/>
            <a:ext cx="279396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g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is Carl Sag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Aloud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tar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the Video and compare to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tar Stuff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6156360" y="846000"/>
            <a:ext cx="210348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ing activity with lan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to a dark hallway or dark room in your school for this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need 2 lan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your answers to the following questions on a note c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07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model, which volunteer represented the s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 you think the sun appears larger and brighter than all other st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the model tell you about the relationship between distance and the apparent size and brightness of st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07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cipation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07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abo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07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h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 to pp. 14-15 in your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years does one light year equ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in a small group of 4-5 people to make conversions in miles from Earth for each of the stars shown on these pa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07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07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the 5 minute intro to the Cos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atch Carl Sagan's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Wendt, Stephanie</cp:lastModifiedBy>
  <dcterms:modified xsi:type="dcterms:W3CDTF">2017-07-13T03:39:50Z</dcterms:modified>
  <cp:revision>743</cp:revision>
  <dc:subject/>
  <dc:title>Diapositiva 1</dc:title>
</cp:coreProperties>
</file>