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722-51FD-49DB-84F9-D03E383B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B00-73A2-4B3F-8EB4-D4D473A0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D60-F91D-4C21-AC73-34ACD239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18E-F7B4-4F84-909D-C8D221E2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D3E-51F7-4859-8E76-68A60B2A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1BB-402E-4257-8E2A-AE49D81C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E0EE-0B76-479D-A12A-081F13DA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159-CB93-4007-8A96-94FC7CD3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A31-F500-423B-B855-B10640A4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141-BC4F-4BF6-A5F3-08305463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169-40BC-4ADB-A9E3-31B26497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F1C-B1E8-4462-BEAC-D6FB261E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FA03-F650-4523-AD02-B7D5C1711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vimeo.com/13626297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vimeo.com/26028916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133360"/>
            <a:ext cx="6553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Star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ature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 Stuff: Carl Sag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Mysteries of the Co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p Into Science: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6588000" y="1479600"/>
            <a:ext cx="2382840" cy="2382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619280" y="4365720"/>
            <a:ext cx="27939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Carl Sag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loud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ar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Video and compare to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ar Stuff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6156360" y="846000"/>
            <a:ext cx="21034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 activity with lan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a dark hallway or dark room in your school for thi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need 2 lan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your answers to the following questions on a note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odel, which volunteer represented the s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you think the sun appears larger and brighter than all other st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the model tell you about the relationship between distance and the apparent size and brightness of st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ion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abo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h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to pp. 14-15 in your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years does one light year equ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in a small group of 4-5 people to make conversions in miles from Earth for each of the stars shown on these p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5 minute intro to the Co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atch Carl Sagan's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Wendt, Stephanie</cp:lastModifiedBy>
  <dcterms:modified xsi:type="dcterms:W3CDTF">2017-07-13T03:39:50Z</dcterms:modified>
  <cp:revision>743</cp:revision>
  <dc:subject/>
  <dc:title>Diapositiva 1</dc:title>
</cp:coreProperties>
</file>