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9A72-C0AD-4B79-B322-19D997456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BAB8-0091-4972-B990-9909E97B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A2C2-1093-4682-AA6F-797C0B976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2DA5-007A-4156-97AF-C6DE9F9E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E5EE-9304-4F2D-8A35-70DEA9E9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0CFC-EAAF-428F-A8E7-F93C66E1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E180-5864-4676-9BC5-4A785F06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1748-721A-4ACA-A254-F8734DF3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3951-38F8-4119-A2FD-003496AD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1B20-5A6D-4600-8025-CE3F0729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E606-CB84-423A-A641-C0CF540F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C1F4-983C-45A6-8E53-ABFCD7AA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185A-7621-4BD0-9315-188AD0D60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vimeo.com/13626297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vimeo.com/26028916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560" y="2133360"/>
            <a:ext cx="6553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ffffff"/>
                </a:solidFill>
                <a:latin typeface="Arial"/>
              </a:rPr>
              <a:t>Star Stu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ature B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 Stuff: Carl Sag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Mysteries of the Cos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mp Into Science: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6588000" y="1479600"/>
            <a:ext cx="2382840" cy="2382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1619280" y="4365720"/>
            <a:ext cx="279396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g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is Carl Sag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Aloud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tar St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the Video and compare to th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tar Stuff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6156360" y="846000"/>
            <a:ext cx="210348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ing activity with lan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to a dark hallway or dark room in your school for this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ill need 2 lan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your answers to the following questions on a note c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072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model, which volunteer represented the s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 you think the sun appears larger and brighter than all other st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es the model tell you about the relationship between distance and the apparent size and brightness of st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072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cipation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07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abo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072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h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 to pp. 14-15 in your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years does one light year equ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in a small group of 4-5 people to make conversions in miles from Earth for each of the stars shown on these pag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07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alu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072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the 5 minute intro to the Cos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atch Carl Sagan's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Wendt, Stephanie</cp:lastModifiedBy>
  <dcterms:modified xsi:type="dcterms:W3CDTF">2017-07-13T03:39:50Z</dcterms:modified>
  <cp:revision>743</cp:revision>
  <dc:subject/>
  <dc:title>Diapositiva 1</dc:title>
</cp:coreProperties>
</file>