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8096-F57F-4FCF-A149-ED2F9ECB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38E3-81B9-4C70-B80A-70CD566B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87B3-EB32-4A8C-8ED0-D1AABD33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8D2-90A1-4319-A5D9-11C3E380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ACE-A046-42AE-8E8C-2E2BCEB9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5ABE-1EC3-41FB-85F3-948B30EB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5C1-40A0-4CF6-8FA8-EC7E9E7A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C285-3DAC-4D14-B06A-DD3E67AE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D19-E43E-475E-BB1E-976A1E57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FFF8-ED25-4863-BAFB-07EB7898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CA2D-2CE4-4418-B184-0930F057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2FCB-790E-49AF-B4A2-5CE0D88F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903A-3E85-4271-BF7F-1D918A258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vimeo.com/13626297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vimeo.com/26028916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2133360"/>
            <a:ext cx="6553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Star Stu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ature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 Stuff: Carl Sag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Mysteries of the Co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mp Into Science: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6588000" y="1479600"/>
            <a:ext cx="2382840" cy="2382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619280" y="4365720"/>
            <a:ext cx="279396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Carl Sag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Aloud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ar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Video and compare to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ar Stuff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6156360" y="846000"/>
            <a:ext cx="21034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ing activity with lan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to a dark hallway or dark room in your school for thi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need 2 lan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your answers to the following questions on a note c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model, which volunteer represented the s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you think the sun appears larger and brighter than all other st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the model tell you about the relationship between distance and the apparent size and brightness of st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cipation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abo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h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to pp. 14-15 in your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years does one light year equ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in a small group of 4-5 people to make conversions in miles from Earth for each of the stars shown on these p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5 minute intro to the Co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atch Carl Sagan's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Wendt, Stephanie</cp:lastModifiedBy>
  <dcterms:modified xsi:type="dcterms:W3CDTF">2017-07-13T03:39:50Z</dcterms:modified>
  <cp:revision>743</cp:revision>
  <dc:subject/>
  <dc:title>Diapositiva 1</dc:title>
</cp:coreProperties>
</file>