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0DE-185D-4494-B20F-65CA4353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590-CD9A-4ACB-9439-0DB56B3A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C1D-A565-42EE-A76C-02BDC72F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28F-FA79-4918-BDB0-B0197576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82A-8553-4A40-81E9-BBD0258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A2D-5DA4-45DF-8856-1E57E1B7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DF9-BD20-48AC-B0D4-DFD66C9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78E-F541-4E70-843D-5350F7C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097-CA7D-4167-9702-181D77E7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F2D-C105-4CEB-89AB-EF47CC6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ADC-DAB0-4D47-84EA-D685E11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C5B-FBF9-47CA-9336-FE5D4C51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B36D-BD31-4EE5-80B4-425C52E4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imeo.com/13626297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vimeo.com/26028916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13336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 Stuff: Carl Sag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ysteries of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p Into Science: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588000" y="1479600"/>
            <a:ext cx="2382840" cy="238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4365720"/>
            <a:ext cx="27939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Carl Sa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 and compare to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ar Stuff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156360" y="846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activity with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a dark hallway or dark room in your school for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need 2 lan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s to the following questions on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odel, which volunteer represented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the sun appears larger and brighter than all other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model tell you about the relationship between distance and the apparent size and brightness of st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p. 14-15 in you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years does one light year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small group of 4-5 people to make conversions in miles from Earth for each of the stars shown on these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5 minute intro to the Co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Carl Sagan's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endt, Stephanie</cp:lastModifiedBy>
  <dcterms:modified xsi:type="dcterms:W3CDTF">2017-07-13T03:39:50Z</dcterms:modified>
  <cp:revision>743</cp:revision>
  <dc:subject/>
  <dc:title>Diapositiva 1</dc:title>
</cp:coreProperties>
</file>