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B6E-FB88-46B2-8613-806225A5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5DC-D4CE-4C6E-AFF6-A7350E4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5D9-E4F4-4DB5-AB42-F4212097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966-1DEB-4B8A-A66E-5BCD6FF7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E07-49C3-4215-A8F7-3A27BB8D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6C9-33A2-415F-968C-8FB9B0E2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339-BE6C-4030-82FA-C0B8A70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BF5-9816-4F3B-8E9A-A8BA827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6A7-9BA7-4C58-8AF3-19F0A96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DD1-7213-4BCA-BF76-9FF2648B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A25-1BB9-4C76-B2B0-BDA13921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F0D-F366-4BD2-A154-7BA19A8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29E-A7E6-47B9-B466-87403E7E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imeo.com/13626297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vimeo.com/26028916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 Stuff: Carl Sa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ysteries of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p Into Science: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588000" y="1479600"/>
            <a:ext cx="2382840" cy="238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4365720"/>
            <a:ext cx="27939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Carl Sa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loud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 and compare to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 Stuff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156360" y="846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 activity with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a dark hallway or dark room in your school for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eed 2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s to the following questions on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del, which volunteer represented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the sun appears larger and brighter than all other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model tell you about the relationship between distance and the apparent size and brightness of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p. 14-15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years does one light year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small group of 4-5 people to make conversions in miles from Earth for each of the stars shown on these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5 minute intro to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Carl Sagan's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endt, Stephanie</cp:lastModifiedBy>
  <dcterms:modified xsi:type="dcterms:W3CDTF">2017-07-13T03:39:50Z</dcterms:modified>
  <cp:revision>743</cp:revision>
  <dc:subject/>
  <dc:title>Diapositiva 1</dc:title>
</cp:coreProperties>
</file>