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4"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5" name="PlaceHolder 2"/>
          <p:cNvSpPr>
            <a:spLocks noGrp="1"/>
          </p:cNvSpPr>
          <p:nvPr>
            <p:ph type="dt" idx="59"/>
          </p:nvPr>
        </p:nvSpPr>
        <p:spPr>
          <a:xfrm>
            <a:off x="4008240" y="-360"/>
            <a:ext cx="306684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6" name="PlaceHolder 3"/>
          <p:cNvSpPr>
            <a:spLocks noGrp="1"/>
          </p:cNvSpPr>
          <p:nvPr>
            <p:ph type="sldImg"/>
          </p:nvPr>
        </p:nvSpPr>
        <p:spPr>
          <a:xfrm>
            <a:off x="1196640" y="701640"/>
            <a:ext cx="4683240" cy="3511440"/>
          </a:xfrm>
          <a:prstGeom prst="rect">
            <a:avLst/>
          </a:prstGeom>
          <a:noFill/>
          <a:ln w="936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657"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8" name="PlaceHolder 5"/>
          <p:cNvSpPr>
            <a:spLocks noGrp="1"/>
          </p:cNvSpPr>
          <p:nvPr>
            <p:ph type="ftr" idx="60"/>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1659" name="PlaceHolder 6"/>
          <p:cNvSpPr>
            <a:spLocks noGrp="1"/>
          </p:cNvSpPr>
          <p:nvPr>
            <p:ph type="sldNum" idx="61"/>
          </p:nvPr>
        </p:nvSpPr>
        <p:spPr>
          <a:xfrm>
            <a:off x="4008240" y="8892720"/>
            <a:ext cx="3066840" cy="468360"/>
          </a:xfrm>
          <a:prstGeom prst="rect">
            <a:avLst/>
          </a:prstGeom>
          <a:noFill/>
          <a:ln w="0">
            <a:noFill/>
          </a:ln>
        </p:spPr>
        <p:txBody>
          <a:bodyPr lIns="93960" rIns="9396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3433-4887-4E26-9D45-70DFEA2EE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97000" y="701640"/>
            <a:ext cx="4683240" cy="3511440"/>
          </a:xfrm>
          <a:prstGeom prst="rect">
            <a:avLst/>
          </a:prstGeom>
          <a:ln w="0">
            <a:noFill/>
          </a:ln>
        </p:spPr>
      </p:sp>
      <p:sp>
        <p:nvSpPr>
          <p:cNvPr id="171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tanabe.blogspot.com/2012/09/addressing-text-complexity-through.html </a:t>
            </a:r>
            <a:endParaRPr b="0" lang="en-US" sz="1200" spc="-1" strike="noStrike">
              <a:solidFill>
                <a:srgbClr val="000000"/>
              </a:solidFill>
              <a:latin typeface="Arial"/>
            </a:endParaRPr>
          </a:p>
        </p:txBody>
      </p:sp>
      <p:sp>
        <p:nvSpPr>
          <p:cNvPr id="17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0D8D-D515-4829-B192-774B642A6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97000" y="701640"/>
            <a:ext cx="4683240" cy="3511440"/>
          </a:xfrm>
          <a:prstGeom prst="rect">
            <a:avLst/>
          </a:prstGeom>
          <a:ln w="0">
            <a:noFill/>
          </a:ln>
        </p:spPr>
      </p:sp>
      <p:sp>
        <p:nvSpPr>
          <p:cNvPr id="170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ime for audience to share with each other how they create compelling reason for students to read informational text…ask for a few people to share out their ideas by writing them down on cards and holding them up.  </a:t>
            </a:r>
            <a:endParaRPr b="0" lang="en-US" sz="1200" spc="-1" strike="noStrike">
              <a:solidFill>
                <a:srgbClr val="000000"/>
              </a:solidFill>
              <a:latin typeface="Arial"/>
            </a:endParaRPr>
          </a:p>
        </p:txBody>
      </p:sp>
      <p:sp>
        <p:nvSpPr>
          <p:cNvPr id="17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3A00-7A09-404A-B634-F9A111815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97000" y="701640"/>
            <a:ext cx="4683240" cy="3511440"/>
          </a:xfrm>
          <a:prstGeom prst="rect">
            <a:avLst/>
          </a:prstGeom>
          <a:ln w="0">
            <a:noFill/>
          </a:ln>
        </p:spPr>
      </p:sp>
      <p:sp>
        <p:nvSpPr>
          <p:cNvPr id="170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12E1-2CCF-451B-AADC-F91DC51A7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97000" y="701640"/>
            <a:ext cx="4683240" cy="3511440"/>
          </a:xfrm>
          <a:prstGeom prst="rect">
            <a:avLst/>
          </a:prstGeom>
          <a:ln w="0">
            <a:noFill/>
          </a:ln>
        </p:spPr>
      </p:sp>
      <p:sp>
        <p:nvSpPr>
          <p:cNvPr id="170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s “I Know Why the Caged Bird Sings” ATOS 5.5 NOT appropriate for 5</a:t>
            </a:r>
            <a:r>
              <a:rPr b="0" lang="en-US" sz="1200" spc="-1" strike="noStrike" baseline="30000">
                <a:solidFill>
                  <a:srgbClr val="000000"/>
                </a:solidFill>
                <a:latin typeface="Arial"/>
              </a:rPr>
              <a:t>th</a:t>
            </a:r>
            <a:r>
              <a:rPr b="0" lang="en-US" sz="1200" spc="-1" strike="noStrike">
                <a:solidFill>
                  <a:srgbClr val="000000"/>
                </a:solidFill>
                <a:latin typeface="Arial"/>
              </a:rPr>
              <a:t> graders at old ATOS or 4</a:t>
            </a:r>
            <a:r>
              <a:rPr b="0" lang="en-US" sz="1200" spc="-1" strike="noStrike" baseline="30000">
                <a:solidFill>
                  <a:srgbClr val="000000"/>
                </a:solidFill>
                <a:latin typeface="Arial"/>
              </a:rPr>
              <a:t>th</a:t>
            </a:r>
            <a:r>
              <a:rPr b="0" lang="en-US" sz="1200" spc="-1" strike="noStrike">
                <a:solidFill>
                  <a:srgbClr val="000000"/>
                </a:solidFill>
                <a:latin typeface="Arial"/>
              </a:rPr>
              <a:t> graders at new “stretch” scor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zanne Collin’s “Hunger Games” quantitative measures of 5.3 but qualitative measures make it more 7</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p:txBody>
      </p:sp>
      <p:sp>
        <p:nvSpPr>
          <p:cNvPr id="17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D6A2-7031-480D-95CF-8B430014A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B44A1-1E08-45E3-A3FA-42D0601B44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E04B7512-025F-4951-90EE-02A658BFECD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6FC64CDB-911A-49B2-84F5-9764F58387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9"/>
          </p:nvPr>
        </p:nvSpPr>
        <p:spPr/>
        <p:txBody>
          <a:bodyPr/>
          <a:p>
            <a:fld id="{607002EE-EB83-4548-93FF-F8CC0585341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9"/>
          </p:nvPr>
        </p:nvSpPr>
        <p:spPr/>
        <p:txBody>
          <a:bodyPr/>
          <a:p>
            <a:fld id="{70B3F5E7-60E1-4685-8D08-8EF481705C3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E18EAE25-F921-4E9D-80C4-35BEDB464C3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5AF62535-82B9-40C1-80F3-D635BF8488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66293099-E4FE-4D59-967F-CAD84156FF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9768E50F-04C6-4D4B-A324-28F8FD8A17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9"/>
          </p:nvPr>
        </p:nvSpPr>
        <p:spPr/>
        <p:txBody>
          <a:bodyPr/>
          <a:p>
            <a:fld id="{05148EFB-FC6C-4743-B64C-DC4BE07792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9"/>
          </p:nvPr>
        </p:nvSpPr>
        <p:spPr/>
        <p:txBody>
          <a:bodyPr/>
          <a:p>
            <a:fld id="{F37893B0-9F72-4F0B-8D83-2BBD274C49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74FB5E6-E4AF-4CEC-B94E-7C380EBE8E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
          </p:nvPr>
        </p:nvSpPr>
        <p:spPr/>
        <p:txBody>
          <a:bodyPr/>
          <a:p>
            <a:fld id="{BDFA5C5B-0C61-426B-8FF9-9F6E306F0F5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CA1248A8-CF86-420C-B032-C5D8F2F009F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6BF29E27-A704-4EA6-B486-8E36D26C3AD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D25FA4DF-5A42-4573-8C66-7966C582E5A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0"/>
          </p:nvPr>
        </p:nvSpPr>
        <p:spPr/>
        <p:txBody>
          <a:bodyPr/>
          <a:p>
            <a:fld id="{33D0EE72-F339-4D07-9D53-853A36FCB82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0"/>
          </p:nvPr>
        </p:nvSpPr>
        <p:spPr/>
        <p:txBody>
          <a:bodyPr/>
          <a:p>
            <a:fld id="{61A3677F-7BA1-4DE5-9111-CD730BD99DB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7332B1CF-3659-4F15-A02D-746893DA2FB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9A2E7655-D76A-46FD-AE7D-6EB3D2CFB5C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683AC34A-F41A-46DC-AA3B-5874816A08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F4D3643A-D3B9-492E-8981-0A0A7774053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0"/>
          </p:nvPr>
        </p:nvSpPr>
        <p:spPr/>
        <p:txBody>
          <a:bodyPr/>
          <a:p>
            <a:fld id="{451D25C9-C87C-437B-9672-B57FB851F8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
          </p:nvPr>
        </p:nvSpPr>
        <p:spPr/>
        <p:txBody>
          <a:bodyPr/>
          <a:p>
            <a:fld id="{42B628A3-D561-4844-A59E-965ECFF17FB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0"/>
          </p:nvPr>
        </p:nvSpPr>
        <p:spPr/>
        <p:txBody>
          <a:bodyPr/>
          <a:p>
            <a:fld id="{EC29910B-B3BC-43EA-BFFC-2AB71B197B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ADEF3B4-5ED3-4EE8-822E-ED9A2D8FABE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51DED5CA-019A-4B6F-ABF9-DDBAE30D12E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FE40A33E-DCB8-408D-A0FB-C87508CE97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FAE87238-AA8B-4F51-8872-1BFD96134D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1"/>
          </p:nvPr>
        </p:nvSpPr>
        <p:spPr/>
        <p:txBody>
          <a:bodyPr/>
          <a:p>
            <a:fld id="{69F6AED4-3032-4400-9525-9C78F8D674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1"/>
          </p:nvPr>
        </p:nvSpPr>
        <p:spPr/>
        <p:txBody>
          <a:bodyPr/>
          <a:p>
            <a:fld id="{20C73107-B50F-4D52-ACDD-4D664A33E60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8F88D8F7-7DD3-48D6-9103-C3D307A4E22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B07B8D89-9B8C-4667-9C23-22298CA53BB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D1DA624B-9BC2-4FA9-8318-90E2E55E0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9F0AE6-9956-447B-8E78-D29559E37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63DC26D4-390C-47CC-AD27-57A457D41A1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1"/>
          </p:nvPr>
        </p:nvSpPr>
        <p:spPr/>
        <p:txBody>
          <a:bodyPr/>
          <a:p>
            <a:fld id="{204DAB6D-3147-4B3A-91AA-BCE20E8A1FA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1"/>
          </p:nvPr>
        </p:nvSpPr>
        <p:spPr/>
        <p:txBody>
          <a:bodyPr/>
          <a:p>
            <a:fld id="{D0F24019-C210-4B54-9D81-CA5F1F7E847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BB34EE5-3EB5-4089-88C6-94B1321279D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142736C8-B2AE-4E7D-968D-2832F384396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6F30CCF4-287B-4B7C-B968-1B2BE881CB2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91DA3C95-E37C-46AA-BB9B-D33500D832B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2"/>
          </p:nvPr>
        </p:nvSpPr>
        <p:spPr/>
        <p:txBody>
          <a:bodyPr/>
          <a:p>
            <a:fld id="{16839DA5-FAB3-44C3-8AE9-95C041882A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2"/>
          </p:nvPr>
        </p:nvSpPr>
        <p:spPr/>
        <p:txBody>
          <a:bodyPr/>
          <a:p>
            <a:fld id="{DC273562-D1EA-47B3-967B-2B1930DC15F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F80FB2F9-0BAF-4902-A588-967706EC23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5943F2-740A-4086-8C89-F102439F4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DDC9F979-4C38-466A-82C9-90BD51D5054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D82CBBA5-52D1-4899-AC32-A1016B29D82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2B32285B-C4FC-4284-AADC-03032461D89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2"/>
          </p:nvPr>
        </p:nvSpPr>
        <p:spPr/>
        <p:txBody>
          <a:bodyPr/>
          <a:p>
            <a:fld id="{8A0D4585-4E2A-4E6A-8824-3851085A1D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2"/>
          </p:nvPr>
        </p:nvSpPr>
        <p:spPr/>
        <p:txBody>
          <a:bodyPr/>
          <a:p>
            <a:fld id="{3DB620C5-9FBA-43AE-BE7D-731273868FB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45E9BE4-2EB5-4394-BF97-C6847E634CC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C841DF2B-7BDB-4F42-BF26-9CDCBE38E19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75853B4F-6602-4BD8-B1B8-73A7227C165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B6E82EB5-7877-4D8A-AB63-5EDDDA21FDC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3"/>
          </p:nvPr>
        </p:nvSpPr>
        <p:spPr/>
        <p:txBody>
          <a:bodyPr/>
          <a:p>
            <a:fld id="{61F2B44C-9F2F-4367-ADD1-369D39AAAD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EA9220-DE73-4D8E-B3A4-E213585F8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3"/>
          </p:nvPr>
        </p:nvSpPr>
        <p:spPr/>
        <p:txBody>
          <a:bodyPr/>
          <a:p>
            <a:fld id="{56836FFF-702E-4398-B12D-24A250D97B4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D92900D7-6E86-4C5A-A95A-845CD152072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945573B8-3D21-4F6F-A444-F5C61ECBB7C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3E7A63C5-7E16-455C-97B9-DDD507D49F0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1FF27F50-45EB-4BE8-9984-9DBD6232380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3"/>
          </p:nvPr>
        </p:nvSpPr>
        <p:spPr/>
        <p:txBody>
          <a:bodyPr/>
          <a:p>
            <a:fld id="{82F77D5C-9723-482A-9E46-FBFF805A1DD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3"/>
          </p:nvPr>
        </p:nvSpPr>
        <p:spPr/>
        <p:txBody>
          <a:bodyPr/>
          <a:p>
            <a:fld id="{065D1282-F0EA-4C9E-A2FC-E60BE633034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081186-C167-49D8-8572-4A11A29B2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DB5F98A-1D8E-48B3-90D5-6F442ACFBC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E2AE75-3F7F-44AB-99C5-44C261374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D4DC97E6-C223-48AD-94FB-4A21D43C935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EDFC3CEA-DB3A-450A-B098-168C1C338D9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CB5D1343-5ACC-4B75-9C31-FDCCDCEFF98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4"/>
          </p:nvPr>
        </p:nvSpPr>
        <p:spPr/>
        <p:txBody>
          <a:bodyPr/>
          <a:p>
            <a:fld id="{B9137D71-B753-46AB-B0E6-DE8783201AE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4"/>
          </p:nvPr>
        </p:nvSpPr>
        <p:spPr/>
        <p:txBody>
          <a:bodyPr/>
          <a:p>
            <a:fld id="{B290A50B-A151-4D1D-B256-16D131D2657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CFF1C528-45C9-4075-B518-B4F6E5E4DE7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B0E79C2C-6727-457B-8F4E-6C765D01F5F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C263322B-3C68-4650-AFF9-326B9C4267F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1A552D8F-EFCF-44D4-99FA-3301AB62B3E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4"/>
          </p:nvPr>
        </p:nvSpPr>
        <p:spPr/>
        <p:txBody>
          <a:bodyPr/>
          <a:p>
            <a:fld id="{8D7CDA2E-B56B-4053-B763-27C9627B29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AFB6E3-6EED-41C5-A80D-4428B83AB5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4"/>
          </p:nvPr>
        </p:nvSpPr>
        <p:spPr/>
        <p:txBody>
          <a:bodyPr/>
          <a:p>
            <a:fld id="{844EB599-74A9-4A73-B347-905FCE84C54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534BC2-AEF6-4433-840A-ADC144559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4AD8E4A-D9DD-4C7C-B3EA-24F148E5D67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994A2095-F930-441C-A4E3-A2FB7E67904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1ACB909D-53DC-4270-B8B8-55EF9838F7F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A6370F0F-F3FE-4FA0-AE12-1927F0D3991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5"/>
          </p:nvPr>
        </p:nvSpPr>
        <p:spPr/>
        <p:txBody>
          <a:bodyPr/>
          <a:p>
            <a:fld id="{318EAB8D-3B17-49E8-9B2C-9A7190EE99B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5"/>
          </p:nvPr>
        </p:nvSpPr>
        <p:spPr/>
        <p:txBody>
          <a:bodyPr/>
          <a:p>
            <a:fld id="{7C22C27F-4E07-4DD8-9785-CFB03067650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34D11F45-ECCB-4A1A-B0F4-4AC593CC8F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D75194D2-6C7F-4A20-98AA-655600259C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A042B7-DEB3-40E4-86B5-A6F263BAD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EC57775D-297D-494B-B95F-42E9291E370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84585862-92BE-4CEE-B127-8EFD64B91AD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F6C1B131-338A-418A-9F29-58E23C31ECD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5"/>
          </p:nvPr>
        </p:nvSpPr>
        <p:spPr/>
        <p:txBody>
          <a:bodyPr/>
          <a:p>
            <a:fld id="{9EA34A83-FEAC-482F-8CA7-47DD05ABC44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5"/>
          </p:nvPr>
        </p:nvSpPr>
        <p:spPr/>
        <p:txBody>
          <a:bodyPr/>
          <a:p>
            <a:fld id="{067ED323-0824-4B2C-80E4-08676C2B22C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D35178F-155F-43B6-A1AE-F96FD3F4F47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367CE1AC-0595-4A59-9B7D-E52129F55DD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7A32C445-FACE-4B6D-A030-CB596F8FD92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174A315C-D5C6-4989-BCCB-A0816901865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6"/>
          </p:nvPr>
        </p:nvSpPr>
        <p:spPr/>
        <p:txBody>
          <a:bodyPr/>
          <a:p>
            <a:fld id="{1D762B16-EC37-4255-BEA2-5C787BF091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E087DF-EF27-47F9-8285-2D0ADBB3C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6"/>
          </p:nvPr>
        </p:nvSpPr>
        <p:spPr/>
        <p:txBody>
          <a:bodyPr/>
          <a:p>
            <a:fld id="{92B5EA3C-9DBF-4C94-A304-6EFCBB3BDAB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D77C17E8-3436-432C-B881-675114C2157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F66E1954-C205-404A-89CC-0D66315D9B4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F3EEB14B-BE51-4535-BD88-E098FDF8C6E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46406320-22C3-43C4-882A-66D2F2CDFE9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6"/>
          </p:nvPr>
        </p:nvSpPr>
        <p:spPr/>
        <p:txBody>
          <a:bodyPr/>
          <a:p>
            <a:fld id="{96B9926E-6FAB-4C45-B380-AD91E1A08AE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6"/>
          </p:nvPr>
        </p:nvSpPr>
        <p:spPr/>
        <p:txBody>
          <a:bodyPr/>
          <a:p>
            <a:fld id="{AABD2003-E6AC-44B3-9E22-EE31A82B008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FC70BB6-4E7C-4482-8935-1AE1F990233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2FDF4717-B6CA-42C5-977A-999692AA9A6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A18AE58B-39DC-44C2-91A5-2DBB80FBD8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7E3907-E106-4CC1-BB5A-8A20F201D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1A7B0432-1A0F-46AA-B1C3-ABD03DFBA14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7"/>
          </p:nvPr>
        </p:nvSpPr>
        <p:spPr/>
        <p:txBody>
          <a:bodyPr/>
          <a:p>
            <a:fld id="{5B8DB491-9E5D-4D86-B798-5BFEDB32754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7"/>
          </p:nvPr>
        </p:nvSpPr>
        <p:spPr/>
        <p:txBody>
          <a:bodyPr/>
          <a:p>
            <a:fld id="{742029AA-1A55-4F16-99F1-08C7ECBB2F5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14AAC708-49C0-40BC-842E-D011AE386D9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75815989-8454-47BE-981A-A334392BBE7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103C441B-28D2-478A-9617-22DD7B1AAF6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F237F33C-B14B-4679-9715-315D69A2265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7"/>
          </p:nvPr>
        </p:nvSpPr>
        <p:spPr/>
        <p:txBody>
          <a:bodyPr/>
          <a:p>
            <a:fld id="{91962C97-1667-4324-8C87-2E17A166EF2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7"/>
          </p:nvPr>
        </p:nvSpPr>
        <p:spPr/>
        <p:txBody>
          <a:bodyPr/>
          <a:p>
            <a:fld id="{9922E222-7241-4014-B298-83A279E07DC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27315B1-82DF-4148-BF17-BB956A4B3D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8ED434-7AFA-4223-86F6-7E06F01887B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8AED548B-3A7B-4A45-AD3A-0C53EF07DBD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C62A81A4-784C-43F1-A267-D36153618CA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AB2FA95F-81B0-4493-86D0-F754D11DB36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8"/>
          </p:nvPr>
        </p:nvSpPr>
        <p:spPr/>
        <p:txBody>
          <a:bodyPr/>
          <a:p>
            <a:fld id="{B782EAF7-CC35-4F64-B8EF-78AF79BDC8A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8"/>
          </p:nvPr>
        </p:nvSpPr>
        <p:spPr/>
        <p:txBody>
          <a:bodyPr/>
          <a:p>
            <a:fld id="{96ECFE03-0CE3-4C83-A80C-C85E1CF260B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A7512EC9-CED8-4F11-AE53-0041C8E0F4E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5EFB8FFC-AF74-4D33-AA11-2C84CF6A693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A7B15333-EFD3-4EF7-AE2C-CEA201FFE24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9217AF52-2B4C-4957-A761-5FB5028D960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8"/>
          </p:nvPr>
        </p:nvSpPr>
        <p:spPr/>
        <p:txBody>
          <a:bodyPr/>
          <a:p>
            <a:fld id="{444F0732-D2BD-4779-89CE-7B6CD09BB1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2242AC-27E6-41FA-A4A0-21CD99AB8FC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8"/>
          </p:nvPr>
        </p:nvSpPr>
        <p:spPr/>
        <p:txBody>
          <a:bodyPr/>
          <a:p>
            <a:fld id="{FFF4D72F-9809-440E-B86F-229D3991B6E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11BAC19-E999-43FC-98C6-A11CFA243D9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C69B683C-ED5E-4B20-8CA9-DAFCE5B9116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E0FA3FB8-D6DE-4684-BB70-4A5E0A04ED5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08B0FB9A-0AD5-45C9-8798-11A42BF862F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9"/>
          </p:nvPr>
        </p:nvSpPr>
        <p:spPr/>
        <p:txBody>
          <a:bodyPr/>
          <a:p>
            <a:fld id="{8456ED16-1D0D-40E5-A21B-600B11F2D13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9"/>
          </p:nvPr>
        </p:nvSpPr>
        <p:spPr/>
        <p:txBody>
          <a:bodyPr/>
          <a:p>
            <a:fld id="{D36E733C-96FF-4D18-BFCD-CC3DD871BD8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6417BACA-E07E-4BBC-BB71-BC97EE361B2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00D2EDE0-7107-4ABB-83FB-98063ADB2C1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159AFAB8-4645-4EBD-8BEF-EA86D25D957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385EAC5C-029A-443C-836E-6A50A397AF5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9"/>
          </p:nvPr>
        </p:nvSpPr>
        <p:spPr/>
        <p:txBody>
          <a:bodyPr/>
          <a:p>
            <a:fld id="{46BAAAB2-9FD8-46AA-B503-002F4A29625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9"/>
          </p:nvPr>
        </p:nvSpPr>
        <p:spPr/>
        <p:txBody>
          <a:bodyPr/>
          <a:p>
            <a:fld id="{BBA84557-BED0-456B-AA0C-46D94512E8D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A42CD33-A1C7-43B3-8356-798E2DA73A3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FF3C018E-A90C-4C82-80F8-40800579C17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875B5087-8981-4DC8-8B49-1E5A27163D3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D9FC78D6-8D2E-45D4-BC07-D1276ECA4F4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0"/>
          </p:nvPr>
        </p:nvSpPr>
        <p:spPr/>
        <p:txBody>
          <a:bodyPr/>
          <a:p>
            <a:fld id="{0220CE27-0D79-44C7-8716-218D695432C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0"/>
          </p:nvPr>
        </p:nvSpPr>
        <p:spPr/>
        <p:txBody>
          <a:bodyPr/>
          <a:p>
            <a:fld id="{CC55DF6F-0949-45C8-A064-5462BFC2086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BA835518-88C4-48A5-88C9-B9E314249E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E91CEFE8-12AC-40D4-AB74-224EDEEB9CE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750BC7A1-0794-4AAE-A6FF-951D03F56F9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9DD607A0-ED2E-4C60-8835-4C499AA6E76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0"/>
          </p:nvPr>
        </p:nvSpPr>
        <p:spPr/>
        <p:txBody>
          <a:bodyPr/>
          <a:p>
            <a:fld id="{2DC38C71-CDAF-4CD9-B582-B456D81D6D0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0"/>
          </p:nvPr>
        </p:nvSpPr>
        <p:spPr/>
        <p:txBody>
          <a:bodyPr/>
          <a:p>
            <a:fld id="{4B261E7A-D89F-465D-8D31-1BA5DC98734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1CEA616-59EF-4630-A05C-0AE0E08602F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62F3D557-13C9-4D99-9E60-996DD8BF6DB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A3FF5713-9BC7-4643-9BAE-7C1B9070E59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6188A185-7292-41B5-8B36-77595ED44E2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1"/>
          </p:nvPr>
        </p:nvSpPr>
        <p:spPr/>
        <p:txBody>
          <a:bodyPr/>
          <a:p>
            <a:fld id="{08880C65-DF67-4F99-BE3A-8007E486F2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1"/>
          </p:nvPr>
        </p:nvSpPr>
        <p:spPr/>
        <p:txBody>
          <a:bodyPr/>
          <a:p>
            <a:fld id="{7BD008BB-6362-45E3-AEB8-BF34FF254A6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AF46E4FD-534D-4466-A8E9-FF2B8C889C7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31E08B96-3855-4436-A4E9-13848E34C58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C82BFD74-4132-48B3-8D9F-50D2EBB17B3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C1B2F18A-DC8D-4E64-BCB8-928EBAE169C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1"/>
          </p:nvPr>
        </p:nvSpPr>
        <p:spPr/>
        <p:txBody>
          <a:bodyPr/>
          <a:p>
            <a:fld id="{6F630FD9-FE80-45FB-89C6-6F7758851A0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1"/>
          </p:nvPr>
        </p:nvSpPr>
        <p:spPr/>
        <p:txBody>
          <a:bodyPr/>
          <a:p>
            <a:fld id="{C6A1F400-D0CD-4B44-BCCC-E760C5C4F6F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2FE905F-DC60-4B2E-A192-CC6039238A3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A6AC4539-6CE9-466A-9D81-C848EDC4BDA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4C7B4652-02C4-4716-9DA3-A005A91AA6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194F6667-E346-410B-99A0-CAD257360C7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2"/>
          </p:nvPr>
        </p:nvSpPr>
        <p:spPr/>
        <p:txBody>
          <a:bodyPr/>
          <a:p>
            <a:fld id="{16D48111-8F4F-4181-8620-7AB847C5BA5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6420CC48-A846-4988-AD0E-D140EA0DBD7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53891C3-D56F-42A7-8810-3636AD514A34}"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DB7D841C-2679-432A-8119-ACABA15FC6F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F59CB496-242A-4E4D-925A-CA359E210A7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E63BC8A9-5E6A-42A1-B02A-5F77421B65D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09CD2BE9-C072-4530-9B84-7D0D2C71FEC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A1E12928-6B32-4DA1-86F0-C7B617D7F88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2FA5AA7-C552-4178-9BB2-18489039D2F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7161BE4-9064-4204-B50E-833B5950F2F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6D9DA58-4A0D-4C7C-8FDC-A5F9AA94FF6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A8149AC-FF25-4D33-8D0F-AFC97F2D98D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76B1D8E-52B9-4D89-8FB3-EE7BE8A9B43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3730292-2C71-4025-B1A2-8D2CFC84A17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DAB4497-1C83-4554-95C3-ED17B6FB31B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911EBAB-FF38-4835-9FA8-E38780EEB3A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A3CA311-559F-4F3C-865E-BE8E5BC8E8B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62C711F-B04B-440B-988D-F23EBEDE9C1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F544FBD-2E3E-49CF-9141-0C5803FDB7C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41A6CF2D-9355-4DB2-B825-49BBD42F2DF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706E31C-CEEA-499B-B13B-179B8D0A353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D2C73B6-C39D-4939-A060-573A3F83230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854B218-7334-42E2-8519-73D20083D06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B9FE342-38D2-40C2-9233-061C3B72BA6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F611208-328A-4EE5-A36F-3D26168A244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76DCF80-211D-4C23-96B1-E3B0D53E611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23E586F-71F8-4732-A326-05C9FDBFE79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CDEDBF2-C2B8-4AC4-9E91-49FEF9930F0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8FAAC7F-3ECB-431C-BCB3-A2D1ED385D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48037A0-D538-4659-AE18-38D0378262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D08F5EF-896B-464C-AA3C-72C8AC3A71A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ED81F6E-E32D-41A3-8FFB-5FBFD2B4B68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1FA99E2-7B6A-4FF0-892E-4AD4EA84130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48E07A9B-3310-4597-90A4-1DC7A84780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842F65D0-5A35-4040-A058-3B5E5B2243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918D886F-A3A6-4036-A9D5-9A764BD2E0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F754D4DC-9DF5-4445-A2EA-60B162C5D4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6405A898-AF81-4673-A6EA-19AF5B0239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A8B0D23D-CBCA-4DF9-A338-5A8F92835C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87A9F4BF-CE54-4D57-B49F-681065B195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46777D5F-4341-412C-8653-0A1EBA6F37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B7B43B9D-7C0A-4508-810C-1C08D3E3E0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D4774812-1D61-4225-A422-374195EF97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4CBD5524-671B-49CB-AFC9-764F959CF8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759EB472-D8AA-45E7-A199-670DCEBCF7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E114C06-F825-4C6F-862B-5D48B6D401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46F74D2-7829-4048-A157-1298BC8A56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752F6A7-E6B4-4B22-B429-7A9CF576B6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1ABBDFB-A5CE-4EBE-8690-2D416BC6FF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36D2A75-C74A-480D-B3DA-D38626CAD6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6F9D4CD-C125-4FC4-B48D-A9879A90C8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9124167-FE45-4168-BC7A-6DB88751B9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3C388CB-4974-444F-99CA-E60354385C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293BD3D-C0BA-4017-88DC-179899131D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50330DC-B707-47BB-B5C5-91855EC3A3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EC0E12C-995C-4245-AC10-A73D68603B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7C93AF4-E6C7-4734-B319-78D97E0385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44EB88E-6D64-452B-97CB-DCEA6B29F5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B0AF5A1-C020-4A50-A287-862DF6BC72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CC6C1A1-E240-469B-8480-2B2C435FC3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6A51485-E699-495A-83BC-FEE68A7FD8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3CCEBFF-C875-4355-8C02-8EEE5D72C6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7F87CE6-D28A-47FD-83FF-07A090282B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A1BA9C4-347F-4A84-BF03-8BAAA6B655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CF1DA92-18A9-495F-B3AC-C500700CF4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FE91BB4-B94E-45CD-AE5D-EB25FB0943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90D3339-0F74-44F9-9FE1-3C182692C1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4EA87F6-2C26-4548-9C0B-6023CAE882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0E5F6A4-7144-4C6E-86DA-88BF520DBF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C58F323-E348-4360-BE45-046971330A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C4071A1-FD90-4BF8-9C01-8F5154E5CA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4A1CC03-AB74-4A5C-B655-617AFB30F9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F1C219F-AF7E-4389-B464-C4C3CD98DC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8D86FA9-1514-4368-A73D-848BE0B6B7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841AE32-4CF0-49DD-A08A-B489A67C2C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53308CC-EE2A-4A50-819B-CFEB84BEEF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E6BFEAF-25D8-4C17-8A70-FA514643B6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83679E8-7B5E-443C-9DAB-B90E78A92C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E73185-2644-47B6-A8ED-7C6769FA48ED}"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4C7B916-5950-4658-B9CC-4B024A07EB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4A43546-BAE4-4434-8D74-E18BE9BA20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BE970C1-09AF-43DA-8F62-27EA8266FA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2"/>
          </p:nvPr>
        </p:nvSpPr>
        <p:spPr/>
        <p:txBody>
          <a:bodyPr/>
          <a:p>
            <a:fld id="{A240F336-1B02-4BDD-ABCA-AEB4C64606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842DD0F8-A2E3-4DDC-B546-8C09F2D073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B36C1B5E-FCEB-41A3-B856-FFF66D1050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1C4FCFB3-5792-4156-988B-DA08EC3719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846FCE5C-E6DE-48E7-94E5-4203926527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668BADFD-83D5-4F8B-81DC-9B9CC8A10A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0EDC9C08-67A5-4BAA-9B71-704CE2902B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C54A0365-B617-41BB-A820-A8EAA881E936}"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6A3B37C5-5DBA-4F4A-912A-7DD2CFA90A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1F069CB1-C115-400B-8250-5C1344665D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7A1D39B5-9D53-4F9F-B17C-198561FB8C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2"/>
          </p:nvPr>
        </p:nvSpPr>
        <p:spPr/>
        <p:txBody>
          <a:bodyPr/>
          <a:p>
            <a:fld id="{09F3FBA1-64BC-475B-A37E-52A4C6A578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2"/>
          </p:nvPr>
        </p:nvSpPr>
        <p:spPr/>
        <p:txBody>
          <a:bodyPr/>
          <a:p>
            <a:fld id="{B86784DC-46C6-43FD-A644-CCDA5668BC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1FD2D251-25DE-49C8-BB24-2DB48D36FD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67E32AB-7CD6-469D-A389-396F29CFF9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03F2580-3A14-4AC7-B36E-517C3FC1BF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6DAF36A-436E-4D19-83EB-21C6A71923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BC408AF-AFA4-480F-B6DD-555FF72A46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33690358-F304-4A6A-8893-58FA38D3B282}"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F76445C-6A8F-493D-9D36-E31CF83FC3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B0D1574-0E00-44E4-BFFB-803F5D4C23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35F1616-90CE-4004-9522-5EB0A4C47D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40F5585-F858-472C-B495-06F7E243D1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B0AB2C8-60BA-40C4-95B0-3BE279AD9D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651440ED-DC00-41F8-8382-F3E713DED3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A50A881-8270-4289-B8E4-C490F90D5F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D8CB3A9E-28D2-4949-AB6D-BB12BE91BC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FD37BC9A-25B7-4DFB-9A93-C34DBD0D00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B63F32D7-2816-4BA8-8975-1B4F4E2024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6087337D-1DE9-4DAC-B0D8-D92003BAB87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284F448B-2F47-4037-807E-B9A699FC1510}"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966EFACD-8E8C-4C87-8059-609766CC35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57EFEA9F-BC18-4F25-BCF4-B212CB43B9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E747A3EA-252C-427C-9B3C-580842348E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42BBF16-F197-4231-819D-A8EDDE51A1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ED660336-5378-4CE4-98FC-89A526778A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991FEEE-FD37-4CA2-915B-97B9AD61B8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C0F31A42-DF36-45CA-AEB1-FEE3D1F29F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9FFD672A-089F-4B35-A935-022BB72DA8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54A609C9-7757-4815-965B-9FC6F269FB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73BE8DDE-9E57-47F0-82AF-0369BC045F5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5"/>
          </p:nvPr>
        </p:nvSpPr>
        <p:spPr/>
        <p:txBody>
          <a:bodyPr/>
          <a:p>
            <a:fld id="{EFF01692-753F-4893-98ED-64583D5E5023}"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99C40452-9EE9-40AC-BDCC-3396C7CC779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2EA7E5C9-2645-4536-B4AD-9836DC82467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42A69232-BE8C-446A-8083-FA437AF7A55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2985076B-EB5C-4189-AD5F-DDEEABEC9F8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B141D048-AA74-4435-B7C7-3B5E7E6E836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38AA8239-EE43-4E39-B1E9-3ACA923C88C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8F76F8F-D211-446B-B738-54593B3FAD3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E0DC4C01-7095-4B1B-9C2E-9E6EF874893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48FF8899-5B2F-4764-9F72-7D7D9A9BD53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FB0145CC-C24C-4308-8522-9742FB9E475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5"/>
          </p:nvPr>
        </p:nvSpPr>
        <p:spPr/>
        <p:txBody>
          <a:bodyPr/>
          <a:p>
            <a:fld id="{5485C9DD-7243-4AD9-8722-47D341862EF2}"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2E06710E-1E9D-4CAF-B33F-2C71CED021B6}"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4405A12E-DF8D-4F57-820B-A8831FB9B857}"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3E0E5D9-4E92-4411-A483-DC13333B9A5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67A084B-7FC6-41A0-868F-028677A7DEB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8A5BB36-6C86-4964-9E8E-492CAA0EF84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5AABECC-00B9-4476-B38F-89AD9CDC7E1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7654F88-ED3B-4993-92A8-F0BA30B8020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5A3AB78-37EA-42EA-AB0E-E02A228CA58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8FA8A05-467B-4E82-9DCE-41354FE5C9F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92A711B-4661-45ED-B931-94BFBD702F2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EFEDC304-4140-4CC0-8A49-D46C748B455A}"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63851775-C4FD-4846-B588-E279AE2E4F5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AD64E381-05CC-4E61-B894-898C5ABC89B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7C3FDADB-9E3E-46EA-B9B3-8636EAAC7D82}"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1E68B5A6-0019-4A16-860E-B73868C941A1}"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DD9B36A-F067-436C-B22E-07659965BD6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D65FC52-2759-44B0-B36D-CB53CB2CC0DB}"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AD4CEE5-FB79-48FB-BAAF-52DCB90830B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37DFCEC-8F2A-48A9-B91F-F39F1531A80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9E5C987-7EEF-46BB-AE3D-18842366DF5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80B6783-D6D7-4E25-A742-CF05E349596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70A72510-AFCF-4C63-BFF2-24D8C5116380}"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D7BFE02-4C01-4783-92B8-30FA96C510A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432B4BD-BCD9-442B-B069-89D6F4FD2AB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C3A5213-00FC-4E59-872D-1AEA7FE6FD8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935F013C-8D6C-4ADC-BC4B-FFDE3AAF6215}"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3FAF7CFF-D080-46C6-B95E-ADD12AC29487}"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48C165A7-47D0-422D-89EE-4364D42CAAC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DC8B76BA-2693-483D-82F7-FB8544004CC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5"/>
          </p:nvPr>
        </p:nvSpPr>
        <p:spPr/>
        <p:txBody>
          <a:bodyPr/>
          <a:p>
            <a:fld id="{9C60144A-1983-464A-A9F9-869FE5CC55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5"/>
          </p:nvPr>
        </p:nvSpPr>
        <p:spPr/>
        <p:txBody>
          <a:bodyPr/>
          <a:p>
            <a:fld id="{3C6998EE-5E4E-4862-B9D0-8EC3414CFF0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
          </p:nvPr>
        </p:nvSpPr>
        <p:spPr/>
        <p:txBody>
          <a:bodyPr/>
          <a:p>
            <a:fld id="{4E6AE37F-4980-4F83-9524-F8B4B9D115C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
          </p:nvPr>
        </p:nvSpPr>
        <p:spPr/>
        <p:txBody>
          <a:bodyPr/>
          <a:p>
            <a:fld id="{F19F4D69-259D-482B-9505-148A39952F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EFE04D-5ACE-4176-9F49-FAD53221EA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409FF951-573F-4C64-90B7-01ED7EB59B4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B3C2AE9A-3AC6-41C6-920A-966403404D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B2DE5B8D-34FD-4485-BEF8-891BA0EC288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6"/>
          </p:nvPr>
        </p:nvSpPr>
        <p:spPr/>
        <p:txBody>
          <a:bodyPr/>
          <a:p>
            <a:fld id="{7B236D3C-265F-4E58-8591-5BA2E726385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6"/>
          </p:nvPr>
        </p:nvSpPr>
        <p:spPr/>
        <p:txBody>
          <a:bodyPr/>
          <a:p>
            <a:fld id="{671DF7EF-8A08-4F8A-BFD3-37194AE6A8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00504D06-1DA6-4090-BE04-52E4EB23578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F65348D9-E292-4E26-A316-52DC67B2044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13F78866-35E0-4EE1-A9F5-F7BDA60C0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3A9650FB-BAC1-4E7E-8883-0F7FAABA14F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DFD74BA4-0C7D-41A6-8837-BD2E9C9F5FE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6"/>
          </p:nvPr>
        </p:nvSpPr>
        <p:spPr/>
        <p:txBody>
          <a:bodyPr/>
          <a:p>
            <a:fld id="{3378CC91-456D-4D1C-B699-D5CBC203ABC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6"/>
          </p:nvPr>
        </p:nvSpPr>
        <p:spPr/>
        <p:txBody>
          <a:bodyPr/>
          <a:p>
            <a:fld id="{FF9E4522-DCA8-4EE4-9A9F-3D6BCB81979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00BC3A7-A76A-4CD9-AF98-21BF1A83098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CEEE7D14-6EC4-4875-AC7D-DFD4D1BC5DF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ADDF2A4D-2980-4291-A325-3A20AEDC470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25E93118-BF8B-40DB-8FCA-026C9A017A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7"/>
          </p:nvPr>
        </p:nvSpPr>
        <p:spPr/>
        <p:txBody>
          <a:bodyPr/>
          <a:p>
            <a:fld id="{CC68A5C7-0422-4EA9-952B-8F0A231E88E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7"/>
          </p:nvPr>
        </p:nvSpPr>
        <p:spPr/>
        <p:txBody>
          <a:bodyPr/>
          <a:p>
            <a:fld id="{4C63E009-D88A-4F08-959F-CC5C6A0B4C3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9A17FB08-D544-4E77-872A-DCEEA2A95E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AEDC4BEC-B654-4159-A080-BD4A53998C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AD125AE9-DF63-4FBD-9CBF-F7F943D56E5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23D55D71-B9EE-4C57-B68F-9085F74D6C2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3A9900A7-9338-4E56-B4BA-6B555B3D646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7"/>
          </p:nvPr>
        </p:nvSpPr>
        <p:spPr/>
        <p:txBody>
          <a:bodyPr/>
          <a:p>
            <a:fld id="{AA5A38E7-5849-4122-9756-9C52E1D8A8C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7"/>
          </p:nvPr>
        </p:nvSpPr>
        <p:spPr/>
        <p:txBody>
          <a:bodyPr/>
          <a:p>
            <a:fld id="{B89FCBB4-13A1-4990-B803-129469DB42E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42DCC9D-A16C-4E97-9E04-8A0DA09CA78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795FB39E-1FE7-42E9-9E6F-35383846910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50F0068F-4646-4076-ADF9-51A2EFABD9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87F36A75-6D1D-4EEF-8746-BB7BDC91EBF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8"/>
          </p:nvPr>
        </p:nvSpPr>
        <p:spPr/>
        <p:txBody>
          <a:bodyPr/>
          <a:p>
            <a:fld id="{A4205FF7-130C-4074-9F9A-24F7569069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1007D763-C462-4F2A-9772-7B289AF34F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8"/>
          </p:nvPr>
        </p:nvSpPr>
        <p:spPr/>
        <p:txBody>
          <a:bodyPr/>
          <a:p>
            <a:fld id="{4DEA02CB-2024-4ABD-9E2C-9AFA760C944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AD20389A-CE29-4CBF-B0E7-16D5CE90A8D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67189CB4-80C1-4350-A2B1-DE422E094AF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C4464FEC-9E2F-4A8D-8B24-780AF186795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6123ECB1-D6DF-4DF6-8D22-17F30B070FF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8"/>
          </p:nvPr>
        </p:nvSpPr>
        <p:spPr/>
        <p:txBody>
          <a:bodyPr/>
          <a:p>
            <a:fld id="{F7D35224-7E16-4871-975C-A45E5A2A0A0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8"/>
          </p:nvPr>
        </p:nvSpPr>
        <p:spPr/>
        <p:txBody>
          <a:bodyPr/>
          <a:p>
            <a:fld id="{146BA382-CD84-452C-A652-C33B7ECBAC9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0C2C6BB-49BF-4517-98EE-B7E83740E6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B1958945-0549-4D08-A55B-AFA3298C47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917EA282-6D8B-4297-8B0A-0760AB637E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6578-6B2E-45FB-9FDA-6AF20C4B03DB}"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7" name="Group 4"/>
          <p:cNvGrpSpPr/>
          <p:nvPr/>
        </p:nvGrpSpPr>
        <p:grpSpPr>
          <a:xfrm>
            <a:off x="771480" y="6550200"/>
            <a:ext cx="8372520" cy="320400"/>
            <a:chOff x="771480" y="6550200"/>
            <a:chExt cx="8372520" cy="320400"/>
          </a:xfrm>
        </p:grpSpPr>
        <p:sp>
          <p:nvSpPr>
            <p:cNvPr id="38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3"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8CFB-0F8E-4256-91DA-106FDA24E99F}"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4"/>
          <p:cNvGrpSpPr/>
          <p:nvPr/>
        </p:nvGrpSpPr>
        <p:grpSpPr>
          <a:xfrm>
            <a:off x="771480" y="6550200"/>
            <a:ext cx="8372520" cy="320400"/>
            <a:chOff x="771480" y="6550200"/>
            <a:chExt cx="8372520" cy="320400"/>
          </a:xfrm>
        </p:grpSpPr>
        <p:sp>
          <p:nvSpPr>
            <p:cNvPr id="43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6"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29CF-85AE-41D7-B9C2-89AD84BA401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4"/>
          <p:cNvGrpSpPr/>
          <p:nvPr/>
        </p:nvGrpSpPr>
        <p:grpSpPr>
          <a:xfrm>
            <a:off x="771480" y="6550200"/>
            <a:ext cx="8372520" cy="320400"/>
            <a:chOff x="771480" y="6550200"/>
            <a:chExt cx="8372520" cy="320400"/>
          </a:xfrm>
        </p:grpSpPr>
        <p:sp>
          <p:nvSpPr>
            <p:cNvPr id="47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80"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F424-B3B1-44CE-861C-C875F8DB847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Group 4"/>
          <p:cNvGrpSpPr/>
          <p:nvPr/>
        </p:nvGrpSpPr>
        <p:grpSpPr>
          <a:xfrm>
            <a:off x="771480" y="6550200"/>
            <a:ext cx="8372520" cy="320400"/>
            <a:chOff x="771480" y="6550200"/>
            <a:chExt cx="8372520" cy="320400"/>
          </a:xfrm>
        </p:grpSpPr>
        <p:sp>
          <p:nvSpPr>
            <p:cNvPr id="51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23"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4306-40C4-4902-83B7-8416E4417EB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Group 4"/>
          <p:cNvGrpSpPr/>
          <p:nvPr/>
        </p:nvGrpSpPr>
        <p:grpSpPr>
          <a:xfrm>
            <a:off x="771480" y="6550200"/>
            <a:ext cx="8372520" cy="320400"/>
            <a:chOff x="771480" y="6550200"/>
            <a:chExt cx="8372520" cy="320400"/>
          </a:xfrm>
        </p:grpSpPr>
        <p:sp>
          <p:nvSpPr>
            <p:cNvPr id="600"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06"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309B-600A-4751-8A79-F07F053E513D}"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50F5-DE56-432B-933A-5B150F1B68B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644" name="Group 6"/>
          <p:cNvGrpSpPr/>
          <p:nvPr/>
        </p:nvGrpSpPr>
        <p:grpSpPr>
          <a:xfrm>
            <a:off x="771480" y="6550200"/>
            <a:ext cx="8372520" cy="320400"/>
            <a:chOff x="771480" y="6550200"/>
            <a:chExt cx="8372520" cy="320400"/>
          </a:xfrm>
        </p:grpSpPr>
        <p:sp>
          <p:nvSpPr>
            <p:cNvPr id="64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Group 4"/>
          <p:cNvGrpSpPr/>
          <p:nvPr/>
        </p:nvGrpSpPr>
        <p:grpSpPr>
          <a:xfrm>
            <a:off x="771480" y="6541560"/>
            <a:ext cx="8372520" cy="321120"/>
            <a:chOff x="771480" y="6541560"/>
            <a:chExt cx="8372520" cy="321120"/>
          </a:xfrm>
        </p:grpSpPr>
        <p:sp>
          <p:nvSpPr>
            <p:cNvPr id="68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3"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F33C-09B9-4D00-A755-767C6C62508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4"/>
          <p:cNvGrpSpPr/>
          <p:nvPr/>
        </p:nvGrpSpPr>
        <p:grpSpPr>
          <a:xfrm>
            <a:off x="771480" y="6541560"/>
            <a:ext cx="8372520" cy="321120"/>
            <a:chOff x="771480" y="6541560"/>
            <a:chExt cx="8372520" cy="321120"/>
          </a:xfrm>
        </p:grpSpPr>
        <p:sp>
          <p:nvSpPr>
            <p:cNvPr id="73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7"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3314-778C-4CE2-84C4-419D71E5C75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Group 4"/>
          <p:cNvGrpSpPr/>
          <p:nvPr/>
        </p:nvGrpSpPr>
        <p:grpSpPr>
          <a:xfrm>
            <a:off x="771480" y="6550200"/>
            <a:ext cx="8372520" cy="320400"/>
            <a:chOff x="771480" y="6550200"/>
            <a:chExt cx="8372520" cy="320400"/>
          </a:xfrm>
        </p:grpSpPr>
        <p:sp>
          <p:nvSpPr>
            <p:cNvPr id="77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8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305C-8EA6-49C1-9BF9-ABEAB64EEBC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 name="PlaceHolder 3"/>
          <p:cNvSpPr>
            <a:spLocks noGrp="1"/>
          </p:cNvSpPr>
          <p:nvPr>
            <p:ph type="dt" idx="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436A-B9F2-44E5-A569-ACE2D09DD9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8" name="Group 4"/>
          <p:cNvGrpSpPr/>
          <p:nvPr/>
        </p:nvGrpSpPr>
        <p:grpSpPr>
          <a:xfrm>
            <a:off x="771480" y="6550200"/>
            <a:ext cx="8372520" cy="320400"/>
            <a:chOff x="771480" y="6550200"/>
            <a:chExt cx="8372520" cy="320400"/>
          </a:xfrm>
        </p:grpSpPr>
        <p:sp>
          <p:nvSpPr>
            <p:cNvPr id="81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89B9-29A0-439F-B8C8-F5BF0D6B13E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1" name="Group 4"/>
          <p:cNvGrpSpPr/>
          <p:nvPr/>
        </p:nvGrpSpPr>
        <p:grpSpPr>
          <a:xfrm>
            <a:off x="771480" y="6550200"/>
            <a:ext cx="8372520" cy="320400"/>
            <a:chOff x="771480" y="6550200"/>
            <a:chExt cx="8372520" cy="320400"/>
          </a:xfrm>
        </p:grpSpPr>
        <p:sp>
          <p:nvSpPr>
            <p:cNvPr id="86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7"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4BA0-E782-48F4-B27C-CF32C6DE1FDF}"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Group 4"/>
          <p:cNvGrpSpPr/>
          <p:nvPr/>
        </p:nvGrpSpPr>
        <p:grpSpPr>
          <a:xfrm>
            <a:off x="771480" y="6550200"/>
            <a:ext cx="8372520" cy="320400"/>
            <a:chOff x="771480" y="6550200"/>
            <a:chExt cx="8372520" cy="320400"/>
          </a:xfrm>
        </p:grpSpPr>
        <p:sp>
          <p:nvSpPr>
            <p:cNvPr id="90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10"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A398-1F95-457E-AE8F-B429850EE1D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7" name="Group 4"/>
          <p:cNvGrpSpPr/>
          <p:nvPr/>
        </p:nvGrpSpPr>
        <p:grpSpPr>
          <a:xfrm>
            <a:off x="771480" y="6550200"/>
            <a:ext cx="8372520" cy="320400"/>
            <a:chOff x="771480" y="6550200"/>
            <a:chExt cx="8372520" cy="320400"/>
          </a:xfrm>
        </p:grpSpPr>
        <p:sp>
          <p:nvSpPr>
            <p:cNvPr id="94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4"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D596-D152-4D75-98E4-238230FF477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Group 4"/>
          <p:cNvGrpSpPr/>
          <p:nvPr/>
        </p:nvGrpSpPr>
        <p:grpSpPr>
          <a:xfrm>
            <a:off x="771480" y="6550200"/>
            <a:ext cx="8372520" cy="320400"/>
            <a:chOff x="771480" y="6550200"/>
            <a:chExt cx="8372520" cy="320400"/>
          </a:xfrm>
        </p:grpSpPr>
        <p:sp>
          <p:nvSpPr>
            <p:cNvPr id="99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7"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694D-6D1C-49ED-BE6B-50E29BD0E3A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36" name="PlaceHolder 3"/>
          <p:cNvSpPr>
            <a:spLocks noGrp="1"/>
          </p:cNvSpPr>
          <p:nvPr>
            <p:ph type="dt" idx="23"/>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PlaceHolder 4"/>
          <p:cNvSpPr>
            <a:spLocks noGrp="1"/>
          </p:cNvSpPr>
          <p:nvPr>
            <p:ph type="ftr" idx="24"/>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5"/>
          <p:cNvSpPr>
            <a:spLocks noGrp="1"/>
          </p:cNvSpPr>
          <p:nvPr>
            <p:ph type="sldNum" idx="25"/>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3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32" name="PlaceHolder 3"/>
          <p:cNvSpPr>
            <a:spLocks noGrp="1"/>
          </p:cNvSpPr>
          <p:nvPr>
            <p:ph type="dt" idx="26"/>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4"/>
          <p:cNvSpPr>
            <a:spLocks noGrp="1"/>
          </p:cNvSpPr>
          <p:nvPr>
            <p:ph type="ftr" idx="2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PlaceHolder 5"/>
          <p:cNvSpPr>
            <a:spLocks noGrp="1"/>
          </p:cNvSpPr>
          <p:nvPr>
            <p:ph type="sldNum" idx="2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6BCC-1302-4677-A7E9-B05E929E1A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79"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16E1-0224-463B-9D56-B2B2AA7D05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81"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21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36" name="PlaceHolder 3"/>
          <p:cNvSpPr>
            <a:spLocks noGrp="1"/>
          </p:cNvSpPr>
          <p:nvPr>
            <p:ph type="dt" idx="32"/>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3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3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651A-B73C-4CB5-9F82-B88B3FB02E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83" name="PlaceHolder 3"/>
          <p:cNvSpPr>
            <a:spLocks noGrp="1"/>
          </p:cNvSpPr>
          <p:nvPr>
            <p:ph type="dt" idx="3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PlaceHolder 4"/>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PlaceHolder 5"/>
          <p:cNvSpPr>
            <a:spLocks noGrp="1"/>
          </p:cNvSpPr>
          <p:nvPr>
            <p:ph type="sldNum" idx="3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C2D9-3F07-44F3-8FFB-53874F6AF6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2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30"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PlaceHolder 4"/>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5"/>
          <p:cNvSpPr>
            <a:spLocks noGrp="1"/>
          </p:cNvSpPr>
          <p:nvPr>
            <p:ph type="sldNum" idx="4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C294-32F9-45F6-84D1-43193751429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7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77" name="PlaceHolder 3"/>
          <p:cNvSpPr>
            <a:spLocks noGrp="1"/>
          </p:cNvSpPr>
          <p:nvPr>
            <p:ph type="dt" idx="4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4"/>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B5EE-957A-4C13-8795-270AE01310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79" name="PlaceHolder 5"/>
          <p:cNvSpPr>
            <a:spLocks noGrp="1"/>
          </p:cNvSpPr>
          <p:nvPr>
            <p:ph type="ftr" idx="4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24"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894E-23AE-4835-AA70-4D24A8C83A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7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72"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sldNum" idx="4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50C4-6747-4396-ACD5-8A06B9410E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74" name="PlaceHolder 5"/>
          <p:cNvSpPr>
            <a:spLocks noGrp="1"/>
          </p:cNvSpPr>
          <p:nvPr>
            <p:ph type="ftr" idx="4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1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20"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85F6-06D1-43C8-8CE0-8661819EF4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22"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6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67"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DB90-F500-48C5-936C-BC54E757A3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1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14"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PlaceHolder 4"/>
          <p:cNvSpPr>
            <a:spLocks noGrp="1"/>
          </p:cNvSpPr>
          <p:nvPr>
            <p:ph type="ftr" idx="5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PlaceHolder 5"/>
          <p:cNvSpPr>
            <a:spLocks noGrp="1"/>
          </p:cNvSpPr>
          <p:nvPr>
            <p:ph type="sldNum" idx="5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35ED-076C-472E-9B0A-10E65266AF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4"/>
          <p:cNvGrpSpPr/>
          <p:nvPr/>
        </p:nvGrpSpPr>
        <p:grpSpPr>
          <a:xfrm>
            <a:off x="771480" y="6550200"/>
            <a:ext cx="8372520" cy="320400"/>
            <a:chOff x="771480" y="6550200"/>
            <a:chExt cx="8372520" cy="320400"/>
          </a:xfrm>
        </p:grpSpPr>
        <p:sp>
          <p:nvSpPr>
            <p:cNvPr id="126"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2"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9AF0-15F6-4127-9AC3-4D0C940382E0}"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9749-3918-4773-ABCC-9999D60A0D9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70" name="Group 6"/>
          <p:cNvGrpSpPr/>
          <p:nvPr/>
        </p:nvGrpSpPr>
        <p:grpSpPr>
          <a:xfrm>
            <a:off x="771480" y="6550200"/>
            <a:ext cx="8372520" cy="320400"/>
            <a:chOff x="771480" y="6550200"/>
            <a:chExt cx="8372520" cy="320400"/>
          </a:xfrm>
        </p:grpSpPr>
        <p:sp>
          <p:nvSpPr>
            <p:cNvPr id="171"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4"/>
          <p:cNvGrpSpPr/>
          <p:nvPr/>
        </p:nvGrpSpPr>
        <p:grpSpPr>
          <a:xfrm>
            <a:off x="771480" y="6541560"/>
            <a:ext cx="8372520" cy="321120"/>
            <a:chOff x="771480" y="6541560"/>
            <a:chExt cx="8372520" cy="321120"/>
          </a:xfrm>
        </p:grpSpPr>
        <p:sp>
          <p:nvSpPr>
            <p:cNvPr id="213"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9"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4B86-2D6D-44B9-B294-9FEE6D17FECD}"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4"/>
          <p:cNvGrpSpPr/>
          <p:nvPr/>
        </p:nvGrpSpPr>
        <p:grpSpPr>
          <a:xfrm>
            <a:off x="771480" y="6541560"/>
            <a:ext cx="8372520" cy="321120"/>
            <a:chOff x="771480" y="6541560"/>
            <a:chExt cx="8372520" cy="321120"/>
          </a:xfrm>
        </p:grpSpPr>
        <p:sp>
          <p:nvSpPr>
            <p:cNvPr id="257"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3"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6F78-6741-4943-81C9-D75346181FF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Group 4"/>
          <p:cNvGrpSpPr/>
          <p:nvPr/>
        </p:nvGrpSpPr>
        <p:grpSpPr>
          <a:xfrm>
            <a:off x="771480" y="6550200"/>
            <a:ext cx="8372520" cy="320400"/>
            <a:chOff x="771480" y="6550200"/>
            <a:chExt cx="8372520" cy="320400"/>
          </a:xfrm>
        </p:grpSpPr>
        <p:sp>
          <p:nvSpPr>
            <p:cNvPr id="3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C3DC-8C14-4D72-BB67-E54AFA32A05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Group 4"/>
          <p:cNvGrpSpPr/>
          <p:nvPr/>
        </p:nvGrpSpPr>
        <p:grpSpPr>
          <a:xfrm>
            <a:off x="771480" y="6550200"/>
            <a:ext cx="8372520" cy="320400"/>
            <a:chOff x="771480" y="6550200"/>
            <a:chExt cx="8372520" cy="320400"/>
          </a:xfrm>
        </p:grpSpPr>
        <p:sp>
          <p:nvSpPr>
            <p:cNvPr id="3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5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B72A-75E5-49D1-863F-6BE85923856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14.xml.rels><?xml version="1.0" encoding="UTF-8"?>
<Relationships xmlns="http://schemas.openxmlformats.org/package/2006/relationships"><Relationship Id="rId1" Type="http://schemas.openxmlformats.org/officeDocument/2006/relationships/hyperlink" Target="mailto:lsuters@tntech.edu" TargetMode="External"/><Relationship Id="rId2" Type="http://schemas.openxmlformats.org/officeDocument/2006/relationships/hyperlink" Target="mailto:kpennycuff@tntech.edu" TargetMode="External"/><Relationship Id="rId3"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2590560" y="1600200"/>
            <a:ext cx="571500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TEXT COMPLEXITY</a:t>
            </a:r>
            <a:br>
              <a:rPr sz="3000"/>
            </a:br>
            <a:endParaRPr b="0" lang="en-US" sz="3000" spc="-1" strike="noStrike">
              <a:solidFill>
                <a:srgbClr val="575f6d"/>
              </a:solidFill>
              <a:latin typeface="Century Schoolbook"/>
            </a:endParaRPr>
          </a:p>
        </p:txBody>
      </p:sp>
      <p:sp>
        <p:nvSpPr>
          <p:cNvPr id="1661" name="PlaceHolder 2"/>
          <p:cNvSpPr>
            <a:spLocks noGrp="1"/>
          </p:cNvSpPr>
          <p:nvPr>
            <p:ph type="subTitle"/>
          </p:nvPr>
        </p:nvSpPr>
        <p:spPr>
          <a:xfrm>
            <a:off x="2666880" y="4266720"/>
            <a:ext cx="4965840" cy="1003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Leslie Suter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Kristen Pennycuff Tren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QUALITATIVE MEASURES</a:t>
            </a:r>
            <a:endParaRPr b="0" lang="en-US" sz="2800" spc="-1" strike="noStrike">
              <a:solidFill>
                <a:srgbClr val="575f6d"/>
              </a:solidFill>
              <a:latin typeface="Century Schoolbook"/>
            </a:endParaRPr>
          </a:p>
        </p:txBody>
      </p:sp>
      <p:sp>
        <p:nvSpPr>
          <p:cNvPr id="168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6" name="Picture 3" descr="Screen Clipping"/>
          <p:cNvPicPr/>
          <p:nvPr/>
        </p:nvPicPr>
        <p:blipFill>
          <a:blip r:embed="rId1"/>
          <a:stretch/>
        </p:blipFill>
        <p:spPr>
          <a:xfrm>
            <a:off x="776160" y="1219320"/>
            <a:ext cx="749772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MATCHING READERS AND TEXTS</a:t>
            </a:r>
            <a:endParaRPr b="0" lang="en-US" sz="2800" spc="-1" strike="noStrike">
              <a:solidFill>
                <a:srgbClr val="575f6d"/>
              </a:solidFill>
              <a:latin typeface="Century Schoolbook"/>
            </a:endParaRPr>
          </a:p>
        </p:txBody>
      </p:sp>
      <p:sp>
        <p:nvSpPr>
          <p:cNvPr id="1688" name=""/>
          <p:cNvSpPr txBox="1"/>
          <p:nvPr/>
        </p:nvSpPr>
        <p:spPr>
          <a:xfrm>
            <a:off x="685800" y="1218960"/>
            <a:ext cx="769608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9" name="Picture 3" descr="Screen Clipping"/>
          <p:cNvPicPr/>
          <p:nvPr/>
        </p:nvPicPr>
        <p:blipFill>
          <a:blip r:embed="rId1"/>
          <a:stretch/>
        </p:blipFill>
        <p:spPr>
          <a:xfrm>
            <a:off x="1676520" y="1270080"/>
            <a:ext cx="5510160" cy="52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169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16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4723-0890-4A2F-9827-39602D1651F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693" name="Picture 5" descr=""/>
          <p:cNvPicPr/>
          <p:nvPr/>
        </p:nvPicPr>
        <p:blipFill>
          <a:blip r:embed="rId1"/>
          <a:stretch/>
        </p:blipFill>
        <p:spPr>
          <a:xfrm>
            <a:off x="695160" y="533520"/>
            <a:ext cx="743436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RATEGIC READING IN SCIENCE</a:t>
            </a:r>
            <a:endParaRPr b="0" lang="en-US" sz="3000" spc="-1" strike="noStrike">
              <a:solidFill>
                <a:srgbClr val="575f6d"/>
              </a:solidFill>
              <a:latin typeface="Century Schoolbook"/>
            </a:endParaRPr>
          </a:p>
        </p:txBody>
      </p:sp>
      <p:graphicFrame>
        <p:nvGraphicFramePr>
          <p:cNvPr id="1695" name=""/>
          <p:cNvGraphicFramePr/>
          <p:nvPr/>
        </p:nvGraphicFramePr>
        <p:xfrm>
          <a:off x="826920" y="1430280"/>
          <a:ext cx="6728040" cy="5213520"/>
        </p:xfrm>
        <a:graphic>
          <a:graphicData uri="http://schemas.openxmlformats.org/drawingml/2006/table">
            <a:tbl>
              <a:tblPr/>
              <a:tblGrid>
                <a:gridCol w="6728040"/>
              </a:tblGrid>
              <a:tr h="182880">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BEFORE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402560">
                <a:tc>
                  <a:txBody>
                    <a:bodyPr lIns="66240" rIns="6624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recognize this type of selection?</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Is the source of this information reputabl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ould the source have a bias?</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es it give me information or tell directions? How do I know?</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will this selection be about? Do the graphics tell me anything?</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lready know something about the topic that will help m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questions do I have about the topic?</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my purpose for reading this selection?</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libri"/>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DURING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500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have I learned so far?</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can I figure out difficult words or parts of the selection I don't understan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the meanings of terms I know fit with the scientific context or do I need to learn more?</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strategies will help me understand and remember this kind of reading?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the author saying directly and what do they imply?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m I able to detect any bias in the information? Would another author or groups present the information differently?</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an I visualize what has been describe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 visuals in the text helpful to my understanding?</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AFTER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734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the questions I had before reading get answere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I learn what I wanted to? What can I do if I still have unanswered questions?</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ould I recommend this selection to someone else?  Why or why no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ere my predictions about the selection correc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gree with what the source sai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ould I summarize what I rea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re any parts that I should read again to be sure that I understand what it mean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as this selection similar to and different from other information I have read on this topic?</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have any personal experiences that tie in with this information?</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might I use this information to investigate further?</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8ECF-74CB-49E3-9105-A4570487FE0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97" name="Rectangle 1"/>
          <p:cNvSpPr/>
          <p:nvPr/>
        </p:nvSpPr>
        <p:spPr>
          <a:xfrm>
            <a:off x="5307120" y="1521000"/>
            <a:ext cx="183960" cy="276120"/>
          </a:xfrm>
          <a:prstGeom prst="rect">
            <a:avLst/>
          </a:prstGeom>
          <a:no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COMMENTS?</a:t>
            </a:r>
            <a:endParaRPr b="0" lang="en-US" sz="3000" spc="-1" strike="noStrike">
              <a:solidFill>
                <a:srgbClr val="575f6d"/>
              </a:solidFill>
              <a:latin typeface="Century Schoolbook"/>
            </a:endParaRPr>
          </a:p>
        </p:txBody>
      </p:sp>
      <p:sp>
        <p:nvSpPr>
          <p:cNvPr id="16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Leslie Sute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1"/>
              </a:rPr>
              <a:t>lsuters@tntech.edu</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Kristen Pennycuff Tr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2"/>
              </a:rPr>
              <a:t>kpennycuff@tntech.edu</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INK, PAIR, SHARE</a:t>
            </a:r>
            <a:endParaRPr b="0" lang="en-US" sz="3000" spc="-1" strike="noStrike">
              <a:solidFill>
                <a:srgbClr val="575f6d"/>
              </a:solidFill>
              <a:latin typeface="Century Schoolbook"/>
            </a:endParaRPr>
          </a:p>
        </p:txBody>
      </p:sp>
      <p:sp>
        <p:nvSpPr>
          <p:cNvPr id="16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is it important to use informational text in science classroom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SHOULD WE?</a:t>
            </a:r>
            <a:endParaRPr b="0" lang="en-US" sz="3000" spc="-1" strike="noStrike">
              <a:solidFill>
                <a:srgbClr val="575f6d"/>
              </a:solidFill>
              <a:latin typeface="Century Schoolbook"/>
            </a:endParaRPr>
          </a:p>
        </p:txBody>
      </p:sp>
      <p:sp>
        <p:nvSpPr>
          <p:cNvPr id="1665" name=""/>
          <p:cNvSpPr txBox="1"/>
          <p:nvPr/>
        </p:nvSpPr>
        <p:spPr>
          <a:xfrm>
            <a:off x="456840" y="1828440"/>
            <a:ext cx="7924680" cy="4419720"/>
          </a:xfrm>
          <a:prstGeom prst="rect">
            <a:avLst/>
          </a:prstGeom>
          <a:solidFill>
            <a:srgbClr val="ffffff"/>
          </a:solid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in school usually read informational text to answer questions at the back of the chapter, to complete a test prep worksheet, or simply because the teacher said to do so. Some of these activities may be unavoidable, but </a:t>
            </a:r>
            <a:r>
              <a:rPr b="0" i="1" lang="en-US" sz="2400" spc="-1" strike="noStrike">
                <a:solidFill>
                  <a:srgbClr val="000000"/>
                </a:solidFill>
                <a:latin typeface="Century Schoolbook"/>
              </a:rPr>
              <a:t>we need to create classrooms in which students read informational text as often as possible for more compelling purposes</a:t>
            </a:r>
            <a:r>
              <a:rPr b="0" lang="en-US" sz="2400" spc="-1" strike="noStrike">
                <a:solidFill>
                  <a:srgbClr val="000000"/>
                </a:solidFill>
                <a:latin typeface="Century Schoolbook"/>
              </a:rPr>
              <a:t>. In a recent study, 2nd and 3rd grade students whose teachers encouraged more authentic reading and writing of informational and how-to texts in science showed higher growth in reading comprehension as well as in writing (Purcell-Gates &amp; Duke, 2003).</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6840" y="274680"/>
            <a:ext cx="7543800" cy="15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HOW DO WE CREATE COMPELLING REASONS TO READ INFORMATIONAL TEXT? </a:t>
            </a:r>
            <a:endParaRPr b="0" lang="en-US" sz="3600" spc="-1" strike="noStrike">
              <a:solidFill>
                <a:srgbClr val="575f6d"/>
              </a:solidFill>
              <a:latin typeface="Century Schoolbook"/>
            </a:endParaRPr>
          </a:p>
        </p:txBody>
      </p:sp>
      <p:sp>
        <p:nvSpPr>
          <p:cNvPr id="1667" name=""/>
          <p:cNvSpPr txBox="1"/>
          <p:nvPr/>
        </p:nvSpPr>
        <p:spPr>
          <a:xfrm>
            <a:off x="0" y="1828800"/>
            <a:ext cx="8229600" cy="4952880"/>
          </a:xfrm>
          <a:prstGeom prst="rect">
            <a:avLst/>
          </a:prstGeom>
          <a:noFill/>
          <a:ln w="9360">
            <a:solidFill>
              <a:srgbClr val="3668c4"/>
            </a:solidFill>
            <a:miter/>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2200" spc="-1" strike="noStrike">
                <a:solidFill>
                  <a:srgbClr val="000000"/>
                </a:solidFill>
                <a:latin typeface="Century Schoolbook"/>
              </a:rPr>
              <a:t>Teachers can set up situations in which students need information, then encourage students to read to obtain that information. Students may want to find information about the life cycles of frogs before setting up a tadpole tank or learn about the needs of growing things before planting a window box. Teachers can pique students' curiosity: putting out some earthworms for students to observe; demonstrating that water left out in a pan on Friday has “disappeared” on Monday; setting out some magnets with various materials that the magnets will or will not attract. Students will read informational books and other print materials on earthworms, evaporation, and magnetism with greater interest and purpose after such activities as these</a:t>
            </a:r>
            <a:r>
              <a:rPr b="1" lang="en-US" sz="2200" spc="-1" strike="noStrike">
                <a:solidFill>
                  <a:srgbClr val="d0a80a"/>
                </a:solidFill>
                <a:latin typeface="Century Schoolbook"/>
              </a:rPr>
              <a:t>. </a:t>
            </a:r>
            <a:endParaRPr b="0" lang="en-US" sz="2200" spc="-1" strike="noStrike">
              <a:solidFill>
                <a:srgbClr val="000000"/>
              </a:solidFill>
              <a:latin typeface="Century Schoolbook"/>
            </a:endParaRPr>
          </a:p>
        </p:txBody>
      </p:sp>
      <p:pic>
        <p:nvPicPr>
          <p:cNvPr id="1668" name="Picture 2" descr="C:\Users\Katie\AppData\Local\Microsoft\Windows\Temporary Internet Files\Content.IE5\RDPL7504\MC900340404[1].wmf"/>
          <p:cNvPicPr/>
          <p:nvPr/>
        </p:nvPicPr>
        <p:blipFill>
          <a:blip r:embed="rId1"/>
          <a:stretch/>
        </p:blipFill>
        <p:spPr>
          <a:xfrm>
            <a:off x="7734240" y="1065240"/>
            <a:ext cx="949320" cy="1050840"/>
          </a:xfrm>
          <a:prstGeom prst="rect">
            <a:avLst/>
          </a:prstGeom>
          <a:ln w="0">
            <a:noFill/>
          </a:ln>
        </p:spPr>
      </p:pic>
      <p:pic>
        <p:nvPicPr>
          <p:cNvPr id="1669" name="Picture 3" descr="C:\Users\Katie\AppData\Local\Microsoft\Windows\Temporary Internet Files\Content.IE5\RDPL7504\MC900329589[1].wmf"/>
          <p:cNvPicPr/>
          <p:nvPr/>
        </p:nvPicPr>
        <p:blipFill>
          <a:blip r:embed="rId2"/>
          <a:stretch/>
        </p:blipFill>
        <p:spPr>
          <a:xfrm>
            <a:off x="5051520" y="1260360"/>
            <a:ext cx="691920" cy="658800"/>
          </a:xfrm>
          <a:prstGeom prst="rect">
            <a:avLst/>
          </a:prstGeom>
          <a:ln w="0">
            <a:noFill/>
          </a:ln>
        </p:spPr>
      </p:pic>
      <p:pic>
        <p:nvPicPr>
          <p:cNvPr id="1670" name="Picture 4" descr="C:\Users\Katie\AppData\Local\Microsoft\Windows\Temporary Internet Files\Content.IE5\EJH4E1OI\MC900057341[1].wmf"/>
          <p:cNvPicPr/>
          <p:nvPr/>
        </p:nvPicPr>
        <p:blipFill>
          <a:blip r:embed="rId3"/>
          <a:stretch/>
        </p:blipFill>
        <p:spPr>
          <a:xfrm>
            <a:off x="2639880" y="1136520"/>
            <a:ext cx="838440" cy="6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EADING TO OR WITH? </a:t>
            </a:r>
            <a:endParaRPr b="0" lang="en-US" sz="3200" spc="-1" strike="noStrike">
              <a:solidFill>
                <a:srgbClr val="575f6d"/>
              </a:solidFill>
              <a:latin typeface="Century Schoolbook"/>
            </a:endParaRPr>
          </a:p>
        </p:txBody>
      </p:sp>
      <p:sp>
        <p:nvSpPr>
          <p:cNvPr id="1672" name=""/>
          <p:cNvSpPr txBox="1"/>
          <p:nvPr/>
        </p:nvSpPr>
        <p:spPr>
          <a:xfrm>
            <a:off x="457200" y="1600200"/>
            <a:ext cx="8229600" cy="5029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formational text may be portioned into small segments for reading to or with stud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not a plot moving from chapter to chapter with the reader left dangling at the end of a chapter so they will want to read on as in a novel.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ers can dip into nonfiction text, part by p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bout independent rea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ADING IN SCIENCE: TEXT COMPLEXITY </a:t>
            </a:r>
            <a:endParaRPr b="0" lang="en-US" sz="3000" spc="-1" strike="noStrike">
              <a:solidFill>
                <a:srgbClr val="575f6d"/>
              </a:solidFill>
              <a:latin typeface="Century Schoolbook"/>
            </a:endParaRPr>
          </a:p>
        </p:txBody>
      </p:sp>
      <p:graphicFrame>
        <p:nvGraphicFramePr>
          <p:cNvPr id="1674" name=""/>
          <p:cNvGraphicFramePr/>
          <p:nvPr/>
        </p:nvGraphicFramePr>
        <p:xfrm>
          <a:off x="2133720" y="1981080"/>
          <a:ext cx="4876560" cy="2579760"/>
        </p:xfrm>
        <a:graphic>
          <a:graphicData uri="http://schemas.openxmlformats.org/drawingml/2006/table">
            <a:tbl>
              <a:tblPr/>
              <a:tblGrid>
                <a:gridCol w="1814400"/>
                <a:gridCol w="3062160"/>
              </a:tblGrid>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litativ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Levels of meaning, structure, language conventionality and clarity, and knowledge demand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ntitativ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Readability measures and other scores of text complexit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Reader &amp; Tas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tching reader variables (such as motivation, knowledge and experiences) and task variables (such as purpose and complexity generated by the task assigned and the questions pose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75" name="Picture 1" descr=""/>
          <p:cNvPicPr/>
          <p:nvPr/>
        </p:nvPicPr>
        <p:blipFill>
          <a:blip r:embed="rId1"/>
          <a:stretch/>
        </p:blipFill>
        <p:spPr>
          <a:xfrm>
            <a:off x="3352680" y="4770360"/>
            <a:ext cx="222912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TEXT COMPLEXITY AND LEXILE SCORES</a:t>
            </a:r>
            <a:endParaRPr b="0" lang="en-US" sz="3200" spc="-1" strike="noStrike">
              <a:solidFill>
                <a:srgbClr val="575f6d"/>
              </a:solidFill>
              <a:latin typeface="Century Schoolbook"/>
            </a:endParaRPr>
          </a:p>
        </p:txBody>
      </p:sp>
      <p:pic>
        <p:nvPicPr>
          <p:cNvPr id="1677" name="Picture 2" descr=""/>
          <p:cNvPicPr/>
          <p:nvPr/>
        </p:nvPicPr>
        <p:blipFill>
          <a:blip r:embed="rId1"/>
          <a:stretch/>
        </p:blipFill>
        <p:spPr>
          <a:xfrm>
            <a:off x="1676520" y="1905120"/>
            <a:ext cx="5779800" cy="3316320"/>
          </a:xfrm>
          <a:prstGeom prst="rect">
            <a:avLst/>
          </a:prstGeom>
          <a:ln w="0">
            <a:noFill/>
          </a:ln>
        </p:spPr>
      </p:pic>
      <p:sp>
        <p:nvSpPr>
          <p:cNvPr id="1678" name="Rectangle 3"/>
          <p:cNvSpPr/>
          <p:nvPr/>
        </p:nvSpPr>
        <p:spPr>
          <a:xfrm>
            <a:off x="4119120" y="51814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om CCSS ELA Appendix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ELERATED READER ATOS LEVELS</a:t>
            </a:r>
            <a:endParaRPr b="0" lang="en-US" sz="3000" spc="-1" strike="noStrike">
              <a:solidFill>
                <a:srgbClr val="575f6d"/>
              </a:solidFill>
              <a:latin typeface="Century Schoolbook"/>
            </a:endParaRPr>
          </a:p>
        </p:txBody>
      </p:sp>
      <p:pic>
        <p:nvPicPr>
          <p:cNvPr id="1680" name="Content Placeholder 4" descr=""/>
          <p:cNvPicPr/>
          <p:nvPr/>
        </p:nvPicPr>
        <p:blipFill>
          <a:blip r:embed="rId1"/>
          <a:stretch/>
        </p:blipFill>
        <p:spPr>
          <a:xfrm>
            <a:off x="446040" y="2057400"/>
            <a:ext cx="7871040" cy="3030480"/>
          </a:xfrm>
          <a:prstGeom prst="rect">
            <a:avLst/>
          </a:prstGeom>
          <a:ln w="0">
            <a:noFill/>
          </a:ln>
        </p:spPr>
      </p:pic>
      <p:sp>
        <p:nvSpPr>
          <p:cNvPr id="16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8E1D-5510-48AE-A63A-9D7E1ACF38D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ANALYZING LEXILE SCORES AT LEXILE.COM</a:t>
            </a:r>
            <a:endParaRPr b="0" lang="en-US" sz="3200" spc="-1" strike="noStrike">
              <a:solidFill>
                <a:srgbClr val="575f6d"/>
              </a:solidFill>
              <a:latin typeface="Century Schoolbook"/>
            </a:endParaRPr>
          </a:p>
        </p:txBody>
      </p:sp>
      <p:pic>
        <p:nvPicPr>
          <p:cNvPr id="1683" name="Content Placeholder 3" descr="Screen Clipping"/>
          <p:cNvPicPr/>
          <p:nvPr/>
        </p:nvPicPr>
        <p:blipFill>
          <a:blip r:embed="rId1"/>
          <a:stretch/>
        </p:blipFill>
        <p:spPr>
          <a:xfrm>
            <a:off x="1698480" y="1371600"/>
            <a:ext cx="588024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Pennycuff, Kristen</cp:lastModifiedBy>
  <cp:lastPrinted>2016-06-30T01:22:36Z</cp:lastPrinted>
  <dcterms:modified xsi:type="dcterms:W3CDTF">2016-07-11T19:29:19Z</dcterms:modified>
  <cp:revision>152</cp:revision>
  <dc:subject/>
  <dc:title>Sustaining Talk</dc:title>
</cp:coreProperties>
</file>