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4"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5" name="PlaceHolder 2"/>
          <p:cNvSpPr>
            <a:spLocks noGrp="1"/>
          </p:cNvSpPr>
          <p:nvPr>
            <p:ph type="dt" idx="59"/>
          </p:nvPr>
        </p:nvSpPr>
        <p:spPr>
          <a:xfrm>
            <a:off x="4008240" y="-360"/>
            <a:ext cx="306684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6" name="PlaceHolder 3"/>
          <p:cNvSpPr>
            <a:spLocks noGrp="1"/>
          </p:cNvSpPr>
          <p:nvPr>
            <p:ph type="sldImg"/>
          </p:nvPr>
        </p:nvSpPr>
        <p:spPr>
          <a:xfrm>
            <a:off x="1196640" y="701640"/>
            <a:ext cx="4683240" cy="3511440"/>
          </a:xfrm>
          <a:prstGeom prst="rect">
            <a:avLst/>
          </a:prstGeom>
          <a:noFill/>
          <a:ln w="9360">
            <a:solidFill>
              <a:srgbClr val="000000"/>
            </a:solidFill>
            <a:miter/>
          </a:ln>
        </p:spPr>
        <p:txBody>
          <a:bodyPr lIns="93960" rIns="9396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657"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8" name="PlaceHolder 5"/>
          <p:cNvSpPr>
            <a:spLocks noGrp="1"/>
          </p:cNvSpPr>
          <p:nvPr>
            <p:ph type="ftr" idx="60"/>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1659" name="PlaceHolder 6"/>
          <p:cNvSpPr>
            <a:spLocks noGrp="1"/>
          </p:cNvSpPr>
          <p:nvPr>
            <p:ph type="sldNum" idx="61"/>
          </p:nvPr>
        </p:nvSpPr>
        <p:spPr>
          <a:xfrm>
            <a:off x="4008240" y="8892720"/>
            <a:ext cx="3066840" cy="468360"/>
          </a:xfrm>
          <a:prstGeom prst="rect">
            <a:avLst/>
          </a:prstGeom>
          <a:noFill/>
          <a:ln w="0">
            <a:noFill/>
          </a:ln>
        </p:spPr>
        <p:txBody>
          <a:bodyPr lIns="93960" rIns="9396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BA43-0CC5-4575-985B-85BE2D98D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97000" y="701640"/>
            <a:ext cx="4683240" cy="3511440"/>
          </a:xfrm>
          <a:prstGeom prst="rect">
            <a:avLst/>
          </a:prstGeom>
          <a:ln w="0">
            <a:noFill/>
          </a:ln>
        </p:spPr>
      </p:sp>
      <p:sp>
        <p:nvSpPr>
          <p:cNvPr id="171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tanabe.blogspot.com/2012/09/addressing-text-complexity-through.html </a:t>
            </a:r>
            <a:endParaRPr b="0" lang="en-US" sz="1200" spc="-1" strike="noStrike">
              <a:solidFill>
                <a:srgbClr val="000000"/>
              </a:solidFill>
              <a:latin typeface="Arial"/>
            </a:endParaRPr>
          </a:p>
        </p:txBody>
      </p:sp>
      <p:sp>
        <p:nvSpPr>
          <p:cNvPr id="17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EC45-E8F4-4762-97E1-C5E37CA3E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97000" y="701640"/>
            <a:ext cx="4683240" cy="3511440"/>
          </a:xfrm>
          <a:prstGeom prst="rect">
            <a:avLst/>
          </a:prstGeom>
          <a:ln w="0">
            <a:noFill/>
          </a:ln>
        </p:spPr>
      </p:sp>
      <p:sp>
        <p:nvSpPr>
          <p:cNvPr id="170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time for audience to share with each other how they create compelling reason for students to read informational text…ask for a few people to share out their ideas by writing them down on cards and holding them up.  </a:t>
            </a:r>
            <a:endParaRPr b="0" lang="en-US" sz="1200" spc="-1" strike="noStrike">
              <a:solidFill>
                <a:srgbClr val="000000"/>
              </a:solidFill>
              <a:latin typeface="Arial"/>
            </a:endParaRPr>
          </a:p>
        </p:txBody>
      </p:sp>
      <p:sp>
        <p:nvSpPr>
          <p:cNvPr id="17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1EFA-6CED-478C-B8B6-FE5032101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97000" y="701640"/>
            <a:ext cx="4683240" cy="3511440"/>
          </a:xfrm>
          <a:prstGeom prst="rect">
            <a:avLst/>
          </a:prstGeom>
          <a:ln w="0">
            <a:noFill/>
          </a:ln>
        </p:spPr>
      </p:sp>
      <p:sp>
        <p:nvSpPr>
          <p:cNvPr id="170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161C-9C1E-43AF-AD13-1862ACB6A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197000" y="701640"/>
            <a:ext cx="4683240" cy="3511440"/>
          </a:xfrm>
          <a:prstGeom prst="rect">
            <a:avLst/>
          </a:prstGeom>
          <a:ln w="0">
            <a:noFill/>
          </a:ln>
        </p:spPr>
      </p:sp>
      <p:sp>
        <p:nvSpPr>
          <p:cNvPr id="170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s “I Know Why the Caged Bird Sings” ATOS 5.5 NOT appropriate for 5</a:t>
            </a:r>
            <a:r>
              <a:rPr b="0" lang="en-US" sz="1200" spc="-1" strike="noStrike" baseline="30000">
                <a:solidFill>
                  <a:srgbClr val="000000"/>
                </a:solidFill>
                <a:latin typeface="Arial"/>
              </a:rPr>
              <a:t>th</a:t>
            </a:r>
            <a:r>
              <a:rPr b="0" lang="en-US" sz="1200" spc="-1" strike="noStrike">
                <a:solidFill>
                  <a:srgbClr val="000000"/>
                </a:solidFill>
                <a:latin typeface="Arial"/>
              </a:rPr>
              <a:t> graders at old ATOS or 4</a:t>
            </a:r>
            <a:r>
              <a:rPr b="0" lang="en-US" sz="1200" spc="-1" strike="noStrike" baseline="30000">
                <a:solidFill>
                  <a:srgbClr val="000000"/>
                </a:solidFill>
                <a:latin typeface="Arial"/>
              </a:rPr>
              <a:t>th</a:t>
            </a:r>
            <a:r>
              <a:rPr b="0" lang="en-US" sz="1200" spc="-1" strike="noStrike">
                <a:solidFill>
                  <a:srgbClr val="000000"/>
                </a:solidFill>
                <a:latin typeface="Arial"/>
              </a:rPr>
              <a:t> graders at new “stretch” scor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zanne Collin’s “Hunger Games” quantitative measures of 5.3 but qualitative measures make it more 7</a:t>
            </a:r>
            <a:r>
              <a:rPr b="0" lang="en-US" sz="1200" spc="-1" strike="noStrike" baseline="30000">
                <a:solidFill>
                  <a:srgbClr val="000000"/>
                </a:solidFill>
                <a:latin typeface="Arial"/>
              </a:rPr>
              <a:t>th</a:t>
            </a:r>
            <a:r>
              <a:rPr b="0" lang="en-US" sz="1200" spc="-1" strike="noStrike">
                <a:solidFill>
                  <a:srgbClr val="000000"/>
                </a:solidFill>
                <a:latin typeface="Arial"/>
              </a:rPr>
              <a:t> grade</a:t>
            </a:r>
            <a:endParaRPr b="0" lang="en-US" sz="1200" spc="-1" strike="noStrike">
              <a:solidFill>
                <a:srgbClr val="000000"/>
              </a:solidFill>
              <a:latin typeface="Arial"/>
            </a:endParaRPr>
          </a:p>
        </p:txBody>
      </p:sp>
      <p:sp>
        <p:nvSpPr>
          <p:cNvPr id="17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B2AA-2D30-4719-B274-D9462A7F6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73B3C-13EB-4404-B9B0-16BD6EF032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E01F5EF7-36AA-4D75-A433-6F076D1582E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E5916348-8FE6-4D86-A5BB-BAA9E37B50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9"/>
          </p:nvPr>
        </p:nvSpPr>
        <p:spPr/>
        <p:txBody>
          <a:bodyPr/>
          <a:p>
            <a:fld id="{833511EB-C99E-4EE5-8832-39F1B2898A0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9"/>
          </p:nvPr>
        </p:nvSpPr>
        <p:spPr/>
        <p:txBody>
          <a:bodyPr/>
          <a:p>
            <a:fld id="{A6A3207A-634A-4781-B733-743DF66404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5397EB26-BDA6-49E1-85CD-040AA29EF85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C31A576B-8BFF-4C78-A8AA-08E8497694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87732CC0-CF8A-4DFD-8652-D48D40495E5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03D64090-6B7D-4996-BBA6-78C69930284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9"/>
          </p:nvPr>
        </p:nvSpPr>
        <p:spPr/>
        <p:txBody>
          <a:bodyPr/>
          <a:p>
            <a:fld id="{D407F94E-A20E-4208-A6BA-974C8BFE43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9"/>
          </p:nvPr>
        </p:nvSpPr>
        <p:spPr/>
        <p:txBody>
          <a:bodyPr/>
          <a:p>
            <a:fld id="{C46B0421-389B-452F-A971-3C523A37C8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33D0375-06EB-4343-9F63-6867059C62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
          </p:nvPr>
        </p:nvSpPr>
        <p:spPr/>
        <p:txBody>
          <a:bodyPr/>
          <a:p>
            <a:fld id="{CD99843F-E10E-4F5C-B583-70E8A57EBD2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059BCCF8-444D-4E46-8AED-227D0C389F1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BFCFB8FF-539E-49C2-AB47-1FB9A0E7537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1AB6E617-899F-4A82-B9ED-0963F4AC183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0"/>
          </p:nvPr>
        </p:nvSpPr>
        <p:spPr/>
        <p:txBody>
          <a:bodyPr/>
          <a:p>
            <a:fld id="{3433F66C-AAFA-4306-9DD6-914BA127080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0"/>
          </p:nvPr>
        </p:nvSpPr>
        <p:spPr/>
        <p:txBody>
          <a:bodyPr/>
          <a:p>
            <a:fld id="{A1EAD2B1-79EA-416B-B64B-B04496E9F1A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240605CC-4A2A-494A-B06F-A417F521B94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1706312B-D0B0-49FA-A46C-39AD3F99F01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C0463C1A-71AE-4EE7-AB50-C073DBA719A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A4543633-0D99-44A5-ADAE-CEBE380384B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0"/>
          </p:nvPr>
        </p:nvSpPr>
        <p:spPr/>
        <p:txBody>
          <a:bodyPr/>
          <a:p>
            <a:fld id="{17EDA9D7-E6E8-4C8A-9EBD-673EE7080B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
          </p:nvPr>
        </p:nvSpPr>
        <p:spPr/>
        <p:txBody>
          <a:bodyPr/>
          <a:p>
            <a:fld id="{BB2A434E-7848-4086-93A5-6FBD9F8285C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0"/>
          </p:nvPr>
        </p:nvSpPr>
        <p:spPr/>
        <p:txBody>
          <a:bodyPr/>
          <a:p>
            <a:fld id="{58A9B909-FA8D-4B72-AA92-8068490CA04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E11D64C-372C-454A-9A11-7D767BDF877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B5FC4D6B-A362-430F-BB45-937128B30CC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CA2A07D2-623A-46ED-B223-FF423BC29F0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A6353911-77CF-4FF8-9515-A2C66332771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1"/>
          </p:nvPr>
        </p:nvSpPr>
        <p:spPr/>
        <p:txBody>
          <a:bodyPr/>
          <a:p>
            <a:fld id="{57472D74-70E5-43D1-A4AA-5883A53005F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1"/>
          </p:nvPr>
        </p:nvSpPr>
        <p:spPr/>
        <p:txBody>
          <a:bodyPr/>
          <a:p>
            <a:fld id="{30568641-11E3-4313-B3F1-D6449A8A7E2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720667D3-1E7F-4D0B-A934-D3CABC46F98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658DCE66-1E16-4EFF-95CD-2B01D808BF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FB8954D5-8344-4B15-84D9-39E741F33C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2933C2-C1C9-44CD-B38E-082D1D24A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843FB7D7-1CFB-408A-9CFA-3409E500210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1"/>
          </p:nvPr>
        </p:nvSpPr>
        <p:spPr/>
        <p:txBody>
          <a:bodyPr/>
          <a:p>
            <a:fld id="{9BC7065B-5D2D-4CE7-90F3-1DCA4BD74F0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1"/>
          </p:nvPr>
        </p:nvSpPr>
        <p:spPr/>
        <p:txBody>
          <a:bodyPr/>
          <a:p>
            <a:fld id="{644DECF9-11CA-45B3-B43A-221295797D0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39EF7F1-5892-4893-9BE9-DF38F506468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D2D44B5E-E3D7-481D-B168-C434035E4EE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41E942A6-3AB8-4565-990D-1A3CED86872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67362C80-D691-4633-A087-D603D33CBFE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2"/>
          </p:nvPr>
        </p:nvSpPr>
        <p:spPr/>
        <p:txBody>
          <a:bodyPr/>
          <a:p>
            <a:fld id="{B3AF49A7-4733-48AE-9289-3CF1F9AB9D9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2"/>
          </p:nvPr>
        </p:nvSpPr>
        <p:spPr/>
        <p:txBody>
          <a:bodyPr/>
          <a:p>
            <a:fld id="{04157736-9253-47D1-AAB7-0DEE041E735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24B498F9-26A0-4A92-9D06-7ED7F27EE0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72FC6C-B4A5-40D6-B403-03681E258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9BF14F9E-0C5E-4748-A929-D546CD03C43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CA4104D1-EB89-451F-81B3-304D155C54F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2F26A4FA-E62F-44E7-814D-2B5D8955DB1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2"/>
          </p:nvPr>
        </p:nvSpPr>
        <p:spPr/>
        <p:txBody>
          <a:bodyPr/>
          <a:p>
            <a:fld id="{62EEE750-F5B0-43CD-B3BA-22BF2FCB775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2"/>
          </p:nvPr>
        </p:nvSpPr>
        <p:spPr/>
        <p:txBody>
          <a:bodyPr/>
          <a:p>
            <a:fld id="{13B078F4-05BF-44CD-8CAD-33EAA356DE9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07F4125-CC3D-454F-A002-93EE610F879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C9C0E983-8C0A-4668-9913-DC8A8164F19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F477DC66-C224-4A93-8830-935803B206F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25844938-940F-42A7-9DA6-062A0C42A30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3"/>
          </p:nvPr>
        </p:nvSpPr>
        <p:spPr/>
        <p:txBody>
          <a:bodyPr/>
          <a:p>
            <a:fld id="{7668F135-A703-4642-8102-A9452E073D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B05B91-411D-4F4A-B337-D855273AF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3"/>
          </p:nvPr>
        </p:nvSpPr>
        <p:spPr/>
        <p:txBody>
          <a:bodyPr/>
          <a:p>
            <a:fld id="{B2CEF1C2-81B0-4EFC-8ED6-694A89750CB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49E0584D-C33E-43DA-A07E-8458CE6ABDF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6834F9DC-CD47-4819-9399-84EE613AF9E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392279E2-7FCA-4085-986B-335C518515F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D1F5DD72-5386-4365-83A7-E5BF7F90C09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3"/>
          </p:nvPr>
        </p:nvSpPr>
        <p:spPr/>
        <p:txBody>
          <a:bodyPr/>
          <a:p>
            <a:fld id="{F361720B-FFF7-46AD-ABAD-159F4D7C486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3"/>
          </p:nvPr>
        </p:nvSpPr>
        <p:spPr/>
        <p:txBody>
          <a:bodyPr/>
          <a:p>
            <a:fld id="{979A48E0-1C9E-489E-A87D-38F131F8284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55C40B-B81F-4C19-8447-90F0201C2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E4D7298-0408-467E-8443-35993EEA2C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2679B6-3B2E-4C25-A6CA-9128A8D50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6C70A390-4582-40DE-AFBD-FC17F26102A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EA65AD12-8A3B-459D-AC69-5D5660FCBFC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C77840D9-600F-4341-BDEF-DCB2CD44805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4"/>
          </p:nvPr>
        </p:nvSpPr>
        <p:spPr/>
        <p:txBody>
          <a:bodyPr/>
          <a:p>
            <a:fld id="{0B8E0F50-A262-4F33-A4B1-3604BF2E839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4"/>
          </p:nvPr>
        </p:nvSpPr>
        <p:spPr/>
        <p:txBody>
          <a:bodyPr/>
          <a:p>
            <a:fld id="{9E917064-58C6-42CB-AD52-5F0924F7B17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3D223F63-9216-469B-90AC-4E950E7F500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C0082BDD-2179-4144-A921-2D9554424C9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5D9D96D0-15DF-47AA-8EB6-35BE64B6D27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CA2CA7B6-887D-4FBB-A6BB-6A6DD785DCE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4"/>
          </p:nvPr>
        </p:nvSpPr>
        <p:spPr/>
        <p:txBody>
          <a:bodyPr/>
          <a:p>
            <a:fld id="{0329D6DF-13C3-40A2-8B4C-28DF74A3FF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5D03FE-9582-450D-B0F6-76DAEBF65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4"/>
          </p:nvPr>
        </p:nvSpPr>
        <p:spPr/>
        <p:txBody>
          <a:bodyPr/>
          <a:p>
            <a:fld id="{30754EB2-4232-4554-8942-FCAC58CDDF4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67FB44-73CF-4188-8CCE-02A6ECF5FD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135D99E-1643-45EE-9549-7589F4F186C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D8D60F4F-DDBD-4FB2-A2FB-A2D1C423A65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C6721F5D-3712-440E-95C8-7D2ADF04068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75028219-2604-4F4E-9BE6-6E6D31C13CC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5"/>
          </p:nvPr>
        </p:nvSpPr>
        <p:spPr/>
        <p:txBody>
          <a:bodyPr/>
          <a:p>
            <a:fld id="{1AB7F0DD-CFE1-4A5E-9D3E-7388F758D63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5"/>
          </p:nvPr>
        </p:nvSpPr>
        <p:spPr/>
        <p:txBody>
          <a:bodyPr/>
          <a:p>
            <a:fld id="{8DA60245-233D-4E98-A8AE-5394E5E1A3E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838B7871-652C-4A7E-8958-7F87D8AEFD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884A49C9-4C77-4BFD-BD31-65245EE759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BF3994-A2A2-4DD1-9F44-FAF0C4CA49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70FC1C88-5996-44B9-A3E2-D12C5EBA7A5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B213380B-11C8-440F-907D-A34846C9CA2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D53B791A-3405-4165-812D-BC3BBBDFEEC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5"/>
          </p:nvPr>
        </p:nvSpPr>
        <p:spPr/>
        <p:txBody>
          <a:bodyPr/>
          <a:p>
            <a:fld id="{C08BE0D4-E503-4A50-B95F-E74313AB242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5"/>
          </p:nvPr>
        </p:nvSpPr>
        <p:spPr/>
        <p:txBody>
          <a:bodyPr/>
          <a:p>
            <a:fld id="{E70DBC54-B70A-45E6-8FB0-774CFEAA096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58B5457-ED72-42FA-A143-2F8DB3F7DE4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4BE01D7F-7053-43D0-A308-7330527F203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7D50A594-F2DB-4369-80FA-3C7C8780382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7AAA9CB5-66DD-4461-A984-006BB694CFB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6"/>
          </p:nvPr>
        </p:nvSpPr>
        <p:spPr/>
        <p:txBody>
          <a:bodyPr/>
          <a:p>
            <a:fld id="{8F1C9E60-6004-4185-99AC-A437B42A35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22C7BC-036D-4454-A625-82FC50978A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6"/>
          </p:nvPr>
        </p:nvSpPr>
        <p:spPr/>
        <p:txBody>
          <a:bodyPr/>
          <a:p>
            <a:fld id="{A3FAA7E4-DE0A-4D12-B37F-A64D8B7739E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7D590CE7-CC46-4E43-A99D-CB0FA35E1FC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C38BAD8E-5688-4160-A028-C5A7CFE5444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B8BAA344-EF71-4252-9641-92A9CC1D0D4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FD79F6AC-DFDF-4892-A9AB-30A2697399C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6"/>
          </p:nvPr>
        </p:nvSpPr>
        <p:spPr/>
        <p:txBody>
          <a:bodyPr/>
          <a:p>
            <a:fld id="{1F9D8876-B0F3-4802-B101-E131B0EC425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6"/>
          </p:nvPr>
        </p:nvSpPr>
        <p:spPr/>
        <p:txBody>
          <a:bodyPr/>
          <a:p>
            <a:fld id="{F97D4324-C906-4E4D-8CBB-372829FF0E0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C17E105-C881-4D2E-86A2-0B84784BEE0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8DE7649D-F9BF-4A53-83D2-98F999C729D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95702A1C-A02C-478B-9B1F-3C58E2B197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DC6E90-0EBC-4AEB-B067-ED48BA89C0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AC89B171-234E-4915-976A-26A34CEF115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7"/>
          </p:nvPr>
        </p:nvSpPr>
        <p:spPr/>
        <p:txBody>
          <a:bodyPr/>
          <a:p>
            <a:fld id="{FA882C4A-BF91-4615-BCD1-E308EFC40C5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7"/>
          </p:nvPr>
        </p:nvSpPr>
        <p:spPr/>
        <p:txBody>
          <a:bodyPr/>
          <a:p>
            <a:fld id="{977DFAA8-082F-48C4-B71D-81A3546DFF0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FEE28957-AFBD-448E-8C9D-32B013DA6DE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04CD2BA4-6D81-4439-BD54-CFA029443A8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D6E1748D-5DF4-4185-9EBB-E00D4D812B1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2C0A2E82-4205-4399-BB8A-AF151C5A45A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7"/>
          </p:nvPr>
        </p:nvSpPr>
        <p:spPr/>
        <p:txBody>
          <a:bodyPr/>
          <a:p>
            <a:fld id="{4049D6DA-C1B6-41D8-8F1B-8BDC5A0ED42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7"/>
          </p:nvPr>
        </p:nvSpPr>
        <p:spPr/>
        <p:txBody>
          <a:bodyPr/>
          <a:p>
            <a:fld id="{235EC161-5BB0-4370-B51E-1CBDE35B62E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75B3E53-736C-49EB-BF38-0E12DC5577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C4E1058-DC71-4C2B-9C67-1C8936B1E7A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8DE4F2A1-6EF7-4AD0-A15B-9FA44CE4387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7F64DDCF-D93C-4380-B837-44CD628DA80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32C012B8-4ABF-4ACD-A241-3B329FC0523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8"/>
          </p:nvPr>
        </p:nvSpPr>
        <p:spPr/>
        <p:txBody>
          <a:bodyPr/>
          <a:p>
            <a:fld id="{EA14403A-CC94-4E58-9453-C60B7947251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8"/>
          </p:nvPr>
        </p:nvSpPr>
        <p:spPr/>
        <p:txBody>
          <a:bodyPr/>
          <a:p>
            <a:fld id="{2AC4B559-0BB9-406F-9475-FCFD50A4815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3E27976F-C834-4052-A238-36F0816F7C3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FBC50F74-C993-478F-99CA-3E89A3F3A01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29B834BC-861A-4FF6-8F85-9E8B4F29AA3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59AA08F6-EFBC-460B-86B8-7333249CA24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8"/>
          </p:nvPr>
        </p:nvSpPr>
        <p:spPr/>
        <p:txBody>
          <a:bodyPr/>
          <a:p>
            <a:fld id="{EE9F3BD6-B391-4C49-8B32-F05E592E4C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9A6C47-C09A-46A6-A9DE-069E26A410C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8"/>
          </p:nvPr>
        </p:nvSpPr>
        <p:spPr/>
        <p:txBody>
          <a:bodyPr/>
          <a:p>
            <a:fld id="{6EAA2F36-C790-41C7-80BA-FB39E923E89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6FE212B-94D8-46D3-8CB9-07B7954F510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AB2D7E3F-EDD4-44C6-8065-E01754066CC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B1E0D9FA-F86D-445A-8D76-25E35728FEA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96FFB607-ACDE-4DCC-A3CB-DBB129D830E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9"/>
          </p:nvPr>
        </p:nvSpPr>
        <p:spPr/>
        <p:txBody>
          <a:bodyPr/>
          <a:p>
            <a:fld id="{D587947D-FBB1-40E2-B7DE-FE9515235E7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9"/>
          </p:nvPr>
        </p:nvSpPr>
        <p:spPr/>
        <p:txBody>
          <a:bodyPr/>
          <a:p>
            <a:fld id="{0A6E69E3-A92D-400E-A0BC-952F5425D69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5C1AB538-46F6-4834-BF72-5B75932F304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A599A472-C018-408E-AFFC-8EE2A29C6C6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BEB967AA-4576-4E31-B6D4-306AE6840C4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35DEE7CA-153C-464A-9172-6E5C7D4097C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9"/>
          </p:nvPr>
        </p:nvSpPr>
        <p:spPr/>
        <p:txBody>
          <a:bodyPr/>
          <a:p>
            <a:fld id="{3A0FA93D-6BE6-41A2-AD04-A0EE432F04D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9"/>
          </p:nvPr>
        </p:nvSpPr>
        <p:spPr/>
        <p:txBody>
          <a:bodyPr/>
          <a:p>
            <a:fld id="{CD54534D-E1F5-4F85-A2DA-8E73604C34B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7324A05-14A4-4B1F-926E-4F8CBA9CEE5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227F24B8-E07D-4E9A-8C10-4C02F8173AA6}"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57704577-1F2B-4820-BDE5-DC100BE98A8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FCC48675-E3B9-4D8C-9B3F-FFC9AA8643D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0"/>
          </p:nvPr>
        </p:nvSpPr>
        <p:spPr/>
        <p:txBody>
          <a:bodyPr/>
          <a:p>
            <a:fld id="{6E0E8F59-B2E9-41BF-91F9-D7FBE9FED5A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0"/>
          </p:nvPr>
        </p:nvSpPr>
        <p:spPr/>
        <p:txBody>
          <a:bodyPr/>
          <a:p>
            <a:fld id="{5DE3D3B7-AF46-4164-AE49-ADF535190CF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F0A4126B-6DDF-48C8-9423-4C35004D91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C0FE8DA9-FB6E-46ED-B245-17BC8F4F633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F9EE7339-EAE5-424B-8EBE-287B4799AF1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295AD0E6-24C1-49F7-BF81-969C8882F05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0"/>
          </p:nvPr>
        </p:nvSpPr>
        <p:spPr/>
        <p:txBody>
          <a:bodyPr/>
          <a:p>
            <a:fld id="{33A6C212-D9E9-42C7-BFC0-126FB444DD2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0"/>
          </p:nvPr>
        </p:nvSpPr>
        <p:spPr/>
        <p:txBody>
          <a:bodyPr/>
          <a:p>
            <a:fld id="{28D696B9-7DAF-48C8-86B8-C05B660C03D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AE468B84-543E-4173-9336-585D11D6CB0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6AFF9185-D153-468E-9624-3FF59C23374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004C1E45-EB6C-43D1-9DEA-B7F6606C1D1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4E7BC1CE-35C5-40FA-BBC6-466D79C3C24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1"/>
          </p:nvPr>
        </p:nvSpPr>
        <p:spPr/>
        <p:txBody>
          <a:bodyPr/>
          <a:p>
            <a:fld id="{5886EC7A-3391-411E-80FD-69DA0B050F5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1"/>
          </p:nvPr>
        </p:nvSpPr>
        <p:spPr/>
        <p:txBody>
          <a:bodyPr/>
          <a:p>
            <a:fld id="{8CB70AD4-95A6-44D3-9086-72F6AF1B865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E65323C2-2566-47E5-812A-94EB0DF726D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DA4040FA-542E-4650-95AD-6F5769ECE08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B825F5D8-673D-485E-8718-A3BA89965D8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45DC5B17-5C51-4D6E-819B-EA7442B0D37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1"/>
          </p:nvPr>
        </p:nvSpPr>
        <p:spPr/>
        <p:txBody>
          <a:bodyPr/>
          <a:p>
            <a:fld id="{4A2BE16D-05E9-4133-826C-6D641CE2EA1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1"/>
          </p:nvPr>
        </p:nvSpPr>
        <p:spPr/>
        <p:txBody>
          <a:bodyPr/>
          <a:p>
            <a:fld id="{4810EB89-0DFF-4A43-BFE2-2F01488D418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F5135BF-32B6-4FDB-8C71-24737C3EF45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A3BD7EA4-341E-4CCC-8A64-DE853F37CFA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DEA3AF7E-2972-4A65-8C96-046C49E97C1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546D1262-027F-4B5D-9958-89AF177C6A1E}"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2"/>
          </p:nvPr>
        </p:nvSpPr>
        <p:spPr/>
        <p:txBody>
          <a:bodyPr/>
          <a:p>
            <a:fld id="{FA25A062-5BE0-43C0-A45C-ACF69243763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AC4B06CE-523A-4455-818B-D7C8A340F60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4A09D7E5-C79D-4157-9605-05DCFB334E79}"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35590597-F9BA-44C6-9885-977EC61ABD3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CD973D07-551F-4E3B-835B-C9B797E1F66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5D7FA965-3B1D-4B6A-93EF-D57C578D55D4}"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B0B06955-C7AF-4F38-BD85-B34BC61DF7D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88D6F7BA-8304-44E8-90DA-376AEFCD48FE}"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7895844-7A00-43A4-97C7-E50CB93E6CD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D7A860E-B3A3-4241-BAB8-4183ED57F9E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5009092-CCA3-49D1-8574-DF4597D93BC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0D015C5-ACF0-4D10-A37E-94D0193670A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5342CDB-9563-458E-BB4E-7C0E978D066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A7277B2-9CB7-4223-870B-64884E78F09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CA08908-5E36-472E-AFB5-81C7DC051E7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F974AA4-5B33-4D99-8A6C-F1616A4872C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844D937-7C85-44FF-8AD1-378DBBF0776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3EE4AB5-7CD1-42E4-A960-22D2AF636E4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72BD2B4-E4A1-44A4-B9E4-C66C3A4B506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F5686BB6-3D31-4858-83F9-4ABE112B7A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244DDB2-F69C-4887-9537-64E3049FAAC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385896B-8840-4E3E-8205-E4C2643B46E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E14492F-0D48-4AA1-96DE-594FC036923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D8564AF-D849-40E1-9750-AB5E5EDB45B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EE2BAAE-30C0-42EE-B4DB-2332F9A1B4B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06A438D-CEC0-4563-A957-F81829EA9D9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55C314F-E9D1-4ED2-839A-77EAC7A604B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2F0038B-CEC6-4161-8AD6-6DE8BD4258C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73478AB-E17F-457E-B905-23B650F523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E936EEB-2858-42B7-82C0-9CB0EEBBFE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F803689-AA5F-475C-98DE-54F9AA6A395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6CCE746-C8DF-46DE-9D2C-BF8F62EAAED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C9559D4-331E-4DAB-8798-A8FB5E6A127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FE47E414-FAAE-4BE4-A470-FC08F3FCFB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4B3B4BF5-DA53-4F4A-B697-82014DFA17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AD12B995-40AA-4695-9DEB-1ADE2E8429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B15506F5-14CC-42D8-8ECF-3E716F2B28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EFD98035-B48A-4707-A97C-936CA21B1A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50358C8C-528E-430E-B989-008418D38C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9CF1AE48-5BC6-4ED7-90D0-F05C561FE7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C01764F2-0671-4213-9C4D-23920CD6B8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0120376F-5EC1-4148-988B-D72F492363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28E75275-5692-40F2-A12C-740D117511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5C6E984F-9E68-4880-80F6-9C9ACB4368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BEF6AD6C-15EC-4B1C-A578-BCA614ECA7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966ACB2-1413-430A-8BF0-C8F7B57EE5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1CF1462-696C-4377-8C11-96AE943754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8C01FED-204D-42E1-9DCF-A8C85300CA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8818D47-FBBD-45D5-BD49-97D314E06D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BDC4D4D-89DC-4F48-A4E8-A8A766B793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C1E1B6A-B41A-4032-A047-3127111B3A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A8B1271-CE9D-48B2-8B5A-F9668A4B61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E41CC59-9A2E-434A-9749-0404DAF847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1553E2E-F609-4C41-A808-9BC08D953B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DCE7012-4504-4589-B82E-EC54ABACAF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B1A3364-A24B-4DAA-9919-25309B65CF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1A416F3-DCE0-4C23-93AE-E33DA2BF8F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B7D3F0B-DF85-4850-9134-01BA2912D5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64E22E7-4F8C-452F-98DA-B92777586A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990E195-BDCC-44BC-9C00-4364A12D6A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6C9F161-523F-45DD-AB79-AD3F1CE619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6F791EE-479E-42EB-B0B9-C57CCF12CC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24EAB46-4C07-425F-9FD0-1E058F8178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CD6B915-5C10-4345-9918-FF4ECE6228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FEDC333-F31C-4853-AD26-7AA52528BB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6FE7DA4-AD34-461B-B99E-70FB9EFEF4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4AC2AF1-6C3D-4CF3-919C-9F4369DA0A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A2711F12-839D-401C-9D9A-F0FFB7504B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2FA3793-7E4A-4922-BB56-6E25AAF9F1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5810C0F-F37A-49A7-84C0-CB25EAA737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87A020D-1DE5-4CD4-A3F5-99A0ABA731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2B79283-3E05-454F-8871-A576101F1A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A02DC4B-59B4-461F-8FC0-832FB57300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1FEA898-6F99-44B1-B917-FC4475B48B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4B5E1AD-F006-42D5-8F86-F0282F018D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59EEB58-F702-451D-9943-5CD325E724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7AF4EA6-5085-4768-B045-8A2E3A14DE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1E12F20-8579-4889-9C08-5BF0535FF9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B8569D5-4CF5-4EA9-AA54-1454E083EA68}"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587A5A5-607E-4825-BD31-AF2B34C3D0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5E71345-3C08-40D9-B4E5-B794DFA00F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5A383C2-3C10-4379-8634-D67C3BC026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2"/>
          </p:nvPr>
        </p:nvSpPr>
        <p:spPr/>
        <p:txBody>
          <a:bodyPr/>
          <a:p>
            <a:fld id="{9823B57A-4E16-4308-82B9-35BA715612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FAD36F13-29F8-4B24-BC89-66C9071E9B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20074B76-75E5-4DA7-92E8-80485BB78A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1321325E-1A93-461E-BB8E-A31456A66F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F670FFD7-741E-418A-B2C3-4F7A5B172E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A85B16F9-BC2C-4728-8A45-AD61B23CA3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F84A4B6F-3EEC-41F8-A6AA-87CF6676B5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AE022B3B-AE9A-4267-8DD1-0C55A3AD4F21}"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89A891BA-58C9-4EFF-95CC-0E9F3594AB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737ACBFA-1B54-4635-8868-31C0FFA7F9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2195EC7F-0549-47EE-8793-A684EB16A2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2"/>
          </p:nvPr>
        </p:nvSpPr>
        <p:spPr/>
        <p:txBody>
          <a:bodyPr/>
          <a:p>
            <a:fld id="{B93BFC49-8417-4802-AD7D-2CE235C638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2"/>
          </p:nvPr>
        </p:nvSpPr>
        <p:spPr/>
        <p:txBody>
          <a:bodyPr/>
          <a:p>
            <a:fld id="{7D55CCAD-9900-4A15-B1F5-2645133BA2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B329915A-0099-46D1-AE6D-3CD17739D9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2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123821E-BF28-4F3B-AED6-C2823ADDEC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12A61DF-FB11-46C2-A1AF-CD1DE920BF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A449567-D1EF-44BE-820A-29B34D31D4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23B47F3-E208-44B2-9D54-89320BFC5D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0C5E755F-E03D-4D3D-A865-671B6664F516}"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BE26D1E-9B66-478F-AD41-2369157B98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D1D442E-9374-4D38-B425-321158CF71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DA87DBC-AFC8-4DD3-A200-DFC0F8A606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2E6500B-E198-40B3-9151-43C676AB2C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7F89ECD-D54C-4FFC-9536-EC8D584B84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6222305F-D048-477B-AFED-B8D7AA0E60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4C61BD46-3F50-489D-81DB-5463E72C35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CF6A9ED1-1E2D-4362-8F59-254C084730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1C1DB34C-E88B-4429-B863-D528E3D29A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9F4DCAF3-DC8B-4EAB-B636-DDCCCC83EA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913AD7B9-2E05-4F78-BD19-FD3970CD337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32BE1E1D-9CFE-4C03-A30E-9FC876074A73}"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A9162456-6C53-426C-BCAC-0FC5A283CE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1C9F94C0-3171-4AFA-99A4-E4F8989865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6C376CCD-B6B7-434E-8C6D-C8C5117110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5FE955D8-C93B-4DFB-BC7B-7E17B1C243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170E6844-E2BB-4666-AEC4-C459F9B07F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0DBAFDA0-C496-4E96-B2F4-FAF2755A97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AC940BCF-A93C-4807-B7DE-DC0D07FFA4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10A4D3DA-4BC6-4A3F-B6FA-40355084AC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0A233B41-0AC8-4BA7-854A-9929EC8AE8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318566B9-E7D4-49D4-9F49-25F3A9F64E43}"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5"/>
          </p:nvPr>
        </p:nvSpPr>
        <p:spPr/>
        <p:txBody>
          <a:bodyPr/>
          <a:p>
            <a:fld id="{177D7A23-3269-45B6-8566-EBE75A5E51C1}"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86D58ACC-2119-4430-A14C-12328F2C85A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0888F771-F4F1-4366-9980-6C5C8271CA8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37A8E518-CD6B-404E-B84D-831654523BB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93E20D04-D469-408C-B136-6EA5A9AB389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2083A56D-8297-42FA-903D-AE7723DD632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8721CE6D-B003-4CC2-9308-85A308460A3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B25D79D3-F94E-48BC-8A7A-5FE036FEB35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6F1A52E5-BFBA-419A-8298-3F7D0D5B604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C458E78D-BA62-4A13-B50E-6E58C1920FD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5730F360-650B-433C-AA96-24EFF5E4113C}"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5"/>
          </p:nvPr>
        </p:nvSpPr>
        <p:spPr/>
        <p:txBody>
          <a:bodyPr/>
          <a:p>
            <a:fld id="{F15F0374-3CEC-4460-96A9-8D6F7194782E}"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D531C3B6-70BA-4291-961C-D8734680399F}"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7AA06AD7-D43F-4137-A7F9-1E0567C3A84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FA76EEC-57F2-4FD7-9DB4-EA15839EA4E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BBECB16-513C-4796-B7DD-27468B5C1F4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FF5945E-0542-4AB4-8F48-D36B9F091F6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7C92EF7-A34A-4E5C-971B-FE7B009B0D6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1584B3C-E42A-4CD4-84CC-00704EC9B93A}"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4518D3F-8864-4CE3-BA34-C420B71CEA6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FC8C10E-B6E0-4AAA-8277-802ADE08C68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97FD28E-9AEE-4ECC-B17B-26BEC8A9F65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C5C7D063-DEC1-48D2-B775-E5D107ADE61C}"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117DBFC9-3EA4-4F16-9805-42F125EC342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9E329C94-721F-470C-819E-C7481137704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0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459ED864-94AA-413D-BD9A-BCC6C5B986EB}"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D0772CD8-7F97-4B9C-9474-5EF0C979E046}"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8EF0BAB-8D59-4F2F-848C-B7A6CCF15975}"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332DFF5C-4694-4F18-8418-E2818C89995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0F61371-EEF5-4BE8-B468-239ED4C1E39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DA3D9DE1-45BC-464D-8CB0-5F19FC37DB70}"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896AC5FB-AFC7-42DE-8E30-CE9106B0204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4477293-3E33-4626-AA3E-F1D519CA409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12806252-CC93-40E4-8A14-C5E07AA43979}"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661ECAB-1EA4-465F-B9DE-5CE45BBBDEC9}"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D7C59BF-A26E-475C-B0DC-7BCFD5E2217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7100850-47CE-4129-9B69-40B0CED9CBB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473AF65B-AEF0-4375-857E-935DBDB3F5DA}"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A844DBC1-ABC7-47B0-B2C7-383575AE1EC3}"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93EC4DEA-C516-417F-8ABF-42F38104A77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EF1DE338-29B4-4CBF-9C06-A8C14DACED4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5"/>
          </p:nvPr>
        </p:nvSpPr>
        <p:spPr/>
        <p:txBody>
          <a:bodyPr/>
          <a:p>
            <a:fld id="{B4ED9392-A092-49F8-AA24-83B9EFA89C3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5"/>
          </p:nvPr>
        </p:nvSpPr>
        <p:spPr/>
        <p:txBody>
          <a:bodyPr/>
          <a:p>
            <a:fld id="{1A5E2202-4E6B-459F-A07B-ACD163F8B89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
          </p:nvPr>
        </p:nvSpPr>
        <p:spPr/>
        <p:txBody>
          <a:bodyPr/>
          <a:p>
            <a:fld id="{DB8FD08B-0CA3-4289-8001-EE3CCA74FF6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
          </p:nvPr>
        </p:nvSpPr>
        <p:spPr/>
        <p:txBody>
          <a:bodyPr/>
          <a:p>
            <a:fld id="{F59F3CB9-351B-4F95-9668-DA41A5A0AC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9BF1887-3CF0-4965-838E-7E9678059BF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4D277FDE-9C31-41D1-BE9D-31C96AD8977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B48A41F6-2FBA-4D60-87FA-D9C4F88BEBC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DE60B397-8EE0-4031-8211-5D9F91F2E90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6"/>
          </p:nvPr>
        </p:nvSpPr>
        <p:spPr/>
        <p:txBody>
          <a:bodyPr/>
          <a:p>
            <a:fld id="{1111D31D-2725-4D19-A45E-13B2C3FCA81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6"/>
          </p:nvPr>
        </p:nvSpPr>
        <p:spPr/>
        <p:txBody>
          <a:bodyPr/>
          <a:p>
            <a:fld id="{38678F6A-6CDB-4B32-87E8-DBB4C1FA490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7864833B-4DB3-491F-AEBB-B830F69511D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E5BE539B-DDC1-406F-8B2F-BE49E26CAF1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5142AEA8-5A36-4136-BEDB-D78E662672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61294A11-49B0-4964-AA51-F636404EC03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550C865A-28E7-44D5-880D-7BEF23F9AF2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6"/>
          </p:nvPr>
        </p:nvSpPr>
        <p:spPr/>
        <p:txBody>
          <a:bodyPr/>
          <a:p>
            <a:fld id="{2DC8F260-1CB6-4559-B5C8-57A676634B2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6"/>
          </p:nvPr>
        </p:nvSpPr>
        <p:spPr/>
        <p:txBody>
          <a:bodyPr/>
          <a:p>
            <a:fld id="{038495B2-0935-44A1-BC5E-A0B480C7B84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A52956F-69C4-4661-9737-A9D696169D2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9E66EC60-C22B-4169-AF78-682CCA2F195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064F645C-68AE-429C-9E31-5CF00047B51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01EEBD02-8C4C-4431-84A5-2059B87E8C5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7"/>
          </p:nvPr>
        </p:nvSpPr>
        <p:spPr/>
        <p:txBody>
          <a:bodyPr/>
          <a:p>
            <a:fld id="{13F079AC-B818-4C74-AFC3-D0B2AC43286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7"/>
          </p:nvPr>
        </p:nvSpPr>
        <p:spPr/>
        <p:txBody>
          <a:bodyPr/>
          <a:p>
            <a:fld id="{705DA82E-6522-49DB-8B48-931B90B62D8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ACA8AB0B-F19B-4CA9-806A-39631EB71F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D75D087B-9EFA-40AA-A172-97CF094E48C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99DBB098-15E6-4154-BCA3-009A2A0181E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EB24DDCB-575E-476D-811F-4064BFF5B72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D4D5740B-9BA4-4D11-ACB5-C88B36C9BDA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7"/>
          </p:nvPr>
        </p:nvSpPr>
        <p:spPr/>
        <p:txBody>
          <a:bodyPr/>
          <a:p>
            <a:fld id="{919D4674-C9F0-4842-9D0F-CBB57DC6ADF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7"/>
          </p:nvPr>
        </p:nvSpPr>
        <p:spPr/>
        <p:txBody>
          <a:bodyPr/>
          <a:p>
            <a:fld id="{63032A39-B61D-4890-873D-08C5FFFB4F3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5D83C26-D0F5-4842-8FF2-F623F2B749A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C2B2C877-1F7B-4482-9971-73027E38E24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1927B026-4F6D-4509-8B0F-2FE8C34504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B5E7BD00-03F1-4802-988C-8585F1893C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8"/>
          </p:nvPr>
        </p:nvSpPr>
        <p:spPr/>
        <p:txBody>
          <a:bodyPr/>
          <a:p>
            <a:fld id="{3604619B-A7FD-42F5-81B2-A129882A88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68ADFE98-5129-466A-AC9C-F6DBA7FBBDA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8"/>
          </p:nvPr>
        </p:nvSpPr>
        <p:spPr/>
        <p:txBody>
          <a:bodyPr/>
          <a:p>
            <a:fld id="{74E936DB-87BF-4569-A1AA-05105D6ED40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BFC5D3C4-AB1E-4FCB-B6B2-2B49818134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B50536CA-E5CF-49F8-89FE-984C36A6AF7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385ADB42-0BAF-4E05-AF63-4693104E305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C5AFD864-785A-43EE-A5C3-93BC2D477DE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8"/>
          </p:nvPr>
        </p:nvSpPr>
        <p:spPr/>
        <p:txBody>
          <a:bodyPr/>
          <a:p>
            <a:fld id="{686C2132-C62B-499B-9365-F4DEF3F06E1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8"/>
          </p:nvPr>
        </p:nvSpPr>
        <p:spPr/>
        <p:txBody>
          <a:bodyPr/>
          <a:p>
            <a:fld id="{5F704086-D3BD-412E-96D1-85EA5918CFC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1DF1F9D-823F-4D63-BF7F-DFD4622C8A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C304F8FB-801E-4482-AED5-030F8FA825A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F17E06EA-D2DD-4900-AF11-A1B73F23D1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01F9-8BA5-47A0-8C5B-048A58A1F6F0}"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7" name="Group 4"/>
          <p:cNvGrpSpPr/>
          <p:nvPr/>
        </p:nvGrpSpPr>
        <p:grpSpPr>
          <a:xfrm>
            <a:off x="771480" y="6550200"/>
            <a:ext cx="8372520" cy="320400"/>
            <a:chOff x="771480" y="6550200"/>
            <a:chExt cx="8372520" cy="320400"/>
          </a:xfrm>
        </p:grpSpPr>
        <p:sp>
          <p:nvSpPr>
            <p:cNvPr id="38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3"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6191-56F6-460F-AA33-45191AEF1D4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4"/>
          <p:cNvGrpSpPr/>
          <p:nvPr/>
        </p:nvGrpSpPr>
        <p:grpSpPr>
          <a:xfrm>
            <a:off x="771480" y="6550200"/>
            <a:ext cx="8372520" cy="320400"/>
            <a:chOff x="771480" y="6550200"/>
            <a:chExt cx="8372520" cy="320400"/>
          </a:xfrm>
        </p:grpSpPr>
        <p:sp>
          <p:nvSpPr>
            <p:cNvPr id="43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6"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0973-E68F-46B8-B836-5A8D2CF3CDB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4"/>
          <p:cNvGrpSpPr/>
          <p:nvPr/>
        </p:nvGrpSpPr>
        <p:grpSpPr>
          <a:xfrm>
            <a:off x="771480" y="6550200"/>
            <a:ext cx="8372520" cy="320400"/>
            <a:chOff x="771480" y="6550200"/>
            <a:chExt cx="8372520" cy="320400"/>
          </a:xfrm>
        </p:grpSpPr>
        <p:sp>
          <p:nvSpPr>
            <p:cNvPr id="47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80"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0290-1253-453E-B444-0CD16F04DAA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Group 4"/>
          <p:cNvGrpSpPr/>
          <p:nvPr/>
        </p:nvGrpSpPr>
        <p:grpSpPr>
          <a:xfrm>
            <a:off x="771480" y="6550200"/>
            <a:ext cx="8372520" cy="320400"/>
            <a:chOff x="771480" y="6550200"/>
            <a:chExt cx="8372520" cy="320400"/>
          </a:xfrm>
        </p:grpSpPr>
        <p:sp>
          <p:nvSpPr>
            <p:cNvPr id="51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23"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BAE0-48E2-4F73-9B61-DF938F09182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9" name="Group 4"/>
          <p:cNvGrpSpPr/>
          <p:nvPr/>
        </p:nvGrpSpPr>
        <p:grpSpPr>
          <a:xfrm>
            <a:off x="771480" y="6550200"/>
            <a:ext cx="8372520" cy="320400"/>
            <a:chOff x="771480" y="6550200"/>
            <a:chExt cx="8372520" cy="320400"/>
          </a:xfrm>
        </p:grpSpPr>
        <p:sp>
          <p:nvSpPr>
            <p:cNvPr id="600"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06"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6333-F992-4942-AA95-90B6E8D4C52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B886-97CB-4AA6-B36B-0DF348E817F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644" name="Group 6"/>
          <p:cNvGrpSpPr/>
          <p:nvPr/>
        </p:nvGrpSpPr>
        <p:grpSpPr>
          <a:xfrm>
            <a:off x="771480" y="6550200"/>
            <a:ext cx="8372520" cy="320400"/>
            <a:chOff x="771480" y="6550200"/>
            <a:chExt cx="8372520" cy="320400"/>
          </a:xfrm>
        </p:grpSpPr>
        <p:sp>
          <p:nvSpPr>
            <p:cNvPr id="64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Group 4"/>
          <p:cNvGrpSpPr/>
          <p:nvPr/>
        </p:nvGrpSpPr>
        <p:grpSpPr>
          <a:xfrm>
            <a:off x="771480" y="6541560"/>
            <a:ext cx="8372520" cy="321120"/>
            <a:chOff x="771480" y="6541560"/>
            <a:chExt cx="8372520" cy="321120"/>
          </a:xfrm>
        </p:grpSpPr>
        <p:sp>
          <p:nvSpPr>
            <p:cNvPr id="68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3"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C41D-8D61-43F4-8E6D-4462C6CDC06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Group 4"/>
          <p:cNvGrpSpPr/>
          <p:nvPr/>
        </p:nvGrpSpPr>
        <p:grpSpPr>
          <a:xfrm>
            <a:off x="771480" y="6541560"/>
            <a:ext cx="8372520" cy="321120"/>
            <a:chOff x="771480" y="6541560"/>
            <a:chExt cx="8372520" cy="321120"/>
          </a:xfrm>
        </p:grpSpPr>
        <p:sp>
          <p:nvSpPr>
            <p:cNvPr id="73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7"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E1BA-25F6-4493-80E9-1A431B2EDD0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Group 4"/>
          <p:cNvGrpSpPr/>
          <p:nvPr/>
        </p:nvGrpSpPr>
        <p:grpSpPr>
          <a:xfrm>
            <a:off x="771480" y="6550200"/>
            <a:ext cx="8372520" cy="320400"/>
            <a:chOff x="771480" y="6550200"/>
            <a:chExt cx="8372520" cy="320400"/>
          </a:xfrm>
        </p:grpSpPr>
        <p:sp>
          <p:nvSpPr>
            <p:cNvPr id="77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8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5B14-5457-447D-A56D-528E1812B8A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2" name="PlaceHolder 3"/>
          <p:cNvSpPr>
            <a:spLocks noGrp="1"/>
          </p:cNvSpPr>
          <p:nvPr>
            <p:ph type="dt" idx="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58EB-B635-437D-A586-0C6B84BFC1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8" name="Group 4"/>
          <p:cNvGrpSpPr/>
          <p:nvPr/>
        </p:nvGrpSpPr>
        <p:grpSpPr>
          <a:xfrm>
            <a:off x="771480" y="6550200"/>
            <a:ext cx="8372520" cy="320400"/>
            <a:chOff x="771480" y="6550200"/>
            <a:chExt cx="8372520" cy="320400"/>
          </a:xfrm>
        </p:grpSpPr>
        <p:sp>
          <p:nvSpPr>
            <p:cNvPr id="81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CFDE-8695-4B4F-8766-4F7BED5D227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1" name="Group 4"/>
          <p:cNvGrpSpPr/>
          <p:nvPr/>
        </p:nvGrpSpPr>
        <p:grpSpPr>
          <a:xfrm>
            <a:off x="771480" y="6550200"/>
            <a:ext cx="8372520" cy="320400"/>
            <a:chOff x="771480" y="6550200"/>
            <a:chExt cx="8372520" cy="320400"/>
          </a:xfrm>
        </p:grpSpPr>
        <p:sp>
          <p:nvSpPr>
            <p:cNvPr id="86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7"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3F18-8F87-4F88-BF7F-538A291B49A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4" name="Group 4"/>
          <p:cNvGrpSpPr/>
          <p:nvPr/>
        </p:nvGrpSpPr>
        <p:grpSpPr>
          <a:xfrm>
            <a:off x="771480" y="6550200"/>
            <a:ext cx="8372520" cy="320400"/>
            <a:chOff x="771480" y="6550200"/>
            <a:chExt cx="8372520" cy="320400"/>
          </a:xfrm>
        </p:grpSpPr>
        <p:sp>
          <p:nvSpPr>
            <p:cNvPr id="90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10"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C3CA-8460-4DA5-BEE7-09C3690C218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7" name="Group 4"/>
          <p:cNvGrpSpPr/>
          <p:nvPr/>
        </p:nvGrpSpPr>
        <p:grpSpPr>
          <a:xfrm>
            <a:off x="771480" y="6550200"/>
            <a:ext cx="8372520" cy="320400"/>
            <a:chOff x="771480" y="6550200"/>
            <a:chExt cx="8372520" cy="320400"/>
          </a:xfrm>
        </p:grpSpPr>
        <p:sp>
          <p:nvSpPr>
            <p:cNvPr id="94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4"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DA2D-6946-460D-A30B-8B4DA389A61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Group 4"/>
          <p:cNvGrpSpPr/>
          <p:nvPr/>
        </p:nvGrpSpPr>
        <p:grpSpPr>
          <a:xfrm>
            <a:off x="771480" y="6550200"/>
            <a:ext cx="8372520" cy="320400"/>
            <a:chOff x="771480" y="6550200"/>
            <a:chExt cx="8372520" cy="320400"/>
          </a:xfrm>
        </p:grpSpPr>
        <p:sp>
          <p:nvSpPr>
            <p:cNvPr id="99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7"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EAC8-AC6E-4681-83BC-4C429F4E5FB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36" name="PlaceHolder 3"/>
          <p:cNvSpPr>
            <a:spLocks noGrp="1"/>
          </p:cNvSpPr>
          <p:nvPr>
            <p:ph type="dt" idx="23"/>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PlaceHolder 4"/>
          <p:cNvSpPr>
            <a:spLocks noGrp="1"/>
          </p:cNvSpPr>
          <p:nvPr>
            <p:ph type="ftr" idx="24"/>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PlaceHolder 5"/>
          <p:cNvSpPr>
            <a:spLocks noGrp="1"/>
          </p:cNvSpPr>
          <p:nvPr>
            <p:ph type="sldNum" idx="25"/>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3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32" name="PlaceHolder 3"/>
          <p:cNvSpPr>
            <a:spLocks noGrp="1"/>
          </p:cNvSpPr>
          <p:nvPr>
            <p:ph type="dt" idx="26"/>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4"/>
          <p:cNvSpPr>
            <a:spLocks noGrp="1"/>
          </p:cNvSpPr>
          <p:nvPr>
            <p:ph type="ftr" idx="2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PlaceHolder 5"/>
          <p:cNvSpPr>
            <a:spLocks noGrp="1"/>
          </p:cNvSpPr>
          <p:nvPr>
            <p:ph type="sldNum" idx="2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B791-F314-421A-8972-189A9E8960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79" name="PlaceHolder 3"/>
          <p:cNvSpPr>
            <a:spLocks noGrp="1"/>
          </p:cNvSpPr>
          <p:nvPr>
            <p:ph type="dt" idx="2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PlaceHolder 4"/>
          <p:cNvSpPr>
            <a:spLocks noGrp="1"/>
          </p:cNvSpPr>
          <p:nvPr>
            <p:ph type="sldNum" idx="3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B6E1-D6CB-4E18-9150-E52393E833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81" name="PlaceHolder 5"/>
          <p:cNvSpPr>
            <a:spLocks noGrp="1"/>
          </p:cNvSpPr>
          <p:nvPr>
            <p:ph type="ftr" idx="3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21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2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36" name="PlaceHolder 3"/>
          <p:cNvSpPr>
            <a:spLocks noGrp="1"/>
          </p:cNvSpPr>
          <p:nvPr>
            <p:ph type="dt" idx="32"/>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3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3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ECA8-09B1-4906-B5C6-7BD1B1AEB0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8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83" name="PlaceHolder 3"/>
          <p:cNvSpPr>
            <a:spLocks noGrp="1"/>
          </p:cNvSpPr>
          <p:nvPr>
            <p:ph type="dt" idx="3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PlaceHolder 4"/>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PlaceHolder 5"/>
          <p:cNvSpPr>
            <a:spLocks noGrp="1"/>
          </p:cNvSpPr>
          <p:nvPr>
            <p:ph type="sldNum" idx="3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C5C2-579C-4F0A-B230-165E4A27BB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2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30" name="PlaceHolder 3"/>
          <p:cNvSpPr>
            <a:spLocks noGrp="1"/>
          </p:cNvSpPr>
          <p:nvPr>
            <p:ph type="dt" idx="38"/>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PlaceHolder 4"/>
          <p:cNvSpPr>
            <a:spLocks noGrp="1"/>
          </p:cNvSpPr>
          <p:nvPr>
            <p:ph type="ftr" idx="3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5"/>
          <p:cNvSpPr>
            <a:spLocks noGrp="1"/>
          </p:cNvSpPr>
          <p:nvPr>
            <p:ph type="sldNum" idx="4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FE56-5157-4AA0-ABFE-34F4B22CD2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7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77" name="PlaceHolder 3"/>
          <p:cNvSpPr>
            <a:spLocks noGrp="1"/>
          </p:cNvSpPr>
          <p:nvPr>
            <p:ph type="dt" idx="4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4"/>
          <p:cNvSpPr>
            <a:spLocks noGrp="1"/>
          </p:cNvSpPr>
          <p:nvPr>
            <p:ph type="sldNum" idx="4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8583-E35A-4A60-A07A-09390E0E2C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79" name="PlaceHolder 5"/>
          <p:cNvSpPr>
            <a:spLocks noGrp="1"/>
          </p:cNvSpPr>
          <p:nvPr>
            <p:ph type="ftr" idx="4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2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24" name="PlaceHolder 3"/>
          <p:cNvSpPr>
            <a:spLocks noGrp="1"/>
          </p:cNvSpPr>
          <p:nvPr>
            <p:ph type="dt" idx="44"/>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PlaceHolder 4"/>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PlaceHolder 5"/>
          <p:cNvSpPr>
            <a:spLocks noGrp="1"/>
          </p:cNvSpPr>
          <p:nvPr>
            <p:ph type="sldNum" idx="4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EBCD-02E0-4C5F-A2E4-8C3EC2E440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7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72" name="PlaceHolder 3"/>
          <p:cNvSpPr>
            <a:spLocks noGrp="1"/>
          </p:cNvSpPr>
          <p:nvPr>
            <p:ph type="dt" idx="4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sldNum" idx="4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F93C-4271-4745-881A-158614EB664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74" name="PlaceHolder 5"/>
          <p:cNvSpPr>
            <a:spLocks noGrp="1"/>
          </p:cNvSpPr>
          <p:nvPr>
            <p:ph type="ftr" idx="4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1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20" name="PlaceHolder 3"/>
          <p:cNvSpPr>
            <a:spLocks noGrp="1"/>
          </p:cNvSpPr>
          <p:nvPr>
            <p:ph type="dt" idx="5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4"/>
          <p:cNvSpPr>
            <a:spLocks noGrp="1"/>
          </p:cNvSpPr>
          <p:nvPr>
            <p:ph type="sldNum" idx="5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D519-A78C-4F94-A9CD-A6A7166E6F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22" name="PlaceHolder 5"/>
          <p:cNvSpPr>
            <a:spLocks noGrp="1"/>
          </p:cNvSpPr>
          <p:nvPr>
            <p:ph type="ftr" idx="5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6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67" name="PlaceHolder 3"/>
          <p:cNvSpPr>
            <a:spLocks noGrp="1"/>
          </p:cNvSpPr>
          <p:nvPr>
            <p:ph type="dt" idx="5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4"/>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PlaceHolder 5"/>
          <p:cNvSpPr>
            <a:spLocks noGrp="1"/>
          </p:cNvSpPr>
          <p:nvPr>
            <p:ph type="sldNum" idx="5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530A-A3E2-493B-9DB0-CD03BDBD09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1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14" name="PlaceHolder 3"/>
          <p:cNvSpPr>
            <a:spLocks noGrp="1"/>
          </p:cNvSpPr>
          <p:nvPr>
            <p:ph type="dt" idx="5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PlaceHolder 4"/>
          <p:cNvSpPr>
            <a:spLocks noGrp="1"/>
          </p:cNvSpPr>
          <p:nvPr>
            <p:ph type="ftr" idx="5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PlaceHolder 5"/>
          <p:cNvSpPr>
            <a:spLocks noGrp="1"/>
          </p:cNvSpPr>
          <p:nvPr>
            <p:ph type="sldNum" idx="5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8FF1-A108-4260-98DD-E42CDF793C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4"/>
          <p:cNvGrpSpPr/>
          <p:nvPr/>
        </p:nvGrpSpPr>
        <p:grpSpPr>
          <a:xfrm>
            <a:off x="771480" y="6550200"/>
            <a:ext cx="8372520" cy="320400"/>
            <a:chOff x="771480" y="6550200"/>
            <a:chExt cx="8372520" cy="320400"/>
          </a:xfrm>
        </p:grpSpPr>
        <p:sp>
          <p:nvSpPr>
            <p:cNvPr id="126"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2"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06C0-F062-4D16-9594-31477E890D6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DDCC-79FB-4336-BF36-4198D856E83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70" name="Group 6"/>
          <p:cNvGrpSpPr/>
          <p:nvPr/>
        </p:nvGrpSpPr>
        <p:grpSpPr>
          <a:xfrm>
            <a:off x="771480" y="6550200"/>
            <a:ext cx="8372520" cy="320400"/>
            <a:chOff x="771480" y="6550200"/>
            <a:chExt cx="8372520" cy="320400"/>
          </a:xfrm>
        </p:grpSpPr>
        <p:sp>
          <p:nvSpPr>
            <p:cNvPr id="171"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4"/>
          <p:cNvGrpSpPr/>
          <p:nvPr/>
        </p:nvGrpSpPr>
        <p:grpSpPr>
          <a:xfrm>
            <a:off x="771480" y="6541560"/>
            <a:ext cx="8372520" cy="321120"/>
            <a:chOff x="771480" y="6541560"/>
            <a:chExt cx="8372520" cy="321120"/>
          </a:xfrm>
        </p:grpSpPr>
        <p:sp>
          <p:nvSpPr>
            <p:cNvPr id="213"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9"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762E-31D3-4952-ADAC-5207845C62A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4"/>
          <p:cNvGrpSpPr/>
          <p:nvPr/>
        </p:nvGrpSpPr>
        <p:grpSpPr>
          <a:xfrm>
            <a:off x="771480" y="6541560"/>
            <a:ext cx="8372520" cy="321120"/>
            <a:chOff x="771480" y="6541560"/>
            <a:chExt cx="8372520" cy="321120"/>
          </a:xfrm>
        </p:grpSpPr>
        <p:sp>
          <p:nvSpPr>
            <p:cNvPr id="257"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3"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F97B-E368-464D-87A1-DB2831928BE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Group 4"/>
          <p:cNvGrpSpPr/>
          <p:nvPr/>
        </p:nvGrpSpPr>
        <p:grpSpPr>
          <a:xfrm>
            <a:off x="771480" y="6550200"/>
            <a:ext cx="8372520" cy="320400"/>
            <a:chOff x="771480" y="6550200"/>
            <a:chExt cx="8372520" cy="320400"/>
          </a:xfrm>
        </p:grpSpPr>
        <p:sp>
          <p:nvSpPr>
            <p:cNvPr id="3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DF4C-B75B-4F4F-92C9-ECB1A41057C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Group 4"/>
          <p:cNvGrpSpPr/>
          <p:nvPr/>
        </p:nvGrpSpPr>
        <p:grpSpPr>
          <a:xfrm>
            <a:off x="771480" y="6550200"/>
            <a:ext cx="8372520" cy="320400"/>
            <a:chOff x="771480" y="6550200"/>
            <a:chExt cx="8372520" cy="320400"/>
          </a:xfrm>
        </p:grpSpPr>
        <p:sp>
          <p:nvSpPr>
            <p:cNvPr id="3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5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ACDD-FC2D-424F-BD7D-DFED2F3152C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14.xml.rels><?xml version="1.0" encoding="UTF-8"?>
<Relationships xmlns="http://schemas.openxmlformats.org/package/2006/relationships"><Relationship Id="rId1" Type="http://schemas.openxmlformats.org/officeDocument/2006/relationships/hyperlink" Target="mailto:lsuters@tntech.edu" TargetMode="External"/><Relationship Id="rId2" Type="http://schemas.openxmlformats.org/officeDocument/2006/relationships/hyperlink" Target="mailto:kpennycuff@tntech.edu" TargetMode="External"/><Relationship Id="rId3"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2590560" y="1600200"/>
            <a:ext cx="5715000" cy="274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TEXT COMPLEXITY</a:t>
            </a:r>
            <a:br>
              <a:rPr sz="3000"/>
            </a:br>
            <a:endParaRPr b="0" lang="en-US" sz="3000" spc="-1" strike="noStrike">
              <a:solidFill>
                <a:srgbClr val="575f6d"/>
              </a:solidFill>
              <a:latin typeface="Century Schoolbook"/>
            </a:endParaRPr>
          </a:p>
        </p:txBody>
      </p:sp>
      <p:sp>
        <p:nvSpPr>
          <p:cNvPr id="1661" name="PlaceHolder 2"/>
          <p:cNvSpPr>
            <a:spLocks noGrp="1"/>
          </p:cNvSpPr>
          <p:nvPr>
            <p:ph type="subTitle"/>
          </p:nvPr>
        </p:nvSpPr>
        <p:spPr>
          <a:xfrm>
            <a:off x="2666880" y="4266720"/>
            <a:ext cx="4965840" cy="1003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Leslie Suter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Kristen Pennycuff Tren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QUALITATIVE MEASURES</a:t>
            </a:r>
            <a:endParaRPr b="0" lang="en-US" sz="2800" spc="-1" strike="noStrike">
              <a:solidFill>
                <a:srgbClr val="575f6d"/>
              </a:solidFill>
              <a:latin typeface="Century Schoolbook"/>
            </a:endParaRPr>
          </a:p>
        </p:txBody>
      </p:sp>
      <p:sp>
        <p:nvSpPr>
          <p:cNvPr id="168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6" name="Picture 3" descr="Screen Clipping"/>
          <p:cNvPicPr/>
          <p:nvPr/>
        </p:nvPicPr>
        <p:blipFill>
          <a:blip r:embed="rId1"/>
          <a:stretch/>
        </p:blipFill>
        <p:spPr>
          <a:xfrm>
            <a:off x="776160" y="1219320"/>
            <a:ext cx="7497720" cy="53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MATCHING READERS AND TEXTS</a:t>
            </a:r>
            <a:endParaRPr b="0" lang="en-US" sz="2800" spc="-1" strike="noStrike">
              <a:solidFill>
                <a:srgbClr val="575f6d"/>
              </a:solidFill>
              <a:latin typeface="Century Schoolbook"/>
            </a:endParaRPr>
          </a:p>
        </p:txBody>
      </p:sp>
      <p:sp>
        <p:nvSpPr>
          <p:cNvPr id="1688" name=""/>
          <p:cNvSpPr txBox="1"/>
          <p:nvPr/>
        </p:nvSpPr>
        <p:spPr>
          <a:xfrm>
            <a:off x="685800" y="1218960"/>
            <a:ext cx="769608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9" name="Picture 3" descr="Screen Clipping"/>
          <p:cNvPicPr/>
          <p:nvPr/>
        </p:nvPicPr>
        <p:blipFill>
          <a:blip r:embed="rId1"/>
          <a:stretch/>
        </p:blipFill>
        <p:spPr>
          <a:xfrm>
            <a:off x="1676520" y="1270080"/>
            <a:ext cx="5510160" cy="52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1691"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169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8FEE-980C-4EE8-8336-398C1F18391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693" name="Picture 5" descr=""/>
          <p:cNvPicPr/>
          <p:nvPr/>
        </p:nvPicPr>
        <p:blipFill>
          <a:blip r:embed="rId1"/>
          <a:stretch/>
        </p:blipFill>
        <p:spPr>
          <a:xfrm>
            <a:off x="695160" y="533520"/>
            <a:ext cx="743436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RATEGIC READING IN SCIENCE</a:t>
            </a:r>
            <a:endParaRPr b="0" lang="en-US" sz="3000" spc="-1" strike="noStrike">
              <a:solidFill>
                <a:srgbClr val="575f6d"/>
              </a:solidFill>
              <a:latin typeface="Century Schoolbook"/>
            </a:endParaRPr>
          </a:p>
        </p:txBody>
      </p:sp>
      <p:graphicFrame>
        <p:nvGraphicFramePr>
          <p:cNvPr id="1695" name=""/>
          <p:cNvGraphicFramePr/>
          <p:nvPr/>
        </p:nvGraphicFramePr>
        <p:xfrm>
          <a:off x="826920" y="1430280"/>
          <a:ext cx="6728040" cy="5213520"/>
        </p:xfrm>
        <a:graphic>
          <a:graphicData uri="http://schemas.openxmlformats.org/drawingml/2006/table">
            <a:tbl>
              <a:tblPr/>
              <a:tblGrid>
                <a:gridCol w="6728040"/>
              </a:tblGrid>
              <a:tr h="182880">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BEFORE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402560">
                <a:tc>
                  <a:txBody>
                    <a:bodyPr lIns="66240" rIns="6624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recognize this type of selection?</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Is the source of this information reputabl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ould the source have a bias?</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es it give me information or tell directions? How do I know?</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will this selection be about? Do the graphics tell me anything?</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lready know something about the topic that will help m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questions do I have about the topic?</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my purpose for reading this selection?</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libri"/>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DURING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500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have I learned so far?</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can I figure out difficult words or parts of the selection I don't understan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the meanings of terms I know fit with the scientific context or do I need to learn more?</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strategies will help me understand and remember this kind of reading?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the author saying directly and what do they imply?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m I able to detect any bias in the information? Would another author or groups present the information differently?</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an I visualize what has been describe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 visuals in the text helpful to my understanding?</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AFTER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734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the questions I had before reading get answere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I learn what I wanted to? What can I do if I still have unanswered questions?</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ould I recommend this selection to someone else?  Why or why no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ere my predictions about the selection correc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gree with what the source sai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ould I summarize what I rea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re any parts that I should read again to be sure that I understand what it mean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as this selection similar to and different from other information I have read on this topic?</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have any personal experiences that tie in with this information?</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might I use this information to investigate further?</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A82A-39BB-4EFC-A75A-F3469F6098D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97" name="Rectangle 1"/>
          <p:cNvSpPr/>
          <p:nvPr/>
        </p:nvSpPr>
        <p:spPr>
          <a:xfrm>
            <a:off x="5307120" y="1521000"/>
            <a:ext cx="183960" cy="276120"/>
          </a:xfrm>
          <a:prstGeom prst="rect">
            <a:avLst/>
          </a:prstGeom>
          <a:no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COMMENTS?</a:t>
            </a:r>
            <a:endParaRPr b="0" lang="en-US" sz="3000" spc="-1" strike="noStrike">
              <a:solidFill>
                <a:srgbClr val="575f6d"/>
              </a:solidFill>
              <a:latin typeface="Century Schoolbook"/>
            </a:endParaRPr>
          </a:p>
        </p:txBody>
      </p:sp>
      <p:sp>
        <p:nvSpPr>
          <p:cNvPr id="16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Leslie Sute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1"/>
              </a:rPr>
              <a:t>lsuters@tntech.edu</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Kristen Pennycuff Tren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2"/>
              </a:rPr>
              <a:t>kpennycuff@tntech.edu</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INK, PAIR, SHARE</a:t>
            </a:r>
            <a:endParaRPr b="0" lang="en-US" sz="3000" spc="-1" strike="noStrike">
              <a:solidFill>
                <a:srgbClr val="575f6d"/>
              </a:solidFill>
              <a:latin typeface="Century Schoolbook"/>
            </a:endParaRPr>
          </a:p>
        </p:txBody>
      </p:sp>
      <p:sp>
        <p:nvSpPr>
          <p:cNvPr id="16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is it important to use informational text in science classroom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SHOULD WE?</a:t>
            </a:r>
            <a:endParaRPr b="0" lang="en-US" sz="3000" spc="-1" strike="noStrike">
              <a:solidFill>
                <a:srgbClr val="575f6d"/>
              </a:solidFill>
              <a:latin typeface="Century Schoolbook"/>
            </a:endParaRPr>
          </a:p>
        </p:txBody>
      </p:sp>
      <p:sp>
        <p:nvSpPr>
          <p:cNvPr id="1665" name=""/>
          <p:cNvSpPr txBox="1"/>
          <p:nvPr/>
        </p:nvSpPr>
        <p:spPr>
          <a:xfrm>
            <a:off x="456840" y="1828440"/>
            <a:ext cx="7924680" cy="4419720"/>
          </a:xfrm>
          <a:prstGeom prst="rect">
            <a:avLst/>
          </a:prstGeom>
          <a:solidFill>
            <a:srgbClr val="ffffff"/>
          </a:solid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in school usually read informational text to answer questions at the back of the chapter, to complete a test prep worksheet, or simply because the teacher said to do so. Some of these activities may be unavoidable, but </a:t>
            </a:r>
            <a:r>
              <a:rPr b="0" i="1" lang="en-US" sz="2400" spc="-1" strike="noStrike">
                <a:solidFill>
                  <a:srgbClr val="000000"/>
                </a:solidFill>
                <a:latin typeface="Century Schoolbook"/>
              </a:rPr>
              <a:t>we need to create classrooms in which students read informational text as often as possible for more compelling purposes</a:t>
            </a:r>
            <a:r>
              <a:rPr b="0" lang="en-US" sz="2400" spc="-1" strike="noStrike">
                <a:solidFill>
                  <a:srgbClr val="000000"/>
                </a:solidFill>
                <a:latin typeface="Century Schoolbook"/>
              </a:rPr>
              <a:t>. In a recent study, 2nd and 3rd grade students whose teachers encouraged more authentic reading and writing of informational and how-to texts in science showed higher growth in reading comprehension as well as in writing (Purcell-Gates &amp; Duke, 2003).</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6840" y="274680"/>
            <a:ext cx="7543800" cy="15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HOW DO WE CREATE COMPELLING REASONS TO READ INFORMATIONAL TEXT? </a:t>
            </a:r>
            <a:endParaRPr b="0" lang="en-US" sz="3600" spc="-1" strike="noStrike">
              <a:solidFill>
                <a:srgbClr val="575f6d"/>
              </a:solidFill>
              <a:latin typeface="Century Schoolbook"/>
            </a:endParaRPr>
          </a:p>
        </p:txBody>
      </p:sp>
      <p:sp>
        <p:nvSpPr>
          <p:cNvPr id="1667" name=""/>
          <p:cNvSpPr txBox="1"/>
          <p:nvPr/>
        </p:nvSpPr>
        <p:spPr>
          <a:xfrm>
            <a:off x="0" y="1828800"/>
            <a:ext cx="8229600" cy="4952880"/>
          </a:xfrm>
          <a:prstGeom prst="rect">
            <a:avLst/>
          </a:prstGeom>
          <a:noFill/>
          <a:ln w="9360">
            <a:solidFill>
              <a:srgbClr val="3668c4"/>
            </a:solidFill>
            <a:miter/>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2200" spc="-1" strike="noStrike">
                <a:solidFill>
                  <a:srgbClr val="000000"/>
                </a:solidFill>
                <a:latin typeface="Century Schoolbook"/>
              </a:rPr>
              <a:t>Teachers can set up situations in which students need information, then encourage students to read to obtain that information. Students may want to find information about the life cycles of frogs before setting up a tadpole tank or learn about the needs of growing things before planting a window box. Teachers can pique students' curiosity: putting out some earthworms for students to observe; demonstrating that water left out in a pan on Friday has “disappeared” on Monday; setting out some magnets with various materials that the magnets will or will not attract. Students will read informational books and other print materials on earthworms, evaporation, and magnetism with greater interest and purpose after such activities as these</a:t>
            </a:r>
            <a:r>
              <a:rPr b="1" lang="en-US" sz="2200" spc="-1" strike="noStrike">
                <a:solidFill>
                  <a:srgbClr val="d0a80a"/>
                </a:solidFill>
                <a:latin typeface="Century Schoolbook"/>
              </a:rPr>
              <a:t>. </a:t>
            </a:r>
            <a:endParaRPr b="0" lang="en-US" sz="2200" spc="-1" strike="noStrike">
              <a:solidFill>
                <a:srgbClr val="000000"/>
              </a:solidFill>
              <a:latin typeface="Century Schoolbook"/>
            </a:endParaRPr>
          </a:p>
        </p:txBody>
      </p:sp>
      <p:pic>
        <p:nvPicPr>
          <p:cNvPr id="1668" name="Picture 2" descr="C:\Users\Katie\AppData\Local\Microsoft\Windows\Temporary Internet Files\Content.IE5\RDPL7504\MC900340404[1].wmf"/>
          <p:cNvPicPr/>
          <p:nvPr/>
        </p:nvPicPr>
        <p:blipFill>
          <a:blip r:embed="rId1"/>
          <a:stretch/>
        </p:blipFill>
        <p:spPr>
          <a:xfrm>
            <a:off x="7734240" y="1065240"/>
            <a:ext cx="949320" cy="1050840"/>
          </a:xfrm>
          <a:prstGeom prst="rect">
            <a:avLst/>
          </a:prstGeom>
          <a:ln w="0">
            <a:noFill/>
          </a:ln>
        </p:spPr>
      </p:pic>
      <p:pic>
        <p:nvPicPr>
          <p:cNvPr id="1669" name="Picture 3" descr="C:\Users\Katie\AppData\Local\Microsoft\Windows\Temporary Internet Files\Content.IE5\RDPL7504\MC900329589[1].wmf"/>
          <p:cNvPicPr/>
          <p:nvPr/>
        </p:nvPicPr>
        <p:blipFill>
          <a:blip r:embed="rId2"/>
          <a:stretch/>
        </p:blipFill>
        <p:spPr>
          <a:xfrm>
            <a:off x="5051520" y="1260360"/>
            <a:ext cx="691920" cy="658800"/>
          </a:xfrm>
          <a:prstGeom prst="rect">
            <a:avLst/>
          </a:prstGeom>
          <a:ln w="0">
            <a:noFill/>
          </a:ln>
        </p:spPr>
      </p:pic>
      <p:pic>
        <p:nvPicPr>
          <p:cNvPr id="1670" name="Picture 4" descr="C:\Users\Katie\AppData\Local\Microsoft\Windows\Temporary Internet Files\Content.IE5\EJH4E1OI\MC900057341[1].wmf"/>
          <p:cNvPicPr/>
          <p:nvPr/>
        </p:nvPicPr>
        <p:blipFill>
          <a:blip r:embed="rId3"/>
          <a:stretch/>
        </p:blipFill>
        <p:spPr>
          <a:xfrm>
            <a:off x="2639880" y="1136520"/>
            <a:ext cx="838440" cy="6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EADING TO OR WITH? </a:t>
            </a:r>
            <a:endParaRPr b="0" lang="en-US" sz="3200" spc="-1" strike="noStrike">
              <a:solidFill>
                <a:srgbClr val="575f6d"/>
              </a:solidFill>
              <a:latin typeface="Century Schoolbook"/>
            </a:endParaRPr>
          </a:p>
        </p:txBody>
      </p:sp>
      <p:sp>
        <p:nvSpPr>
          <p:cNvPr id="1672" name=""/>
          <p:cNvSpPr txBox="1"/>
          <p:nvPr/>
        </p:nvSpPr>
        <p:spPr>
          <a:xfrm>
            <a:off x="457200" y="1600200"/>
            <a:ext cx="8229600" cy="5029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formational text may be portioned into small segments for reading to or with stud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is not a plot moving from chapter to chapter with the reader left dangling at the end of a chapter so they will want to read on as in a novel.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ers can dip into nonfiction text, part by p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bout independent read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ADING IN SCIENCE: TEXT COMPLEXITY </a:t>
            </a:r>
            <a:endParaRPr b="0" lang="en-US" sz="3000" spc="-1" strike="noStrike">
              <a:solidFill>
                <a:srgbClr val="575f6d"/>
              </a:solidFill>
              <a:latin typeface="Century Schoolbook"/>
            </a:endParaRPr>
          </a:p>
        </p:txBody>
      </p:sp>
      <p:graphicFrame>
        <p:nvGraphicFramePr>
          <p:cNvPr id="1674" name=""/>
          <p:cNvGraphicFramePr/>
          <p:nvPr/>
        </p:nvGraphicFramePr>
        <p:xfrm>
          <a:off x="2133720" y="1981080"/>
          <a:ext cx="4876560" cy="2579760"/>
        </p:xfrm>
        <a:graphic>
          <a:graphicData uri="http://schemas.openxmlformats.org/drawingml/2006/table">
            <a:tbl>
              <a:tblPr/>
              <a:tblGrid>
                <a:gridCol w="1814400"/>
                <a:gridCol w="3062160"/>
              </a:tblGrid>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litativ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Levels of meaning, structure, language conventionality and clarity, and knowledge demand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ntitativ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Readability measures and other scores of text complexit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Reader &amp; Task</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Matching reader variables (such as motivation, knowledge and experiences) and task variables (such as purpose and complexity generated by the task assigned and the questions pose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75" name="Picture 1" descr=""/>
          <p:cNvPicPr/>
          <p:nvPr/>
        </p:nvPicPr>
        <p:blipFill>
          <a:blip r:embed="rId1"/>
          <a:stretch/>
        </p:blipFill>
        <p:spPr>
          <a:xfrm>
            <a:off x="3352680" y="4770360"/>
            <a:ext cx="2229120" cy="19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TEXT COMPLEXITY AND LEXILE SCORES</a:t>
            </a:r>
            <a:endParaRPr b="0" lang="en-US" sz="3200" spc="-1" strike="noStrike">
              <a:solidFill>
                <a:srgbClr val="575f6d"/>
              </a:solidFill>
              <a:latin typeface="Century Schoolbook"/>
            </a:endParaRPr>
          </a:p>
        </p:txBody>
      </p:sp>
      <p:pic>
        <p:nvPicPr>
          <p:cNvPr id="1677" name="Picture 2" descr=""/>
          <p:cNvPicPr/>
          <p:nvPr/>
        </p:nvPicPr>
        <p:blipFill>
          <a:blip r:embed="rId1"/>
          <a:stretch/>
        </p:blipFill>
        <p:spPr>
          <a:xfrm>
            <a:off x="1676520" y="1905120"/>
            <a:ext cx="5779800" cy="3316320"/>
          </a:xfrm>
          <a:prstGeom prst="rect">
            <a:avLst/>
          </a:prstGeom>
          <a:ln w="0">
            <a:noFill/>
          </a:ln>
        </p:spPr>
      </p:pic>
      <p:sp>
        <p:nvSpPr>
          <p:cNvPr id="1678" name="Rectangle 3"/>
          <p:cNvSpPr/>
          <p:nvPr/>
        </p:nvSpPr>
        <p:spPr>
          <a:xfrm>
            <a:off x="4119120" y="51814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om CCSS ELA Appendix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ELERATED READER ATOS LEVELS</a:t>
            </a:r>
            <a:endParaRPr b="0" lang="en-US" sz="3000" spc="-1" strike="noStrike">
              <a:solidFill>
                <a:srgbClr val="575f6d"/>
              </a:solidFill>
              <a:latin typeface="Century Schoolbook"/>
            </a:endParaRPr>
          </a:p>
        </p:txBody>
      </p:sp>
      <p:pic>
        <p:nvPicPr>
          <p:cNvPr id="1680" name="Content Placeholder 4" descr=""/>
          <p:cNvPicPr/>
          <p:nvPr/>
        </p:nvPicPr>
        <p:blipFill>
          <a:blip r:embed="rId1"/>
          <a:stretch/>
        </p:blipFill>
        <p:spPr>
          <a:xfrm>
            <a:off x="446040" y="2057400"/>
            <a:ext cx="7871040" cy="3030480"/>
          </a:xfrm>
          <a:prstGeom prst="rect">
            <a:avLst/>
          </a:prstGeom>
          <a:ln w="0">
            <a:noFill/>
          </a:ln>
        </p:spPr>
      </p:pic>
      <p:sp>
        <p:nvSpPr>
          <p:cNvPr id="168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FF45-F602-4085-B4F9-F43D1C54B66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ANALYZING LEXILE SCORES AT LEXILE.COM</a:t>
            </a:r>
            <a:endParaRPr b="0" lang="en-US" sz="3200" spc="-1" strike="noStrike">
              <a:solidFill>
                <a:srgbClr val="575f6d"/>
              </a:solidFill>
              <a:latin typeface="Century Schoolbook"/>
            </a:endParaRPr>
          </a:p>
        </p:txBody>
      </p:sp>
      <p:pic>
        <p:nvPicPr>
          <p:cNvPr id="1683" name="Content Placeholder 3" descr="Screen Clipping"/>
          <p:cNvPicPr/>
          <p:nvPr/>
        </p:nvPicPr>
        <p:blipFill>
          <a:blip r:embed="rId1"/>
          <a:stretch/>
        </p:blipFill>
        <p:spPr>
          <a:xfrm>
            <a:off x="1698480" y="1371600"/>
            <a:ext cx="588024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47:23Z</dcterms:created>
  <dc:creator>Shane  Trent</dc:creator>
  <dc:description/>
  <dc:language>en-US</dc:language>
  <cp:lastModifiedBy>Pennycuff, Kristen</cp:lastModifiedBy>
  <cp:lastPrinted>2016-06-30T01:22:36Z</cp:lastPrinted>
  <dcterms:modified xsi:type="dcterms:W3CDTF">2016-07-11T19:29:19Z</dcterms:modified>
  <cp:revision>152</cp:revision>
  <dc:subject/>
  <dc:title>Sustaining Talk</dc:title>
</cp:coreProperties>
</file>