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Lst>
  <p:sldSz cx="9144000" cy="6858000"/>
  <p:notesSz cx="70770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
          <p:cNvSpPr/>
          <p:nvPr/>
        </p:nvSpPr>
        <p:spPr>
          <a:xfrm>
            <a:off x="0" y="0"/>
            <a:ext cx="7077600" cy="936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4" name="PlaceHolder 1"/>
          <p:cNvSpPr>
            <a:spLocks noGrp="1"/>
          </p:cNvSpPr>
          <p:nvPr>
            <p:ph type="hdr"/>
          </p:nvPr>
        </p:nvSpPr>
        <p:spPr>
          <a:xfrm>
            <a:off x="0" y="-360"/>
            <a:ext cx="3067200" cy="468360"/>
          </a:xfrm>
          <a:prstGeom prst="rect">
            <a:avLst/>
          </a:prstGeom>
          <a:noFill/>
          <a:ln w="0">
            <a:noFill/>
          </a:ln>
        </p:spPr>
        <p:txBody>
          <a:bodyPr lIns="93960" rIns="93960" tIns="46800" bIns="46800" anchor="t">
            <a:noAutofit/>
          </a:bodyPr>
          <a:p>
            <a:pPr indent="0">
              <a:buNone/>
            </a:pPr>
            <a:endParaRPr b="0" lang="en-US" sz="2400" spc="-1" strike="noStrike">
              <a:solidFill>
                <a:srgbClr val="000000"/>
              </a:solidFill>
              <a:latin typeface="Times New Roman"/>
            </a:endParaRPr>
          </a:p>
        </p:txBody>
      </p:sp>
      <p:sp>
        <p:nvSpPr>
          <p:cNvPr id="1655" name="PlaceHolder 2"/>
          <p:cNvSpPr>
            <a:spLocks noGrp="1"/>
          </p:cNvSpPr>
          <p:nvPr>
            <p:ph type="dt" idx="59"/>
          </p:nvPr>
        </p:nvSpPr>
        <p:spPr>
          <a:xfrm>
            <a:off x="4008240" y="-360"/>
            <a:ext cx="3066840" cy="468360"/>
          </a:xfrm>
          <a:prstGeom prst="rect">
            <a:avLst/>
          </a:prstGeom>
          <a:noFill/>
          <a:ln w="0">
            <a:noFill/>
          </a:ln>
        </p:spPr>
        <p:txBody>
          <a:bodyPr lIns="93960" rIns="93960" tIns="46800" bIns="46800" anchor="t">
            <a:noAutofit/>
          </a:bodyPr>
          <a:p>
            <a:pPr indent="0">
              <a:buNone/>
            </a:pPr>
            <a:endParaRPr b="0" lang="en-US" sz="2400" spc="-1" strike="noStrike">
              <a:solidFill>
                <a:srgbClr val="000000"/>
              </a:solidFill>
              <a:latin typeface="Times New Roman"/>
            </a:endParaRPr>
          </a:p>
        </p:txBody>
      </p:sp>
      <p:sp>
        <p:nvSpPr>
          <p:cNvPr id="1656" name="PlaceHolder 3"/>
          <p:cNvSpPr>
            <a:spLocks noGrp="1"/>
          </p:cNvSpPr>
          <p:nvPr>
            <p:ph type="sldImg"/>
          </p:nvPr>
        </p:nvSpPr>
        <p:spPr>
          <a:xfrm>
            <a:off x="1196640" y="701640"/>
            <a:ext cx="4683240" cy="3511440"/>
          </a:xfrm>
          <a:prstGeom prst="rect">
            <a:avLst/>
          </a:prstGeom>
          <a:noFill/>
          <a:ln w="9360">
            <a:solidFill>
              <a:srgbClr val="000000"/>
            </a:solidFill>
            <a:miter/>
          </a:ln>
        </p:spPr>
        <p:txBody>
          <a:bodyPr lIns="93960" rIns="9396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1657" name="PlaceHolder 4"/>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8" name="PlaceHolder 5"/>
          <p:cNvSpPr>
            <a:spLocks noGrp="1"/>
          </p:cNvSpPr>
          <p:nvPr>
            <p:ph type="ftr" idx="60"/>
          </p:nvPr>
        </p:nvSpPr>
        <p:spPr>
          <a:xfrm>
            <a:off x="0" y="8892720"/>
            <a:ext cx="3067200" cy="468360"/>
          </a:xfrm>
          <a:prstGeom prst="rect">
            <a:avLst/>
          </a:prstGeom>
          <a:noFill/>
          <a:ln w="0">
            <a:noFill/>
          </a:ln>
        </p:spPr>
        <p:txBody>
          <a:bodyPr lIns="93960" rIns="93960" tIns="46800" bIns="46800" anchor="b">
            <a:noAutofit/>
          </a:bodyPr>
          <a:p>
            <a:pPr indent="0">
              <a:buNone/>
            </a:pPr>
            <a:endParaRPr b="0" lang="en-US" sz="2400" spc="-1" strike="noStrike">
              <a:solidFill>
                <a:srgbClr val="000000"/>
              </a:solidFill>
              <a:latin typeface="Times New Roman"/>
            </a:endParaRPr>
          </a:p>
        </p:txBody>
      </p:sp>
      <p:sp>
        <p:nvSpPr>
          <p:cNvPr id="1659" name="PlaceHolder 6"/>
          <p:cNvSpPr>
            <a:spLocks noGrp="1"/>
          </p:cNvSpPr>
          <p:nvPr>
            <p:ph type="sldNum" idx="61"/>
          </p:nvPr>
        </p:nvSpPr>
        <p:spPr>
          <a:xfrm>
            <a:off x="4008240" y="8892720"/>
            <a:ext cx="3066840" cy="468360"/>
          </a:xfrm>
          <a:prstGeom prst="rect">
            <a:avLst/>
          </a:prstGeom>
          <a:noFill/>
          <a:ln w="0">
            <a:noFill/>
          </a:ln>
        </p:spPr>
        <p:txBody>
          <a:bodyPr lIns="93960" rIns="9396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CCEA-6A4F-4E14-8B91-B6DC92EFC0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1197000" y="701640"/>
            <a:ext cx="4683240" cy="3511440"/>
          </a:xfrm>
          <a:prstGeom prst="rect">
            <a:avLst/>
          </a:prstGeom>
          <a:ln w="0">
            <a:noFill/>
          </a:ln>
        </p:spPr>
      </p:sp>
      <p:sp>
        <p:nvSpPr>
          <p:cNvPr id="1710"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tanabe.blogspot.com/2012/09/addressing-text-complexity-through.html </a:t>
            </a:r>
            <a:endParaRPr b="0" lang="en-US" sz="1200" spc="-1" strike="noStrike">
              <a:solidFill>
                <a:srgbClr val="000000"/>
              </a:solidFill>
              <a:latin typeface="Arial"/>
            </a:endParaRPr>
          </a:p>
        </p:txBody>
      </p:sp>
      <p:sp>
        <p:nvSpPr>
          <p:cNvPr id="171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3EB4-8695-4461-8BDE-A9F153A57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1197000" y="701640"/>
            <a:ext cx="4683240" cy="3511440"/>
          </a:xfrm>
          <a:prstGeom prst="rect">
            <a:avLst/>
          </a:prstGeom>
          <a:ln w="0">
            <a:noFill/>
          </a:ln>
        </p:spPr>
      </p:sp>
      <p:sp>
        <p:nvSpPr>
          <p:cNvPr id="1701"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time for audience to share with each other how they create compelling reason for students to read informational text…ask for a few people to share out their ideas by writing them down on cards and holding them up.  </a:t>
            </a:r>
            <a:endParaRPr b="0" lang="en-US" sz="1200" spc="-1" strike="noStrike">
              <a:solidFill>
                <a:srgbClr val="000000"/>
              </a:solidFill>
              <a:latin typeface="Arial"/>
            </a:endParaRPr>
          </a:p>
        </p:txBody>
      </p:sp>
      <p:sp>
        <p:nvSpPr>
          <p:cNvPr id="170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DC0A-4D7C-4F77-AE85-D9C44A2B8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sldImg"/>
          </p:nvPr>
        </p:nvSpPr>
        <p:spPr>
          <a:xfrm>
            <a:off x="1197000" y="701640"/>
            <a:ext cx="4683240" cy="3511440"/>
          </a:xfrm>
          <a:prstGeom prst="rect">
            <a:avLst/>
          </a:prstGeom>
          <a:ln w="0">
            <a:noFill/>
          </a:ln>
        </p:spPr>
      </p:sp>
      <p:sp>
        <p:nvSpPr>
          <p:cNvPr id="1704"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0928F-C5D7-4C5E-BDA2-A359AD52B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sldImg"/>
          </p:nvPr>
        </p:nvSpPr>
        <p:spPr>
          <a:xfrm>
            <a:off x="1197000" y="701640"/>
            <a:ext cx="4683240" cy="3511440"/>
          </a:xfrm>
          <a:prstGeom prst="rect">
            <a:avLst/>
          </a:prstGeom>
          <a:ln w="0">
            <a:noFill/>
          </a:ln>
        </p:spPr>
      </p:sp>
      <p:sp>
        <p:nvSpPr>
          <p:cNvPr id="1707"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s “I Know Why the Caged Bird Sings” ATOS 5.5 NOT appropriate for 5</a:t>
            </a:r>
            <a:r>
              <a:rPr b="0" lang="en-US" sz="1200" spc="-1" strike="noStrike" baseline="30000">
                <a:solidFill>
                  <a:srgbClr val="000000"/>
                </a:solidFill>
                <a:latin typeface="Arial"/>
              </a:rPr>
              <a:t>th</a:t>
            </a:r>
            <a:r>
              <a:rPr b="0" lang="en-US" sz="1200" spc="-1" strike="noStrike">
                <a:solidFill>
                  <a:srgbClr val="000000"/>
                </a:solidFill>
                <a:latin typeface="Arial"/>
              </a:rPr>
              <a:t> graders at old ATOS or 4</a:t>
            </a:r>
            <a:r>
              <a:rPr b="0" lang="en-US" sz="1200" spc="-1" strike="noStrike" baseline="30000">
                <a:solidFill>
                  <a:srgbClr val="000000"/>
                </a:solidFill>
                <a:latin typeface="Arial"/>
              </a:rPr>
              <a:t>th</a:t>
            </a:r>
            <a:r>
              <a:rPr b="0" lang="en-US" sz="1200" spc="-1" strike="noStrike">
                <a:solidFill>
                  <a:srgbClr val="000000"/>
                </a:solidFill>
                <a:latin typeface="Arial"/>
              </a:rPr>
              <a:t> graders at new “stretch” score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zanne Collin’s “Hunger Games” quantitative measures of 5.3 but qualitative measures make it more 7</a:t>
            </a:r>
            <a:r>
              <a:rPr b="0" lang="en-US" sz="1200" spc="-1" strike="noStrike" baseline="30000">
                <a:solidFill>
                  <a:srgbClr val="000000"/>
                </a:solidFill>
                <a:latin typeface="Arial"/>
              </a:rPr>
              <a:t>th</a:t>
            </a:r>
            <a:r>
              <a:rPr b="0" lang="en-US" sz="1200" spc="-1" strike="noStrike">
                <a:solidFill>
                  <a:srgbClr val="000000"/>
                </a:solidFill>
                <a:latin typeface="Arial"/>
              </a:rPr>
              <a:t> grade</a:t>
            </a:r>
            <a:endParaRPr b="0" lang="en-US" sz="1200" spc="-1" strike="noStrike">
              <a:solidFill>
                <a:srgbClr val="000000"/>
              </a:solidFill>
              <a:latin typeface="Arial"/>
            </a:endParaRPr>
          </a:p>
        </p:txBody>
      </p:sp>
      <p:sp>
        <p:nvSpPr>
          <p:cNvPr id="170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87A8-66FF-4FFF-8C4F-C0CE12195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20A95C-9190-478F-919D-3F1A2ED21B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
          </p:nvPr>
        </p:nvSpPr>
        <p:spPr/>
        <p:txBody>
          <a:bodyPr/>
          <a:p>
            <a:fld id="{716FA758-941B-4C16-AE02-848464C89B7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9"/>
          </p:nvPr>
        </p:nvSpPr>
        <p:spPr/>
        <p:txBody>
          <a:bodyPr/>
          <a:p>
            <a:fld id="{E9ED85B9-687E-4555-B0EB-3B5E8CFE04D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9"/>
          </p:nvPr>
        </p:nvSpPr>
        <p:spPr/>
        <p:txBody>
          <a:bodyPr/>
          <a:p>
            <a:fld id="{D665E037-F828-4051-9E95-D509E2CFB93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9"/>
          </p:nvPr>
        </p:nvSpPr>
        <p:spPr/>
        <p:txBody>
          <a:bodyPr/>
          <a:p>
            <a:fld id="{F413F759-C343-4752-89D6-43FFB8A280B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9"/>
          </p:nvPr>
        </p:nvSpPr>
        <p:spPr/>
        <p:txBody>
          <a:bodyPr/>
          <a:p>
            <a:fld id="{8610D93D-19A5-4EAA-91D9-25A2560F410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9"/>
          </p:nvPr>
        </p:nvSpPr>
        <p:spPr/>
        <p:txBody>
          <a:bodyPr/>
          <a:p>
            <a:fld id="{D63E333C-7484-4979-9BE6-9F52F2C452B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9"/>
          </p:nvPr>
        </p:nvSpPr>
        <p:spPr/>
        <p:txBody>
          <a:bodyPr/>
          <a:p>
            <a:fld id="{E7842190-EE93-4B0F-B227-F278471E24D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9"/>
          </p:nvPr>
        </p:nvSpPr>
        <p:spPr/>
        <p:txBody>
          <a:bodyPr/>
          <a:p>
            <a:fld id="{BB2FC6B1-A17E-4F58-93E3-16B61C59284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9"/>
          </p:nvPr>
        </p:nvSpPr>
        <p:spPr/>
        <p:txBody>
          <a:bodyPr/>
          <a:p>
            <a:fld id="{DBD25C62-307B-49CC-80E2-834527036EA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9"/>
          </p:nvPr>
        </p:nvSpPr>
        <p:spPr/>
        <p:txBody>
          <a:bodyPr/>
          <a:p>
            <a:fld id="{CE223CE7-199D-427C-BEC3-095093BECB4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C14E777-E047-46B6-BF59-32D45227A1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
          </p:nvPr>
        </p:nvSpPr>
        <p:spPr/>
        <p:txBody>
          <a:bodyPr/>
          <a:p>
            <a:fld id="{AAEB7A30-7B9D-41C3-B529-EB194087A6F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0"/>
          </p:nvPr>
        </p:nvSpPr>
        <p:spPr/>
        <p:txBody>
          <a:bodyPr/>
          <a:p>
            <a:fld id="{AEA23CBD-40A4-48EC-8488-BC47FEA51FE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0"/>
          </p:nvPr>
        </p:nvSpPr>
        <p:spPr/>
        <p:txBody>
          <a:bodyPr/>
          <a:p>
            <a:fld id="{3C02EB8F-0785-4BAB-AC9D-D213943B67F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0"/>
          </p:nvPr>
        </p:nvSpPr>
        <p:spPr/>
        <p:txBody>
          <a:bodyPr/>
          <a:p>
            <a:fld id="{7D131F2A-E78F-4D32-8AEB-CA9B9F401FE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0"/>
          </p:nvPr>
        </p:nvSpPr>
        <p:spPr/>
        <p:txBody>
          <a:bodyPr/>
          <a:p>
            <a:fld id="{042B0849-5E3F-43C7-8455-AE0427F2E00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0"/>
          </p:nvPr>
        </p:nvSpPr>
        <p:spPr/>
        <p:txBody>
          <a:bodyPr/>
          <a:p>
            <a:fld id="{1BB8418F-1682-4A31-91B2-EFD10DCCA72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9FACEF90-4290-4E42-AB77-99E1E616217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10F89206-4F3B-4EBF-8649-D1E81348987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41E92FB3-6FEF-4D01-8469-C4BBB88E0EF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0"/>
          </p:nvPr>
        </p:nvSpPr>
        <p:spPr/>
        <p:txBody>
          <a:bodyPr/>
          <a:p>
            <a:fld id="{C36E694B-7D48-44CD-BEE7-91236D94EEC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0"/>
          </p:nvPr>
        </p:nvSpPr>
        <p:spPr/>
        <p:txBody>
          <a:bodyPr/>
          <a:p>
            <a:fld id="{57E90B43-E123-4508-9703-A1DC546DDE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
          </p:nvPr>
        </p:nvSpPr>
        <p:spPr/>
        <p:txBody>
          <a:bodyPr/>
          <a:p>
            <a:fld id="{04B74D18-A0F3-46D6-8CAE-58F2179C58C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0"/>
          </p:nvPr>
        </p:nvSpPr>
        <p:spPr/>
        <p:txBody>
          <a:bodyPr/>
          <a:p>
            <a:fld id="{1B755B75-EF24-4187-9CF8-322CFC8C09F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942B239-F170-4901-848B-E4EC3D54B3B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1"/>
          </p:nvPr>
        </p:nvSpPr>
        <p:spPr/>
        <p:txBody>
          <a:bodyPr/>
          <a:p>
            <a:fld id="{7F94D1D4-4C71-4866-9DF9-802CAE55351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1"/>
          </p:nvPr>
        </p:nvSpPr>
        <p:spPr/>
        <p:txBody>
          <a:bodyPr/>
          <a:p>
            <a:fld id="{B70BAE7D-6964-4DEA-9645-B100A514D8F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1"/>
          </p:nvPr>
        </p:nvSpPr>
        <p:spPr/>
        <p:txBody>
          <a:bodyPr/>
          <a:p>
            <a:fld id="{9DD47953-3182-4C22-8696-88F22F3A855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1"/>
          </p:nvPr>
        </p:nvSpPr>
        <p:spPr/>
        <p:txBody>
          <a:bodyPr/>
          <a:p>
            <a:fld id="{4FD52995-AF1B-4D6A-A728-9494AF812B2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1"/>
          </p:nvPr>
        </p:nvSpPr>
        <p:spPr/>
        <p:txBody>
          <a:bodyPr/>
          <a:p>
            <a:fld id="{E20E76FE-AA8F-42A2-906D-B04687F496F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1"/>
          </p:nvPr>
        </p:nvSpPr>
        <p:spPr/>
        <p:txBody>
          <a:bodyPr/>
          <a:p>
            <a:fld id="{7BF42C07-64C6-47AB-9E64-3916073A5DB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1"/>
          </p:nvPr>
        </p:nvSpPr>
        <p:spPr/>
        <p:txBody>
          <a:bodyPr/>
          <a:p>
            <a:fld id="{2EEC139D-36C3-4BAF-B0DC-CCB22C742C6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1"/>
          </p:nvPr>
        </p:nvSpPr>
        <p:spPr/>
        <p:txBody>
          <a:bodyPr/>
          <a:p>
            <a:fld id="{B6DCBDC8-F717-47B4-BA16-DC58BE4FE1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6CDE8F8-3F06-4404-B141-F595F69CED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1"/>
          </p:nvPr>
        </p:nvSpPr>
        <p:spPr/>
        <p:txBody>
          <a:bodyPr/>
          <a:p>
            <a:fld id="{12385BC4-492D-4A6D-8D7E-649363179D3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1"/>
          </p:nvPr>
        </p:nvSpPr>
        <p:spPr/>
        <p:txBody>
          <a:bodyPr/>
          <a:p>
            <a:fld id="{48882FF4-E01D-4A7D-B32E-C814FB556BD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1"/>
          </p:nvPr>
        </p:nvSpPr>
        <p:spPr/>
        <p:txBody>
          <a:bodyPr/>
          <a:p>
            <a:fld id="{CC5ADAC1-1A21-4F09-A8E7-0FF7C8BF3C5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7565F49-3201-4B12-974B-92B80C55876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2"/>
          </p:nvPr>
        </p:nvSpPr>
        <p:spPr/>
        <p:txBody>
          <a:bodyPr/>
          <a:p>
            <a:fld id="{C6E1D644-1C82-49E2-8721-30D0E90D1FD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2"/>
          </p:nvPr>
        </p:nvSpPr>
        <p:spPr/>
        <p:txBody>
          <a:bodyPr/>
          <a:p>
            <a:fld id="{C5D1EF85-2DD5-4CC9-8709-A10A0D7AEB7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2"/>
          </p:nvPr>
        </p:nvSpPr>
        <p:spPr/>
        <p:txBody>
          <a:bodyPr/>
          <a:p>
            <a:fld id="{66053C53-5CC6-476F-ACCE-E1A647C694C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2"/>
          </p:nvPr>
        </p:nvSpPr>
        <p:spPr/>
        <p:txBody>
          <a:bodyPr/>
          <a:p>
            <a:fld id="{BAABE175-D000-4314-9B89-BC96CE54C9C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2"/>
          </p:nvPr>
        </p:nvSpPr>
        <p:spPr/>
        <p:txBody>
          <a:bodyPr/>
          <a:p>
            <a:fld id="{88BF1EEC-7C3C-40E8-ACB7-F50AA1E94CF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B2176B46-64C2-4195-94D7-CCB349C195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9E544A3-B242-4526-8E75-4FB8DF969B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6E6E776D-4F3D-4620-88A6-D97E69D2287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9CBE9CFA-AEEB-4B6D-BE80-3DB7E9FEDF2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2"/>
          </p:nvPr>
        </p:nvSpPr>
        <p:spPr/>
        <p:txBody>
          <a:bodyPr/>
          <a:p>
            <a:fld id="{78B97143-D94B-4C63-98E2-45FDCF0FC47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2"/>
          </p:nvPr>
        </p:nvSpPr>
        <p:spPr/>
        <p:txBody>
          <a:bodyPr/>
          <a:p>
            <a:fld id="{39FD1A04-0547-4701-B27F-7EA26D217EE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2"/>
          </p:nvPr>
        </p:nvSpPr>
        <p:spPr/>
        <p:txBody>
          <a:bodyPr/>
          <a:p>
            <a:fld id="{5D22D7B4-7880-4F3C-A350-A23FB0A3A5F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1BB7957-8196-41D1-B48F-675CCCDDAAC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3"/>
          </p:nvPr>
        </p:nvSpPr>
        <p:spPr/>
        <p:txBody>
          <a:bodyPr/>
          <a:p>
            <a:fld id="{A646B6C3-745B-43B6-99FB-32097491D9D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3"/>
          </p:nvPr>
        </p:nvSpPr>
        <p:spPr/>
        <p:txBody>
          <a:bodyPr/>
          <a:p>
            <a:fld id="{CE9F589E-9958-4A16-BCD6-AE574350463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3"/>
          </p:nvPr>
        </p:nvSpPr>
        <p:spPr/>
        <p:txBody>
          <a:bodyPr/>
          <a:p>
            <a:fld id="{C01EA374-AF31-42E9-86FE-1651A288D44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3"/>
          </p:nvPr>
        </p:nvSpPr>
        <p:spPr/>
        <p:txBody>
          <a:bodyPr/>
          <a:p>
            <a:fld id="{0C6C3F0A-0283-4C5F-B972-E2874BEEB0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8BE755-9EA4-43C1-89F4-9B15BC6216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3"/>
          </p:nvPr>
        </p:nvSpPr>
        <p:spPr/>
        <p:txBody>
          <a:bodyPr/>
          <a:p>
            <a:fld id="{D76895AD-0949-40CF-874C-47E0962A504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3"/>
          </p:nvPr>
        </p:nvSpPr>
        <p:spPr/>
        <p:txBody>
          <a:bodyPr/>
          <a:p>
            <a:fld id="{764F5FFD-BC5B-44B3-BE47-624BDB5CAF3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3"/>
          </p:nvPr>
        </p:nvSpPr>
        <p:spPr/>
        <p:txBody>
          <a:bodyPr/>
          <a:p>
            <a:fld id="{7B364CC6-13ED-412A-91E1-D0715DFA563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3"/>
          </p:nvPr>
        </p:nvSpPr>
        <p:spPr/>
        <p:txBody>
          <a:bodyPr/>
          <a:p>
            <a:fld id="{D26543AC-AB01-4D55-BF95-57936E7BAF9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3"/>
          </p:nvPr>
        </p:nvSpPr>
        <p:spPr/>
        <p:txBody>
          <a:bodyPr/>
          <a:p>
            <a:fld id="{4D62F7D6-9F44-4913-8979-482A17471A0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3"/>
          </p:nvPr>
        </p:nvSpPr>
        <p:spPr/>
        <p:txBody>
          <a:bodyPr/>
          <a:p>
            <a:fld id="{02F35C19-8E8D-4D9C-912F-CCF8C6A6228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3"/>
          </p:nvPr>
        </p:nvSpPr>
        <p:spPr/>
        <p:txBody>
          <a:bodyPr/>
          <a:p>
            <a:fld id="{24CC5B19-DA02-45D2-B1B3-BA8A9DF2CAA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DD1AFD-3124-49D7-A000-F139C04215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C4036A7-8968-40EA-9226-75A1F52D25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3B9362-5543-4BFD-89C2-B4B2880D5C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4"/>
          </p:nvPr>
        </p:nvSpPr>
        <p:spPr/>
        <p:txBody>
          <a:bodyPr/>
          <a:p>
            <a:fld id="{2925B80D-E173-4F7A-8E6E-4F6A897FE9F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4"/>
          </p:nvPr>
        </p:nvSpPr>
        <p:spPr/>
        <p:txBody>
          <a:bodyPr/>
          <a:p>
            <a:fld id="{136DF173-67D7-4B49-98E2-480D6DA9F3C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4"/>
          </p:nvPr>
        </p:nvSpPr>
        <p:spPr/>
        <p:txBody>
          <a:bodyPr/>
          <a:p>
            <a:fld id="{026B34D4-4699-425F-BCA0-8940C187B90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4"/>
          </p:nvPr>
        </p:nvSpPr>
        <p:spPr/>
        <p:txBody>
          <a:bodyPr/>
          <a:p>
            <a:fld id="{228FAD17-2EF8-47B8-9F03-40F4343D5AF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4"/>
          </p:nvPr>
        </p:nvSpPr>
        <p:spPr/>
        <p:txBody>
          <a:bodyPr/>
          <a:p>
            <a:fld id="{22E214FC-1050-4E29-B47A-132B26A58DD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4"/>
          </p:nvPr>
        </p:nvSpPr>
        <p:spPr/>
        <p:txBody>
          <a:bodyPr/>
          <a:p>
            <a:fld id="{58C93ADC-C051-45DD-A34E-1D6945401A6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4"/>
          </p:nvPr>
        </p:nvSpPr>
        <p:spPr/>
        <p:txBody>
          <a:bodyPr/>
          <a:p>
            <a:fld id="{30C29277-FBAC-47B7-93A2-9B659D12FB3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4"/>
          </p:nvPr>
        </p:nvSpPr>
        <p:spPr/>
        <p:txBody>
          <a:bodyPr/>
          <a:p>
            <a:fld id="{2037E364-7F85-4948-9A0C-A979B002956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4"/>
          </p:nvPr>
        </p:nvSpPr>
        <p:spPr/>
        <p:txBody>
          <a:bodyPr/>
          <a:p>
            <a:fld id="{D8EECF38-0974-414C-BD57-E0A900FEAA7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4"/>
          </p:nvPr>
        </p:nvSpPr>
        <p:spPr/>
        <p:txBody>
          <a:bodyPr/>
          <a:p>
            <a:fld id="{D5844845-958F-49DB-A399-75C4C22EAE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DA69939-EF1F-4E7A-973C-BC7E9F3F3C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4"/>
          </p:nvPr>
        </p:nvSpPr>
        <p:spPr/>
        <p:txBody>
          <a:bodyPr/>
          <a:p>
            <a:fld id="{7A86DFD8-E708-4D7F-B2EC-D0A79D4005A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59F8CD6-9DD5-4D8E-9D5B-61BC0E9CF9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FA2D6A6-C4FE-4FED-AE72-1225F326132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5"/>
          </p:nvPr>
        </p:nvSpPr>
        <p:spPr/>
        <p:txBody>
          <a:bodyPr/>
          <a:p>
            <a:fld id="{4ABFA625-736C-4951-8E1D-B8B7524C5FC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5"/>
          </p:nvPr>
        </p:nvSpPr>
        <p:spPr/>
        <p:txBody>
          <a:bodyPr/>
          <a:p>
            <a:fld id="{605365B9-11D1-4739-8270-5144C7AD48F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5"/>
          </p:nvPr>
        </p:nvSpPr>
        <p:spPr/>
        <p:txBody>
          <a:bodyPr/>
          <a:p>
            <a:fld id="{68BC3AA2-4C66-42D5-9250-7BE5A2AFB41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5"/>
          </p:nvPr>
        </p:nvSpPr>
        <p:spPr/>
        <p:txBody>
          <a:bodyPr/>
          <a:p>
            <a:fld id="{B9082428-7242-4FB5-9F1A-A520A8A2A46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5"/>
          </p:nvPr>
        </p:nvSpPr>
        <p:spPr/>
        <p:txBody>
          <a:bodyPr/>
          <a:p>
            <a:fld id="{5CBE8981-325E-4A7B-891F-217DE863D06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5"/>
          </p:nvPr>
        </p:nvSpPr>
        <p:spPr/>
        <p:txBody>
          <a:bodyPr/>
          <a:p>
            <a:fld id="{E37B4DC2-DF5A-4EF5-8B1D-943E3CF69E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
          </p:nvPr>
        </p:nvSpPr>
        <p:spPr/>
        <p:txBody>
          <a:bodyPr/>
          <a:p>
            <a:fld id="{ECA358DC-C8B2-4FEF-90FF-AC6B014B2F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6D7E7B-7E48-4B2A-99FA-A40D7908F3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5"/>
          </p:nvPr>
        </p:nvSpPr>
        <p:spPr/>
        <p:txBody>
          <a:bodyPr/>
          <a:p>
            <a:fld id="{E1AD7B75-AF7C-42B0-9890-837DC29D288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5"/>
          </p:nvPr>
        </p:nvSpPr>
        <p:spPr/>
        <p:txBody>
          <a:bodyPr/>
          <a:p>
            <a:fld id="{447385AA-AD46-4E92-93FE-2F9A53A343A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5"/>
          </p:nvPr>
        </p:nvSpPr>
        <p:spPr/>
        <p:txBody>
          <a:bodyPr/>
          <a:p>
            <a:fld id="{C6CDEE49-AB8F-49F5-A66B-0703C66FFFA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5"/>
          </p:nvPr>
        </p:nvSpPr>
        <p:spPr/>
        <p:txBody>
          <a:bodyPr/>
          <a:p>
            <a:fld id="{D53D880E-9E75-4689-8F82-DAC3DF2070B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5"/>
          </p:nvPr>
        </p:nvSpPr>
        <p:spPr/>
        <p:txBody>
          <a:bodyPr/>
          <a:p>
            <a:fld id="{5F727409-6814-478F-AB81-3057E18E6B8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1653038-9AD0-4257-8209-6B5641221A8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6"/>
          </p:nvPr>
        </p:nvSpPr>
        <p:spPr/>
        <p:txBody>
          <a:bodyPr/>
          <a:p>
            <a:fld id="{A1CB9CFE-D425-4DCD-8888-AF54C8215BF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6"/>
          </p:nvPr>
        </p:nvSpPr>
        <p:spPr/>
        <p:txBody>
          <a:bodyPr/>
          <a:p>
            <a:fld id="{997CDD49-F1FD-405D-823C-AA4B4857F9CA}"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6"/>
          </p:nvPr>
        </p:nvSpPr>
        <p:spPr/>
        <p:txBody>
          <a:bodyPr/>
          <a:p>
            <a:fld id="{068ED61D-72DD-46F0-9563-4C90B6A3ECA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6"/>
          </p:nvPr>
        </p:nvSpPr>
        <p:spPr/>
        <p:txBody>
          <a:bodyPr/>
          <a:p>
            <a:fld id="{0882D342-36FC-4B3E-8426-CE4F2D56CB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ADDFCE-2EC7-46ED-859D-023E36C21D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6"/>
          </p:nvPr>
        </p:nvSpPr>
        <p:spPr/>
        <p:txBody>
          <a:bodyPr/>
          <a:p>
            <a:fld id="{54D16BAE-B5A3-4B4A-ADE7-954C8E8CE289}"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6"/>
          </p:nvPr>
        </p:nvSpPr>
        <p:spPr/>
        <p:txBody>
          <a:bodyPr/>
          <a:p>
            <a:fld id="{F86AD76E-F689-4419-9A0F-983B0B758F33}"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6"/>
          </p:nvPr>
        </p:nvSpPr>
        <p:spPr/>
        <p:txBody>
          <a:bodyPr/>
          <a:p>
            <a:fld id="{DD3F4C76-13FC-4FA0-A4E0-FC1A126B011B}"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6"/>
          </p:nvPr>
        </p:nvSpPr>
        <p:spPr/>
        <p:txBody>
          <a:bodyPr/>
          <a:p>
            <a:fld id="{AF0C9406-7B1D-402E-B7B7-3072F925CC4B}"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6"/>
          </p:nvPr>
        </p:nvSpPr>
        <p:spPr/>
        <p:txBody>
          <a:bodyPr/>
          <a:p>
            <a:fld id="{E6F7A85B-BE9E-496C-9150-B1BDB91BD28C}"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6"/>
          </p:nvPr>
        </p:nvSpPr>
        <p:spPr/>
        <p:txBody>
          <a:bodyPr/>
          <a:p>
            <a:fld id="{BAC41820-795B-42DB-BC2A-DA4F92DA5BE4}"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6"/>
          </p:nvPr>
        </p:nvSpPr>
        <p:spPr/>
        <p:txBody>
          <a:bodyPr/>
          <a:p>
            <a:fld id="{0A9C65DB-C152-4848-A1C3-9791CF966828}"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48CAFEEC-75EB-46CF-89E5-7EEDA24A29C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7"/>
          </p:nvPr>
        </p:nvSpPr>
        <p:spPr/>
        <p:txBody>
          <a:bodyPr/>
          <a:p>
            <a:fld id="{A9EC27B6-AB03-4FDC-8A44-A433F6E42F12}"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7"/>
          </p:nvPr>
        </p:nvSpPr>
        <p:spPr/>
        <p:txBody>
          <a:bodyPr/>
          <a:p>
            <a:fld id="{73F02937-8074-495C-A8C1-D726CC6B21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22A3D0A-11AF-4E32-A7A3-486A834D9B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7"/>
          </p:nvPr>
        </p:nvSpPr>
        <p:spPr/>
        <p:txBody>
          <a:bodyPr/>
          <a:p>
            <a:fld id="{480E9DEF-22EF-47F3-9614-48FEDF37CAD4}"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7"/>
          </p:nvPr>
        </p:nvSpPr>
        <p:spPr/>
        <p:txBody>
          <a:bodyPr/>
          <a:p>
            <a:fld id="{7547B938-62A5-404E-9872-B7F4A8E59A9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7"/>
          </p:nvPr>
        </p:nvSpPr>
        <p:spPr/>
        <p:txBody>
          <a:bodyPr/>
          <a:p>
            <a:fld id="{3F49A319-9CC6-45F0-994A-F2653B13BF0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7"/>
          </p:nvPr>
        </p:nvSpPr>
        <p:spPr/>
        <p:txBody>
          <a:bodyPr/>
          <a:p>
            <a:fld id="{C0155C6B-59CA-4A09-92C6-B6EE8C8C01D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7"/>
          </p:nvPr>
        </p:nvSpPr>
        <p:spPr/>
        <p:txBody>
          <a:bodyPr/>
          <a:p>
            <a:fld id="{B2A0F712-828C-4815-9F32-113E01DBA25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7"/>
          </p:nvPr>
        </p:nvSpPr>
        <p:spPr/>
        <p:txBody>
          <a:bodyPr/>
          <a:p>
            <a:fld id="{6F0EFF49-B98F-490A-9626-17C47FF3E95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7"/>
          </p:nvPr>
        </p:nvSpPr>
        <p:spPr/>
        <p:txBody>
          <a:bodyPr/>
          <a:p>
            <a:fld id="{61E22530-5A8B-4C7F-9E61-9F37A400993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7"/>
          </p:nvPr>
        </p:nvSpPr>
        <p:spPr/>
        <p:txBody>
          <a:bodyPr/>
          <a:p>
            <a:fld id="{CBFE2455-D51B-4FF6-A7DF-C7FAB52AC6C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1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7"/>
          </p:nvPr>
        </p:nvSpPr>
        <p:spPr/>
        <p:txBody>
          <a:bodyPr/>
          <a:p>
            <a:fld id="{DFD44EAE-7CB6-42CD-A983-AA5A936B133B}"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25867D9-78E3-4FAA-BA39-5D584F31A5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4C9B6A9-C80A-4545-BF2F-B685321E4AE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8"/>
          </p:nvPr>
        </p:nvSpPr>
        <p:spPr/>
        <p:txBody>
          <a:bodyPr/>
          <a:p>
            <a:fld id="{0A1B26B5-3BD7-4D05-9B98-ED800406B66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8"/>
          </p:nvPr>
        </p:nvSpPr>
        <p:spPr/>
        <p:txBody>
          <a:bodyPr/>
          <a:p>
            <a:fld id="{926D9837-A1A0-4B92-8C2A-437482F76FD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8"/>
          </p:nvPr>
        </p:nvSpPr>
        <p:spPr/>
        <p:txBody>
          <a:bodyPr/>
          <a:p>
            <a:fld id="{C6941915-9008-4784-8E8F-11866AEFFCA2}"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8"/>
          </p:nvPr>
        </p:nvSpPr>
        <p:spPr/>
        <p:txBody>
          <a:bodyPr/>
          <a:p>
            <a:fld id="{BB0CB9A1-3162-481A-B3A6-D5DDE1E79DF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8"/>
          </p:nvPr>
        </p:nvSpPr>
        <p:spPr/>
        <p:txBody>
          <a:bodyPr/>
          <a:p>
            <a:fld id="{58901804-F6A6-471A-811E-17DB2E89121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8"/>
          </p:nvPr>
        </p:nvSpPr>
        <p:spPr/>
        <p:txBody>
          <a:bodyPr/>
          <a:p>
            <a:fld id="{557EC7A6-D4E9-46D7-8188-F0BDC65981B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8"/>
          </p:nvPr>
        </p:nvSpPr>
        <p:spPr/>
        <p:txBody>
          <a:bodyPr/>
          <a:p>
            <a:fld id="{55124C95-F2AC-4821-807D-6C3719429737}"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8"/>
          </p:nvPr>
        </p:nvSpPr>
        <p:spPr/>
        <p:txBody>
          <a:bodyPr/>
          <a:p>
            <a:fld id="{C9F6C46D-1142-44ED-B8B4-CC83C60EA015}"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8"/>
          </p:nvPr>
        </p:nvSpPr>
        <p:spPr/>
        <p:txBody>
          <a:bodyPr/>
          <a:p>
            <a:fld id="{68E1C07D-1F68-4FFB-AD93-3AE257DAE35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5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8"/>
          </p:nvPr>
        </p:nvSpPr>
        <p:spPr/>
        <p:txBody>
          <a:bodyPr/>
          <a:p>
            <a:fld id="{DEFDAA0E-12FE-4B03-A240-743655F19B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E5758B6-4AB1-48C8-9954-60D773F86E2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5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8"/>
          </p:nvPr>
        </p:nvSpPr>
        <p:spPr/>
        <p:txBody>
          <a:bodyPr/>
          <a:p>
            <a:fld id="{B9760684-3FE9-4433-B9BF-3793A14BB0DA}"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EE6A0734-EEBE-4A27-B2F4-5A059052B3A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9"/>
          </p:nvPr>
        </p:nvSpPr>
        <p:spPr/>
        <p:txBody>
          <a:bodyPr/>
          <a:p>
            <a:fld id="{536F6BCC-46DF-4471-BB38-A8AAED3E83E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9"/>
          </p:nvPr>
        </p:nvSpPr>
        <p:spPr/>
        <p:txBody>
          <a:bodyPr/>
          <a:p>
            <a:fld id="{DC56AB59-FD4B-4BD1-9B44-F27290ED440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9"/>
          </p:nvPr>
        </p:nvSpPr>
        <p:spPr/>
        <p:txBody>
          <a:bodyPr/>
          <a:p>
            <a:fld id="{52F8A666-2572-43D3-B470-8EB06C665F9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9"/>
          </p:nvPr>
        </p:nvSpPr>
        <p:spPr/>
        <p:txBody>
          <a:bodyPr/>
          <a:p>
            <a:fld id="{7CE46931-663C-494B-AB13-A46FB6BC4C6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9"/>
          </p:nvPr>
        </p:nvSpPr>
        <p:spPr/>
        <p:txBody>
          <a:bodyPr/>
          <a:p>
            <a:fld id="{172D996F-654A-4829-80B0-605CEBCE8C2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9"/>
          </p:nvPr>
        </p:nvSpPr>
        <p:spPr/>
        <p:txBody>
          <a:bodyPr/>
          <a:p>
            <a:fld id="{7A6538F3-21A9-48E1-9412-3159015EFF5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9"/>
          </p:nvPr>
        </p:nvSpPr>
        <p:spPr/>
        <p:txBody>
          <a:bodyPr/>
          <a:p>
            <a:fld id="{E4C52C67-C60B-41A1-BF8A-FA67C31153D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9"/>
          </p:nvPr>
        </p:nvSpPr>
        <p:spPr/>
        <p:txBody>
          <a:bodyPr/>
          <a:p>
            <a:fld id="{6444FD1E-8165-472B-B580-2027C75A51A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9"/>
          </p:nvPr>
        </p:nvSpPr>
        <p:spPr/>
        <p:txBody>
          <a:bodyPr/>
          <a:p>
            <a:fld id="{5EFFA3D9-C152-46F9-A2D2-58A3DA9A3DF2}"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9"/>
          </p:nvPr>
        </p:nvSpPr>
        <p:spPr/>
        <p:txBody>
          <a:bodyPr/>
          <a:p>
            <a:fld id="{6C676931-1A22-40A1-ACFB-32110AD1DBA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9"/>
          </p:nvPr>
        </p:nvSpPr>
        <p:spPr/>
        <p:txBody>
          <a:bodyPr/>
          <a:p>
            <a:fld id="{B991D188-B5AD-4E40-B277-CADCC82F4BF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486A010-2A68-4AB0-B60C-66DB03AA4C50}"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0"/>
          </p:nvPr>
        </p:nvSpPr>
        <p:spPr/>
        <p:txBody>
          <a:bodyPr/>
          <a:p>
            <a:fld id="{74A4DE6F-0CA1-4CEF-B361-EDB67C673EFC}"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0"/>
          </p:nvPr>
        </p:nvSpPr>
        <p:spPr/>
        <p:txBody>
          <a:bodyPr/>
          <a:p>
            <a:fld id="{732A4113-511D-4AFE-BD95-CFAD757A0D8C}"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0"/>
          </p:nvPr>
        </p:nvSpPr>
        <p:spPr/>
        <p:txBody>
          <a:bodyPr/>
          <a:p>
            <a:fld id="{46B12AE9-2555-441D-A6F8-EC238739A02C}"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20"/>
          </p:nvPr>
        </p:nvSpPr>
        <p:spPr/>
        <p:txBody>
          <a:bodyPr/>
          <a:p>
            <a:fld id="{7D88C106-4633-496B-8FBA-43E606E5822B}"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0"/>
          </p:nvPr>
        </p:nvSpPr>
        <p:spPr/>
        <p:txBody>
          <a:bodyPr/>
          <a:p>
            <a:fld id="{DE951401-B376-426B-94C8-BCF15ACEA3FD}"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0"/>
          </p:nvPr>
        </p:nvSpPr>
        <p:spPr/>
        <p:txBody>
          <a:bodyPr/>
          <a:p>
            <a:fld id="{F9260F42-BBDE-4360-AA3C-58AA30A57AC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0"/>
          </p:nvPr>
        </p:nvSpPr>
        <p:spPr/>
        <p:txBody>
          <a:bodyPr/>
          <a:p>
            <a:fld id="{44B0AE59-97EC-48F2-AFA4-93CAC54BB6D3}"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0"/>
          </p:nvPr>
        </p:nvSpPr>
        <p:spPr/>
        <p:txBody>
          <a:bodyPr/>
          <a:p>
            <a:fld id="{6C3F0FBC-0FA0-4139-B3A9-1A945FC7FBFC}"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0"/>
          </p:nvPr>
        </p:nvSpPr>
        <p:spPr/>
        <p:txBody>
          <a:bodyPr/>
          <a:p>
            <a:fld id="{FA711D38-C084-4ED1-9F00-3CE086FC280D}"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0"/>
          </p:nvPr>
        </p:nvSpPr>
        <p:spPr/>
        <p:txBody>
          <a:bodyPr/>
          <a:p>
            <a:fld id="{186D5D83-9616-4998-A6B0-8FC451082C98}"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0"/>
          </p:nvPr>
        </p:nvSpPr>
        <p:spPr/>
        <p:txBody>
          <a:bodyPr/>
          <a:p>
            <a:fld id="{69A0CE1D-3847-4C3A-8472-7EE38B4C43FE}"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47A29FFD-101C-4D37-B2FA-4197C8820779}"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5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1"/>
          </p:nvPr>
        </p:nvSpPr>
        <p:spPr/>
        <p:txBody>
          <a:bodyPr/>
          <a:p>
            <a:fld id="{537D0D4F-F315-430C-B93C-A627EE71E30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5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1"/>
          </p:nvPr>
        </p:nvSpPr>
        <p:spPr/>
        <p:txBody>
          <a:bodyPr/>
          <a:p>
            <a:fld id="{3944B68C-CE43-402B-A1A4-D074A2F84157}"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1"/>
          </p:nvPr>
        </p:nvSpPr>
        <p:spPr/>
        <p:txBody>
          <a:bodyPr/>
          <a:p>
            <a:fld id="{2650D8DD-7836-4192-8356-15CAC127500A}"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21"/>
          </p:nvPr>
        </p:nvSpPr>
        <p:spPr/>
        <p:txBody>
          <a:bodyPr/>
          <a:p>
            <a:fld id="{09EDB5F6-4F85-4212-94FB-A9C5848786E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1"/>
          </p:nvPr>
        </p:nvSpPr>
        <p:spPr/>
        <p:txBody>
          <a:bodyPr/>
          <a:p>
            <a:fld id="{E29837C0-A82F-4260-907B-42149F599135}"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1"/>
          </p:nvPr>
        </p:nvSpPr>
        <p:spPr/>
        <p:txBody>
          <a:bodyPr/>
          <a:p>
            <a:fld id="{DB4C56D8-008C-49AE-8D1C-24755D1A8BC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1"/>
          </p:nvPr>
        </p:nvSpPr>
        <p:spPr/>
        <p:txBody>
          <a:bodyPr/>
          <a:p>
            <a:fld id="{92B9E97B-FE83-44C2-8637-88E8BD9F1094}"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1"/>
          </p:nvPr>
        </p:nvSpPr>
        <p:spPr/>
        <p:txBody>
          <a:bodyPr/>
          <a:p>
            <a:fld id="{63993690-6EE0-4DC5-B2C9-21D6CEE8BA1E}"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1"/>
          </p:nvPr>
        </p:nvSpPr>
        <p:spPr/>
        <p:txBody>
          <a:bodyPr/>
          <a:p>
            <a:fld id="{4FF8CCB3-3EA3-49BB-8515-578E68BA0E07}"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1"/>
          </p:nvPr>
        </p:nvSpPr>
        <p:spPr/>
        <p:txBody>
          <a:bodyPr/>
          <a:p>
            <a:fld id="{7934A42C-8D3C-407C-A498-05128349F56C}"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1"/>
          </p:nvPr>
        </p:nvSpPr>
        <p:spPr/>
        <p:txBody>
          <a:bodyPr/>
          <a:p>
            <a:fld id="{8F651F63-B0E8-4A84-B4FC-D3EBB33683BA}"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C839C6E0-5AE3-4599-8A1B-385C50BEEA69}"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86EB82D1-76F6-452C-9939-973882EFA50A}"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14D8FA8C-D8B1-4727-9179-A476745613C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6E05DC3D-26F2-49A1-8D15-4C8661E79494}"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22"/>
          </p:nvPr>
        </p:nvSpPr>
        <p:spPr/>
        <p:txBody>
          <a:bodyPr/>
          <a:p>
            <a:fld id="{0FA576CA-CC66-4B8D-8D71-E40603E29860}"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86A20D97-9235-47C1-B834-FCB0D48B5ABF}"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E70BCB09-B95B-4A70-9AC7-686D33D77902}"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29589148-D9D3-4813-9E88-54EBB60827A4}"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D4E05A07-68EA-4A61-B55D-3EC5C541A20C}"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3CDFB420-4216-4022-9532-104CE83BBD06}"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C1DCA654-6193-45CA-BE01-08A5AF3DB03B}"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7F725800-C367-4CB5-83F9-B9085B5891BA}"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07B6A4D0-60EB-4D12-A408-3DD6210BF19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8386652-C189-49AD-94C7-C3B4C9ADB33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8BA74C3-1BE3-482C-92C7-A97297EC1EF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4B44684-6A95-494F-B645-68C6CD1F6A6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0E1D216-39F6-49F5-8F42-AFDF49330B1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94EDA80-CD3A-4301-9C0C-D9B622D74D5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6371175-5B3C-4310-83FA-3BCBEF6CFDE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1B9FA14-0479-4271-9A27-A9B99B1EDF5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00ED67E-ED48-4864-A7C0-AB7B720AFC3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AE66902-6027-4765-B63A-601C1F5F8FE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8C4F647-A66E-4E2F-9C4B-6CBA170A194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
          </p:nvPr>
        </p:nvSpPr>
        <p:spPr/>
        <p:txBody>
          <a:bodyPr/>
          <a:p>
            <a:fld id="{75872C0C-BEF1-4D93-9643-DE8F1579853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9ED60D9-9A70-46B5-9CBD-142F209FDF0D}"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9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3507058-A7B9-4886-B4E3-1B75DB9868F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3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DE63E5B-F346-40F1-9595-3849AD69AD4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3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A599C49-4731-4BE6-970C-E0C3240C11B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8EC6859-8AC5-4E27-BE49-E945B9AEAB9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B07498F-FD4A-448E-B449-FF2494A1B13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BFB0CBF-684D-40A6-BE1F-32FAB32B19A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6467D9F-F3B8-44EC-9A8F-E02CDAAEABA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2D520BD-16F5-47DA-B7FA-B5BB373DAE5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CD3DE7E-F1A5-45CF-BD93-02ACE020EDC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7EBFC24-135B-4D78-93F1-7B0045BA68C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BA8F23D-55CD-4478-B72D-3A67FB12927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A24F133-0AAA-4DA5-BBA7-0C2EC19A989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0"/>
          </p:nvPr>
        </p:nvSpPr>
        <p:spPr/>
        <p:txBody>
          <a:bodyPr/>
          <a:p>
            <a:fld id="{1B0DD489-5444-4F31-A7EE-F3D3E5FA30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6B6D814A-9477-44CD-BA61-5852214843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DEA2A291-1C6D-468E-80D9-E889C6612B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C867395F-78B9-4449-9031-99A6915663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64AB99ED-FA37-4A49-B295-DE2F080A97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7F5522AE-738B-45AB-9450-EE12BFC994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58578F38-00F1-482F-A76C-1ECEC922FF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9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0564AAFB-4585-43B5-AD0A-966D51823A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1794A48D-A7A9-44E9-8988-8597F5D443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EF912714-A1D1-4557-ACB2-97C24EBA99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0"/>
          </p:nvPr>
        </p:nvSpPr>
        <p:spPr/>
        <p:txBody>
          <a:bodyPr/>
          <a:p>
            <a:fld id="{FAB3FE0B-DFBE-4C30-94CF-BD620C5AAF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1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0"/>
          </p:nvPr>
        </p:nvSpPr>
        <p:spPr/>
        <p:txBody>
          <a:bodyPr/>
          <a:p>
            <a:fld id="{F160264C-43E6-4B4A-B3A2-5EB521FEE0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20588FB-F4BE-407B-A079-2970A94805D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0A85380-AFD2-4AE8-B83F-7615F1F60C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B83D452-A79F-44EE-8F42-581B6DE1A1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FFDE530-38F3-4C01-AEF7-816607779D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233B503-A381-44B3-A566-CF3AEE936D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0D5852E-64C0-4601-839D-6CC17EEEA4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86FFB80-1234-4FFB-9892-E188905CB9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C7C67CA-FF7D-466E-9922-84C5CD54F2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312AF8F-D83E-4026-8A0D-670737B740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D1BC4D0-7072-46B5-ACC2-A1661C7A10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6E5AD217-F672-425C-88BA-78AA9E2EA7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2EF1DF62-0513-40A1-9540-391C39849C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9C713BA6-464A-47E7-8BDA-D52C3982EF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8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339141E-405F-4DAF-9183-5D589745A8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8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CA6F958-AB24-4D56-9BC1-E23609106C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38FED2D-1CAE-4D36-86D3-3BF59E7FBE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7659973-68B9-4A9D-9865-CC9AE4FF85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2BD9DC1-AA10-43AF-9BBC-93961BCBA4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0405224-D1F1-47EB-9210-5EF51E80E5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A354266-A779-42C6-9CBB-6FFAF92840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F460D45-46D8-4529-A417-FC36E6940B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27EC901-2CD8-4580-9443-B8CA9A789C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7EA18BDB-6A75-4AF7-9640-ECB88DB2A0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B79955C9-9BAD-4670-9CFD-AFA7AF64F7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527F07B9-BA06-44AB-B846-F97D689543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10B9F0B5-0766-4330-A58E-0A910211E9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0FC6386-983B-4802-93DB-E88121A5FA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6C11199-4AC4-4993-BDD7-ECBD78BE3D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A4F3462-9572-4D9D-A4CD-9E75DB7EFE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BF6C663C-1D9F-4FBF-AA92-E6FB009A64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709095E-2E82-4DA7-9261-5A2D79ECEA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925F889-E7B1-411E-A702-2E2D935CA1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E24141C-CC23-444A-9FF8-D338175FBD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68116F4-37B1-4CAB-A940-7BC19BCF60EE}"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6D37DFB-8C24-47F2-883F-2C6326653A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08D58B20-1623-4606-BCAF-BE7BBF92B7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6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A69720ED-A128-4623-90FC-70A37DD52B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2"/>
          </p:nvPr>
        </p:nvSpPr>
        <p:spPr/>
        <p:txBody>
          <a:bodyPr/>
          <a:p>
            <a:fld id="{725F7521-5B55-47EF-9EAF-3AE753B6FD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2"/>
          </p:nvPr>
        </p:nvSpPr>
        <p:spPr/>
        <p:txBody>
          <a:bodyPr/>
          <a:p>
            <a:fld id="{8AC0B292-BEA7-44DE-BF6A-BBA9D461FB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2"/>
          </p:nvPr>
        </p:nvSpPr>
        <p:spPr/>
        <p:txBody>
          <a:bodyPr/>
          <a:p>
            <a:fld id="{CCC5A11B-F439-4D7C-885B-DD2CF16F94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2"/>
          </p:nvPr>
        </p:nvSpPr>
        <p:spPr/>
        <p:txBody>
          <a:bodyPr/>
          <a:p>
            <a:fld id="{B12D76D8-4F48-4EDF-A8FE-A02B512C9A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2"/>
          </p:nvPr>
        </p:nvSpPr>
        <p:spPr/>
        <p:txBody>
          <a:bodyPr/>
          <a:p>
            <a:fld id="{3B5A3DC0-E803-46FE-90C4-5F2A9A809A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2"/>
          </p:nvPr>
        </p:nvSpPr>
        <p:spPr/>
        <p:txBody>
          <a:bodyPr/>
          <a:p>
            <a:fld id="{D4DD1F80-3190-4202-AD4C-B241A713B8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49E58F87-AA24-4CC4-96D5-C7A2838875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5"/>
          </p:nvPr>
        </p:nvSpPr>
        <p:spPr/>
        <p:txBody>
          <a:bodyPr/>
          <a:p>
            <a:fld id="{99A6786A-FF8F-487A-883B-DF40733DCA67}"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B1C77862-0145-46AE-A65F-A34FCC3AED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4B08589D-502A-4426-94E3-20D49F0DDD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2"/>
          </p:nvPr>
        </p:nvSpPr>
        <p:spPr/>
        <p:txBody>
          <a:bodyPr/>
          <a:p>
            <a:fld id="{07E69799-FFF0-4F35-A5A4-4977F36CB8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2"/>
          </p:nvPr>
        </p:nvSpPr>
        <p:spPr/>
        <p:txBody>
          <a:bodyPr/>
          <a:p>
            <a:fld id="{16C1AA6A-8EF1-4207-B971-C48F5BA4B5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1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2"/>
          </p:nvPr>
        </p:nvSpPr>
        <p:spPr/>
        <p:txBody>
          <a:bodyPr/>
          <a:p>
            <a:fld id="{32939582-4149-4C3B-ADD8-035CF68B67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61F0384E-3090-4812-9A7A-7F51D2BE92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2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B5A222C6-A361-4A71-A867-F6C4D9FF84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37CBAEC3-13DC-4DB2-856E-3C863094E7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0871515-C006-4AB7-A05F-24B8047FF4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3C6B21AA-BB78-40D7-A818-738A8B3A79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5"/>
          </p:nvPr>
        </p:nvSpPr>
        <p:spPr/>
        <p:txBody>
          <a:bodyPr/>
          <a:p>
            <a:fld id="{4A4B34DD-6F5E-4A4A-8584-BB70E45EFE62}"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AB5B265E-6D90-40AC-9F25-5413CF5368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CF084BA-5C94-452C-96F4-27FEF1B92E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4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D831413-FDB2-4D23-88CF-BFCCC37415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320E83B-0619-4410-B3D0-CC4943C299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4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A4B84ADB-EA64-4A61-9A47-D90493D2C4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C721616D-0F26-4653-90BE-70C44C92A6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0207A2BE-5CED-4FB2-9A24-71C3E8FDAF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48"/>
          </p:nvPr>
        </p:nvSpPr>
        <p:spPr/>
        <p:txBody>
          <a:bodyPr/>
          <a:p>
            <a:fld id="{F570831E-44D4-4E6C-901C-95559AC1CA8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0D831D04-6B13-4BB6-980F-8FBFBFF5E3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FC189C04-7A77-4DA1-BEE3-A07724F188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
          </p:nvPr>
        </p:nvSpPr>
        <p:spPr/>
        <p:txBody>
          <a:bodyPr/>
          <a:p>
            <a:fld id="{F5F9ADC5-823B-4530-AC5D-12714884D27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5"/>
          </p:nvPr>
        </p:nvSpPr>
        <p:spPr/>
        <p:txBody>
          <a:bodyPr/>
          <a:p>
            <a:fld id="{52169036-B8DC-476E-8AB7-596F28A92CD5}"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8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DAB7CEAB-2AF6-4F37-BCA4-493377C6B7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3349B11A-562D-4D5F-836D-C753F07AD2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10151C24-2033-428F-8D13-3CC5567B49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B4BE5BFF-AB82-4F92-8E97-38011C061E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135D7496-75A8-409C-AC67-BE78A135D7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92B17BA0-3BB3-4610-B7A9-FF3CAB6322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9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E28CE83E-74D3-4D69-BED9-1701294926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48"/>
          </p:nvPr>
        </p:nvSpPr>
        <p:spPr/>
        <p:txBody>
          <a:bodyPr/>
          <a:p>
            <a:fld id="{B703AA70-9F11-4E39-95E6-95C8531DF2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0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48"/>
          </p:nvPr>
        </p:nvSpPr>
        <p:spPr/>
        <p:txBody>
          <a:bodyPr/>
          <a:p>
            <a:fld id="{50A69DD1-4759-43B1-ADC3-3B2FB44EA2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1"/>
          </p:nvPr>
        </p:nvSpPr>
        <p:spPr/>
        <p:txBody>
          <a:bodyPr/>
          <a:p>
            <a:fld id="{6438156D-D31A-4DCA-9D39-4AA04525E06A}"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5"/>
          </p:nvPr>
        </p:nvSpPr>
        <p:spPr/>
        <p:txBody>
          <a:bodyPr/>
          <a:p>
            <a:fld id="{A910E3D0-1066-46A9-9939-CA0427008555}"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2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F1DD9BEE-6D5F-43CF-9C0C-72A559A85F59}"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2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27DE615C-8C05-4C95-AE9E-84C35CCEDC23}"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2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B5870E7F-E9BC-4200-ABCD-16F7F244842F}"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48044DFE-34B7-4342-B776-3AC9CBEA2FBE}"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225122CA-8325-4A07-BB90-3251CCA8D29C}"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EC2BF858-8927-4CFA-9DC4-F10A726CEB7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3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7423E86F-408C-4628-942D-0E0AB877C64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4CEC7049-D657-4BEF-9008-784850074412}"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BD6FE3FD-9629-4353-BA24-56ABC93A256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1"/>
          </p:nvPr>
        </p:nvSpPr>
        <p:spPr/>
        <p:txBody>
          <a:bodyPr/>
          <a:p>
            <a:fld id="{4A31E47C-9DC3-4F7C-8072-F553E6E35256}"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5"/>
          </p:nvPr>
        </p:nvSpPr>
        <p:spPr/>
        <p:txBody>
          <a:bodyPr/>
          <a:p>
            <a:fld id="{B830319F-FCA7-4E7C-91D1-DB02C172E93A}"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5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1"/>
          </p:nvPr>
        </p:nvSpPr>
        <p:spPr/>
        <p:txBody>
          <a:bodyPr/>
          <a:p>
            <a:fld id="{6837209A-33C0-4EDD-B400-A19C2A0F5712}"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3155C2E6-E7F6-4E2B-886C-9CEAF56EE413}"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0AF14543-FF70-41F9-A524-53167E4EF320}"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03DC2EA7-F553-4EC6-98BF-9D8374111873}"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7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7E2B56C7-CD9A-44D4-8A0F-3D707CD3457E}"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EBF269CA-9486-4678-8D22-BE04EC6B1911}"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319D4552-8858-4097-AEB2-16C7EE415475}"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9CF5A5A5-4FD6-4C97-A357-B983726EDC75}"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AEC451A1-F080-4ADA-8A14-7764612C20B4}"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006FC636-64C6-4739-A4AD-0B0ACF3DE88B}"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5"/>
          </p:nvPr>
        </p:nvSpPr>
        <p:spPr/>
        <p:txBody>
          <a:bodyPr/>
          <a:p>
            <a:fld id="{97135358-49F0-4AA9-A6F5-47850EFC8519}"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9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71D9B396-2F51-4276-A2A9-A4E4A18D93C2}"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62A5AE01-956C-49AC-BC26-B95156EBF1DA}"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0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542B1820-0320-4995-8425-0CD14B34DA15}"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0DAC1A58-26AA-4283-BFA4-558995DC58ED}"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1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A48340DF-2C1A-4571-AC6C-F29C6B2502C4}"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2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BE8B5F41-8D4E-4547-883E-2D16FB405B83}"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8DA8C0EC-569D-4946-A2A6-6A6A48804230}"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CB1A85E1-A130-4CAC-9D06-3199B4E30EDE}"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EE785F83-6FB2-4D71-80D3-7E27D1BDC506}"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BD17A0E2-E8BC-45DE-BCA2-A7979C4DA3B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5"/>
          </p:nvPr>
        </p:nvSpPr>
        <p:spPr/>
        <p:txBody>
          <a:bodyPr/>
          <a:p>
            <a:fld id="{9A1BB821-5EC7-4F5D-8883-9EDE2A2E1F00}"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10390E99-27B0-4506-9B44-041E5D7F1638}"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A1A476F-C14C-460C-95ED-840331E9A47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4417DFB1-2027-42E3-82A5-8E7CE3F930AF}"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F679DD3F-FE49-4D6C-89B8-E5BA993542A8}"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4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2B3E5556-3D28-451A-ADE6-054DF329BB52}"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5"/>
          </p:nvPr>
        </p:nvSpPr>
        <p:spPr/>
        <p:txBody>
          <a:bodyPr/>
          <a:p>
            <a:fld id="{DC9B13E0-41CC-4889-BE4A-C7ACA5C60BD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5"/>
          </p:nvPr>
        </p:nvSpPr>
        <p:spPr/>
        <p:txBody>
          <a:bodyPr/>
          <a:p>
            <a:fld id="{158A2DEB-94AE-4DA0-9ABC-B6A91B91F7F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5"/>
          </p:nvPr>
        </p:nvSpPr>
        <p:spPr/>
        <p:txBody>
          <a:bodyPr/>
          <a:p>
            <a:fld id="{2BFFC65C-2913-483E-A591-3CD4A466181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5"/>
          </p:nvPr>
        </p:nvSpPr>
        <p:spPr/>
        <p:txBody>
          <a:bodyPr/>
          <a:p>
            <a:fld id="{1132E862-DA00-4EF4-BAB4-FE20E1B9535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
          </p:nvPr>
        </p:nvSpPr>
        <p:spPr/>
        <p:txBody>
          <a:bodyPr/>
          <a:p>
            <a:fld id="{90C23EB4-15E1-4B0D-BB55-FFF2F4B56C6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
          </p:nvPr>
        </p:nvSpPr>
        <p:spPr/>
        <p:txBody>
          <a:bodyPr/>
          <a:p>
            <a:fld id="{0B1FAE5E-CE41-4C87-9CD4-4CB9E9CFED9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8B00C68-A423-498D-B834-4C538E5AD4B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6"/>
          </p:nvPr>
        </p:nvSpPr>
        <p:spPr/>
        <p:txBody>
          <a:bodyPr/>
          <a:p>
            <a:fld id="{D6C7DDD6-4EFF-48DB-8337-B415D3A5552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6"/>
          </p:nvPr>
        </p:nvSpPr>
        <p:spPr/>
        <p:txBody>
          <a:bodyPr/>
          <a:p>
            <a:fld id="{0A747EF4-F494-4A0D-9A77-A3534B16909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6"/>
          </p:nvPr>
        </p:nvSpPr>
        <p:spPr/>
        <p:txBody>
          <a:bodyPr/>
          <a:p>
            <a:fld id="{EB1ED6EB-B7F6-4822-A26A-E322FB0CE21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6"/>
          </p:nvPr>
        </p:nvSpPr>
        <p:spPr/>
        <p:txBody>
          <a:bodyPr/>
          <a:p>
            <a:fld id="{76CC68C0-9E97-41EE-A5E2-BBC5A0A8102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6"/>
          </p:nvPr>
        </p:nvSpPr>
        <p:spPr/>
        <p:txBody>
          <a:bodyPr/>
          <a:p>
            <a:fld id="{6D9A89BE-0BA2-482C-A65E-F13E9787DCD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408F6C0A-EE66-484B-878F-CF7143567EA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7C0CA329-8F85-46C0-9A0C-538042B7155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5E0A1790-2C0C-4528-84BD-3EA2E748A8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
          </p:nvPr>
        </p:nvSpPr>
        <p:spPr/>
        <p:txBody>
          <a:bodyPr/>
          <a:p>
            <a:fld id="{AB97CD7E-50A1-46B9-8412-8BCF46C6EF0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6"/>
          </p:nvPr>
        </p:nvSpPr>
        <p:spPr/>
        <p:txBody>
          <a:bodyPr/>
          <a:p>
            <a:fld id="{CE56C65E-54B8-4AD0-BADD-FC1950CB7D9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6"/>
          </p:nvPr>
        </p:nvSpPr>
        <p:spPr/>
        <p:txBody>
          <a:bodyPr/>
          <a:p>
            <a:fld id="{0596C440-526B-4BC2-A0EF-29F1A464666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6"/>
          </p:nvPr>
        </p:nvSpPr>
        <p:spPr/>
        <p:txBody>
          <a:bodyPr/>
          <a:p>
            <a:fld id="{DCFC2FE8-24C3-4D0A-BED5-38118CAD1DC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58A98DF-99FA-47B6-B7A7-233456D6575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7"/>
          </p:nvPr>
        </p:nvSpPr>
        <p:spPr/>
        <p:txBody>
          <a:bodyPr/>
          <a:p>
            <a:fld id="{9EF1C512-B440-4B07-99BC-6248F0D48DA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7"/>
          </p:nvPr>
        </p:nvSpPr>
        <p:spPr/>
        <p:txBody>
          <a:bodyPr/>
          <a:p>
            <a:fld id="{78A18987-AA6A-4FAF-BC82-66B6BD8F63B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7"/>
          </p:nvPr>
        </p:nvSpPr>
        <p:spPr/>
        <p:txBody>
          <a:bodyPr/>
          <a:p>
            <a:fld id="{F3AC3598-AE8B-4B78-A24F-309E0E4529F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7"/>
          </p:nvPr>
        </p:nvSpPr>
        <p:spPr/>
        <p:txBody>
          <a:bodyPr/>
          <a:p>
            <a:fld id="{D1983891-070C-49E9-9E26-361A344F357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7"/>
          </p:nvPr>
        </p:nvSpPr>
        <p:spPr/>
        <p:txBody>
          <a:bodyPr/>
          <a:p>
            <a:fld id="{8C3BF9F7-70EA-44E6-951E-70563F8A32E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7"/>
          </p:nvPr>
        </p:nvSpPr>
        <p:spPr/>
        <p:txBody>
          <a:bodyPr/>
          <a:p>
            <a:fld id="{0A04B5F1-C7AC-4C49-A9AA-48E9C7E29E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
          </p:nvPr>
        </p:nvSpPr>
        <p:spPr/>
        <p:txBody>
          <a:bodyPr/>
          <a:p>
            <a:fld id="{8E523654-01D3-4232-8D2A-05C715D7D54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7"/>
          </p:nvPr>
        </p:nvSpPr>
        <p:spPr/>
        <p:txBody>
          <a:bodyPr/>
          <a:p>
            <a:fld id="{E9DF4A63-2315-4B5D-995B-BB947316707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7"/>
          </p:nvPr>
        </p:nvSpPr>
        <p:spPr/>
        <p:txBody>
          <a:bodyPr/>
          <a:p>
            <a:fld id="{53B49354-E90E-482F-9944-DCD93D18385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7"/>
          </p:nvPr>
        </p:nvSpPr>
        <p:spPr/>
        <p:txBody>
          <a:bodyPr/>
          <a:p>
            <a:fld id="{F4A255CB-D0EC-4489-BA43-47D638C382E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7"/>
          </p:nvPr>
        </p:nvSpPr>
        <p:spPr/>
        <p:txBody>
          <a:bodyPr/>
          <a:p>
            <a:fld id="{AAE5C532-5B41-4791-8760-063856BFDCE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7"/>
          </p:nvPr>
        </p:nvSpPr>
        <p:spPr/>
        <p:txBody>
          <a:bodyPr/>
          <a:p>
            <a:fld id="{ABC5589D-45D3-4720-AFCC-F49EE5800AB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1EAC770-8C92-47A9-A3DC-35C3351489F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8"/>
          </p:nvPr>
        </p:nvSpPr>
        <p:spPr/>
        <p:txBody>
          <a:bodyPr/>
          <a:p>
            <a:fld id="{545413C9-DC82-4645-A9AB-39A98F34A75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8"/>
          </p:nvPr>
        </p:nvSpPr>
        <p:spPr/>
        <p:txBody>
          <a:bodyPr/>
          <a:p>
            <a:fld id="{630B93A8-7B4E-4EBD-8092-4809AB5E6F4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8"/>
          </p:nvPr>
        </p:nvSpPr>
        <p:spPr/>
        <p:txBody>
          <a:bodyPr/>
          <a:p>
            <a:fld id="{2ED49EC9-6D65-453B-8AF1-15FC065CD09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8"/>
          </p:nvPr>
        </p:nvSpPr>
        <p:spPr/>
        <p:txBody>
          <a:bodyPr/>
          <a:p>
            <a:fld id="{431DD671-950F-48DD-9B26-3626078152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
          </p:nvPr>
        </p:nvSpPr>
        <p:spPr/>
        <p:txBody>
          <a:bodyPr/>
          <a:p>
            <a:fld id="{08BC1E6A-9570-4EFF-B334-48102EB66DE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8"/>
          </p:nvPr>
        </p:nvSpPr>
        <p:spPr/>
        <p:txBody>
          <a:bodyPr/>
          <a:p>
            <a:fld id="{E2E0E1DC-0034-4A03-9DFE-3F44056B3AA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DC58E1D3-8A20-400A-8E63-61919B1B5CC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54FE6AD8-89B8-48CD-AB9A-B77CAF3B22C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8616D39C-8042-442D-B464-9DC0D07E306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8"/>
          </p:nvPr>
        </p:nvSpPr>
        <p:spPr/>
        <p:txBody>
          <a:bodyPr/>
          <a:p>
            <a:fld id="{58E06E8C-3465-4B33-9D50-52021AA77D2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8"/>
          </p:nvPr>
        </p:nvSpPr>
        <p:spPr/>
        <p:txBody>
          <a:bodyPr/>
          <a:p>
            <a:fld id="{9B4B380C-AA1B-41D3-9B15-824AB248E36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8"/>
          </p:nvPr>
        </p:nvSpPr>
        <p:spPr/>
        <p:txBody>
          <a:bodyPr/>
          <a:p>
            <a:fld id="{8905EFA2-8FBA-4D53-96DD-27A710315E1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A6E5D50-D459-4098-9B22-5166C240114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9"/>
          </p:nvPr>
        </p:nvSpPr>
        <p:spPr/>
        <p:txBody>
          <a:bodyPr/>
          <a:p>
            <a:fld id="{7EC7EF53-A39A-449E-9B13-0E1AC71BC09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9"/>
          </p:nvPr>
        </p:nvSpPr>
        <p:spPr/>
        <p:txBody>
          <a:bodyPr/>
          <a:p>
            <a:fld id="{9707A25D-B872-4BEC-B8B6-1180BD051C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30D9-6B0F-44E8-BE18-891D320E799C}"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7" name="Group 4"/>
          <p:cNvGrpSpPr/>
          <p:nvPr/>
        </p:nvGrpSpPr>
        <p:grpSpPr>
          <a:xfrm>
            <a:off x="771480" y="6550200"/>
            <a:ext cx="8372520" cy="320400"/>
            <a:chOff x="771480" y="6550200"/>
            <a:chExt cx="8372520" cy="320400"/>
          </a:xfrm>
        </p:grpSpPr>
        <p:sp>
          <p:nvSpPr>
            <p:cNvPr id="38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3"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2DB4-1F94-4EEB-BBCA-95E191B9457B}"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0" name="Group 4"/>
          <p:cNvGrpSpPr/>
          <p:nvPr/>
        </p:nvGrpSpPr>
        <p:grpSpPr>
          <a:xfrm>
            <a:off x="771480" y="6550200"/>
            <a:ext cx="8372520" cy="320400"/>
            <a:chOff x="771480" y="6550200"/>
            <a:chExt cx="8372520" cy="320400"/>
          </a:xfrm>
        </p:grpSpPr>
        <p:sp>
          <p:nvSpPr>
            <p:cNvPr id="43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6"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466F-138A-48C2-9267-674389F30F6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3" name="Group 4"/>
          <p:cNvGrpSpPr/>
          <p:nvPr/>
        </p:nvGrpSpPr>
        <p:grpSpPr>
          <a:xfrm>
            <a:off x="771480" y="6550200"/>
            <a:ext cx="8372520" cy="320400"/>
            <a:chOff x="771480" y="6550200"/>
            <a:chExt cx="8372520" cy="320400"/>
          </a:xfrm>
        </p:grpSpPr>
        <p:sp>
          <p:nvSpPr>
            <p:cNvPr id="47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80"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910C-DF4D-49E6-88D2-20806E0E0F00}"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7" name="Group 4"/>
          <p:cNvGrpSpPr/>
          <p:nvPr/>
        </p:nvGrpSpPr>
        <p:grpSpPr>
          <a:xfrm>
            <a:off x="771480" y="6550200"/>
            <a:ext cx="8372520" cy="320400"/>
            <a:chOff x="771480" y="6550200"/>
            <a:chExt cx="8372520" cy="320400"/>
          </a:xfrm>
        </p:grpSpPr>
        <p:sp>
          <p:nvSpPr>
            <p:cNvPr id="51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23"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BC61-9F6B-4D94-AEBE-155338631055}"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9" name="Group 4"/>
          <p:cNvGrpSpPr/>
          <p:nvPr/>
        </p:nvGrpSpPr>
        <p:grpSpPr>
          <a:xfrm>
            <a:off x="771480" y="6550200"/>
            <a:ext cx="8372520" cy="320400"/>
            <a:chOff x="771480" y="6550200"/>
            <a:chExt cx="8372520" cy="320400"/>
          </a:xfrm>
        </p:grpSpPr>
        <p:sp>
          <p:nvSpPr>
            <p:cNvPr id="600"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06"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B768D-18AC-4C67-94DC-F957A6CE3B6E}"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BCF49-1C04-4D04-A1F3-C4E2FBC331FA}"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644" name="Group 6"/>
          <p:cNvGrpSpPr/>
          <p:nvPr/>
        </p:nvGrpSpPr>
        <p:grpSpPr>
          <a:xfrm>
            <a:off x="771480" y="6550200"/>
            <a:ext cx="8372520" cy="320400"/>
            <a:chOff x="771480" y="6550200"/>
            <a:chExt cx="8372520" cy="320400"/>
          </a:xfrm>
        </p:grpSpPr>
        <p:sp>
          <p:nvSpPr>
            <p:cNvPr id="64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6" name="Group 4"/>
          <p:cNvGrpSpPr/>
          <p:nvPr/>
        </p:nvGrpSpPr>
        <p:grpSpPr>
          <a:xfrm>
            <a:off x="771480" y="6541560"/>
            <a:ext cx="8372520" cy="321120"/>
            <a:chOff x="771480" y="6541560"/>
            <a:chExt cx="8372520" cy="321120"/>
          </a:xfrm>
        </p:grpSpPr>
        <p:sp>
          <p:nvSpPr>
            <p:cNvPr id="68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3"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FD9FE-204F-4347-B14A-813BBAB72985}"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0" name="Group 4"/>
          <p:cNvGrpSpPr/>
          <p:nvPr/>
        </p:nvGrpSpPr>
        <p:grpSpPr>
          <a:xfrm>
            <a:off x="771480" y="6541560"/>
            <a:ext cx="8372520" cy="321120"/>
            <a:chOff x="771480" y="6541560"/>
            <a:chExt cx="8372520" cy="321120"/>
          </a:xfrm>
        </p:grpSpPr>
        <p:sp>
          <p:nvSpPr>
            <p:cNvPr id="73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7"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EEF0-13D7-4CB8-B089-28DD5E0FB3EE}"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4" name="Group 4"/>
          <p:cNvGrpSpPr/>
          <p:nvPr/>
        </p:nvGrpSpPr>
        <p:grpSpPr>
          <a:xfrm>
            <a:off x="771480" y="6550200"/>
            <a:ext cx="8372520" cy="320400"/>
            <a:chOff x="771480" y="6550200"/>
            <a:chExt cx="8372520" cy="320400"/>
          </a:xfrm>
        </p:grpSpPr>
        <p:sp>
          <p:nvSpPr>
            <p:cNvPr id="77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8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EBE9-6C8A-42C0-99D4-AC01E8765247}"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2" name="PlaceHolder 3"/>
          <p:cNvSpPr>
            <a:spLocks noGrp="1"/>
          </p:cNvSpPr>
          <p:nvPr>
            <p:ph type="dt" idx="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6A586-F1AE-434C-95E2-87765F3CD8D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8" name="Group 4"/>
          <p:cNvGrpSpPr/>
          <p:nvPr/>
        </p:nvGrpSpPr>
        <p:grpSpPr>
          <a:xfrm>
            <a:off x="771480" y="6550200"/>
            <a:ext cx="8372520" cy="320400"/>
            <a:chOff x="771480" y="6550200"/>
            <a:chExt cx="8372520" cy="320400"/>
          </a:xfrm>
        </p:grpSpPr>
        <p:sp>
          <p:nvSpPr>
            <p:cNvPr id="81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919AE-BEAD-490C-B2D7-6299F0D61563}"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1" name="Group 4"/>
          <p:cNvGrpSpPr/>
          <p:nvPr/>
        </p:nvGrpSpPr>
        <p:grpSpPr>
          <a:xfrm>
            <a:off x="771480" y="6550200"/>
            <a:ext cx="8372520" cy="320400"/>
            <a:chOff x="771480" y="6550200"/>
            <a:chExt cx="8372520" cy="320400"/>
          </a:xfrm>
        </p:grpSpPr>
        <p:sp>
          <p:nvSpPr>
            <p:cNvPr id="86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7"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C0529-4B6D-4F68-9714-43B41DE92E07}"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4" name="Group 4"/>
          <p:cNvGrpSpPr/>
          <p:nvPr/>
        </p:nvGrpSpPr>
        <p:grpSpPr>
          <a:xfrm>
            <a:off x="771480" y="6550200"/>
            <a:ext cx="8372520" cy="320400"/>
            <a:chOff x="771480" y="6550200"/>
            <a:chExt cx="8372520" cy="320400"/>
          </a:xfrm>
        </p:grpSpPr>
        <p:sp>
          <p:nvSpPr>
            <p:cNvPr id="90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10"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2330-C122-476C-B295-741ED442CC53}"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7" name="Group 4"/>
          <p:cNvGrpSpPr/>
          <p:nvPr/>
        </p:nvGrpSpPr>
        <p:grpSpPr>
          <a:xfrm>
            <a:off x="771480" y="6550200"/>
            <a:ext cx="8372520" cy="320400"/>
            <a:chOff x="771480" y="6550200"/>
            <a:chExt cx="8372520" cy="320400"/>
          </a:xfrm>
        </p:grpSpPr>
        <p:sp>
          <p:nvSpPr>
            <p:cNvPr id="94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4"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104B-3468-424E-99C3-68833CBEED0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1" name="Group 4"/>
          <p:cNvGrpSpPr/>
          <p:nvPr/>
        </p:nvGrpSpPr>
        <p:grpSpPr>
          <a:xfrm>
            <a:off x="771480" y="6550200"/>
            <a:ext cx="8372520" cy="320400"/>
            <a:chOff x="771480" y="6550200"/>
            <a:chExt cx="8372520" cy="320400"/>
          </a:xfrm>
        </p:grpSpPr>
        <p:sp>
          <p:nvSpPr>
            <p:cNvPr id="99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7"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D413-7902-4A53-AD5C-73B4B152B5E1}"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36" name="PlaceHolder 3"/>
          <p:cNvSpPr>
            <a:spLocks noGrp="1"/>
          </p:cNvSpPr>
          <p:nvPr>
            <p:ph type="dt" idx="23"/>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PlaceHolder 4"/>
          <p:cNvSpPr>
            <a:spLocks noGrp="1"/>
          </p:cNvSpPr>
          <p:nvPr>
            <p:ph type="ftr" idx="24"/>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PlaceHolder 5"/>
          <p:cNvSpPr>
            <a:spLocks noGrp="1"/>
          </p:cNvSpPr>
          <p:nvPr>
            <p:ph type="sldNum" idx="25"/>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3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32" name="PlaceHolder 3"/>
          <p:cNvSpPr>
            <a:spLocks noGrp="1"/>
          </p:cNvSpPr>
          <p:nvPr>
            <p:ph type="dt" idx="26"/>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PlaceHolder 4"/>
          <p:cNvSpPr>
            <a:spLocks noGrp="1"/>
          </p:cNvSpPr>
          <p:nvPr>
            <p:ph type="ftr" idx="27"/>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PlaceHolder 5"/>
          <p:cNvSpPr>
            <a:spLocks noGrp="1"/>
          </p:cNvSpPr>
          <p:nvPr>
            <p:ph type="sldNum" idx="28"/>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53333-959F-4E43-9E19-581BCC90CD4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7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79" name="PlaceHolder 3"/>
          <p:cNvSpPr>
            <a:spLocks noGrp="1"/>
          </p:cNvSpPr>
          <p:nvPr>
            <p:ph type="dt" idx="2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PlaceHolder 4"/>
          <p:cNvSpPr>
            <a:spLocks noGrp="1"/>
          </p:cNvSpPr>
          <p:nvPr>
            <p:ph type="sldNum" idx="3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B41B-8B66-461C-BA45-7A84B384EE8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81" name="PlaceHolder 5"/>
          <p:cNvSpPr>
            <a:spLocks noGrp="1"/>
          </p:cNvSpPr>
          <p:nvPr>
            <p:ph type="ftr" idx="3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218"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23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236" name="PlaceHolder 3"/>
          <p:cNvSpPr>
            <a:spLocks noGrp="1"/>
          </p:cNvSpPr>
          <p:nvPr>
            <p:ph type="dt" idx="32"/>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PlaceHolder 4"/>
          <p:cNvSpPr>
            <a:spLocks noGrp="1"/>
          </p:cNvSpPr>
          <p:nvPr>
            <p:ph type="ftr" idx="33"/>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PlaceHolder 5"/>
          <p:cNvSpPr>
            <a:spLocks noGrp="1"/>
          </p:cNvSpPr>
          <p:nvPr>
            <p:ph type="sldNum" idx="34"/>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4CDA-430E-4EDB-8E3C-DADAC2DF265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28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283" name="PlaceHolder 3"/>
          <p:cNvSpPr>
            <a:spLocks noGrp="1"/>
          </p:cNvSpPr>
          <p:nvPr>
            <p:ph type="dt" idx="35"/>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PlaceHolder 4"/>
          <p:cNvSpPr>
            <a:spLocks noGrp="1"/>
          </p:cNvSpPr>
          <p:nvPr>
            <p:ph type="ftr" idx="3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PlaceHolder 5"/>
          <p:cNvSpPr>
            <a:spLocks noGrp="1"/>
          </p:cNvSpPr>
          <p:nvPr>
            <p:ph type="sldNum" idx="3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8D44-370B-4104-9550-90655B95133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32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330" name="PlaceHolder 3"/>
          <p:cNvSpPr>
            <a:spLocks noGrp="1"/>
          </p:cNvSpPr>
          <p:nvPr>
            <p:ph type="dt" idx="38"/>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PlaceHolder 4"/>
          <p:cNvSpPr>
            <a:spLocks noGrp="1"/>
          </p:cNvSpPr>
          <p:nvPr>
            <p:ph type="ftr" idx="3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PlaceHolder 5"/>
          <p:cNvSpPr>
            <a:spLocks noGrp="1"/>
          </p:cNvSpPr>
          <p:nvPr>
            <p:ph type="sldNum" idx="4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4009-3EF5-4DFD-A1E2-D6615D50076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37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377" name="PlaceHolder 3"/>
          <p:cNvSpPr>
            <a:spLocks noGrp="1"/>
          </p:cNvSpPr>
          <p:nvPr>
            <p:ph type="dt" idx="4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4"/>
          <p:cNvSpPr>
            <a:spLocks noGrp="1"/>
          </p:cNvSpPr>
          <p:nvPr>
            <p:ph type="sldNum" idx="4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75C68-2A3C-45D3-B26F-B0D31BA1278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79" name="PlaceHolder 5"/>
          <p:cNvSpPr>
            <a:spLocks noGrp="1"/>
          </p:cNvSpPr>
          <p:nvPr>
            <p:ph type="ftr" idx="4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42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424" name="PlaceHolder 3"/>
          <p:cNvSpPr>
            <a:spLocks noGrp="1"/>
          </p:cNvSpPr>
          <p:nvPr>
            <p:ph type="dt" idx="44"/>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PlaceHolder 4"/>
          <p:cNvSpPr>
            <a:spLocks noGrp="1"/>
          </p:cNvSpPr>
          <p:nvPr>
            <p:ph type="ftr" idx="4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PlaceHolder 5"/>
          <p:cNvSpPr>
            <a:spLocks noGrp="1"/>
          </p:cNvSpPr>
          <p:nvPr>
            <p:ph type="sldNum" idx="4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FB6F-1EB2-4129-B458-6477ADEB966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47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472" name="PlaceHolder 3"/>
          <p:cNvSpPr>
            <a:spLocks noGrp="1"/>
          </p:cNvSpPr>
          <p:nvPr>
            <p:ph type="dt" idx="4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sldNum" idx="4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2F0BC-1411-4BA4-BDF8-20C1C05F827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474" name="PlaceHolder 5"/>
          <p:cNvSpPr>
            <a:spLocks noGrp="1"/>
          </p:cNvSpPr>
          <p:nvPr>
            <p:ph type="ftr" idx="4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51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520" name="PlaceHolder 3"/>
          <p:cNvSpPr>
            <a:spLocks noGrp="1"/>
          </p:cNvSpPr>
          <p:nvPr>
            <p:ph type="dt" idx="50"/>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PlaceHolder 4"/>
          <p:cNvSpPr>
            <a:spLocks noGrp="1"/>
          </p:cNvSpPr>
          <p:nvPr>
            <p:ph type="sldNum" idx="5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1A37-8453-47C4-B074-E58370FFE58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522" name="PlaceHolder 5"/>
          <p:cNvSpPr>
            <a:spLocks noGrp="1"/>
          </p:cNvSpPr>
          <p:nvPr>
            <p:ph type="ftr" idx="5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56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567" name="PlaceHolder 3"/>
          <p:cNvSpPr>
            <a:spLocks noGrp="1"/>
          </p:cNvSpPr>
          <p:nvPr>
            <p:ph type="dt" idx="5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4"/>
          <p:cNvSpPr>
            <a:spLocks noGrp="1"/>
          </p:cNvSpPr>
          <p:nvPr>
            <p:ph type="ftr" idx="5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PlaceHolder 5"/>
          <p:cNvSpPr>
            <a:spLocks noGrp="1"/>
          </p:cNvSpPr>
          <p:nvPr>
            <p:ph type="sldNum" idx="5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5C55B-F727-48F4-9C3B-4374DE79061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61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614" name="PlaceHolder 3"/>
          <p:cNvSpPr>
            <a:spLocks noGrp="1"/>
          </p:cNvSpPr>
          <p:nvPr>
            <p:ph type="dt" idx="5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PlaceHolder 4"/>
          <p:cNvSpPr>
            <a:spLocks noGrp="1"/>
          </p:cNvSpPr>
          <p:nvPr>
            <p:ph type="ftr" idx="5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PlaceHolder 5"/>
          <p:cNvSpPr>
            <a:spLocks noGrp="1"/>
          </p:cNvSpPr>
          <p:nvPr>
            <p:ph type="sldNum" idx="5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AEB67-4E52-4D8E-A44C-9FF74B930F6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Group 4"/>
          <p:cNvGrpSpPr/>
          <p:nvPr/>
        </p:nvGrpSpPr>
        <p:grpSpPr>
          <a:xfrm>
            <a:off x="771480" y="6550200"/>
            <a:ext cx="8372520" cy="320400"/>
            <a:chOff x="771480" y="6550200"/>
            <a:chExt cx="8372520" cy="320400"/>
          </a:xfrm>
        </p:grpSpPr>
        <p:sp>
          <p:nvSpPr>
            <p:cNvPr id="126"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2"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EFAC-C7E2-4594-B606-04ED3C463503}"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2EC7-4F4A-4AAF-A0D5-45636C1A3EEB}"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70" name="Group 6"/>
          <p:cNvGrpSpPr/>
          <p:nvPr/>
        </p:nvGrpSpPr>
        <p:grpSpPr>
          <a:xfrm>
            <a:off x="771480" y="6550200"/>
            <a:ext cx="8372520" cy="320400"/>
            <a:chOff x="771480" y="6550200"/>
            <a:chExt cx="8372520" cy="320400"/>
          </a:xfrm>
        </p:grpSpPr>
        <p:sp>
          <p:nvSpPr>
            <p:cNvPr id="171"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4"/>
          <p:cNvGrpSpPr/>
          <p:nvPr/>
        </p:nvGrpSpPr>
        <p:grpSpPr>
          <a:xfrm>
            <a:off x="771480" y="6541560"/>
            <a:ext cx="8372520" cy="321120"/>
            <a:chOff x="771480" y="6541560"/>
            <a:chExt cx="8372520" cy="321120"/>
          </a:xfrm>
        </p:grpSpPr>
        <p:sp>
          <p:nvSpPr>
            <p:cNvPr id="213"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9"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B1B9-06D4-4CB0-B732-A2332995E6C5}"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Group 4"/>
          <p:cNvGrpSpPr/>
          <p:nvPr/>
        </p:nvGrpSpPr>
        <p:grpSpPr>
          <a:xfrm>
            <a:off x="771480" y="6541560"/>
            <a:ext cx="8372520" cy="321120"/>
            <a:chOff x="771480" y="6541560"/>
            <a:chExt cx="8372520" cy="321120"/>
          </a:xfrm>
        </p:grpSpPr>
        <p:sp>
          <p:nvSpPr>
            <p:cNvPr id="257"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3"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0698-289E-4A67-BD82-87D1283C7919}"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Group 4"/>
          <p:cNvGrpSpPr/>
          <p:nvPr/>
        </p:nvGrpSpPr>
        <p:grpSpPr>
          <a:xfrm>
            <a:off x="771480" y="6550200"/>
            <a:ext cx="8372520" cy="320400"/>
            <a:chOff x="771480" y="6550200"/>
            <a:chExt cx="8372520" cy="320400"/>
          </a:xfrm>
        </p:grpSpPr>
        <p:sp>
          <p:nvSpPr>
            <p:cNvPr id="3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6E0EF-7CBB-40A2-A6FB-613E1D159DD9}"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 name="Group 4"/>
          <p:cNvGrpSpPr/>
          <p:nvPr/>
        </p:nvGrpSpPr>
        <p:grpSpPr>
          <a:xfrm>
            <a:off x="771480" y="6550200"/>
            <a:ext cx="8372520" cy="320400"/>
            <a:chOff x="771480" y="6550200"/>
            <a:chExt cx="8372520" cy="320400"/>
          </a:xfrm>
        </p:grpSpPr>
        <p:sp>
          <p:nvSpPr>
            <p:cNvPr id="3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5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1CA8-53C6-4E1B-9882-DE317FB0A28E}"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14.xml.rels><?xml version="1.0" encoding="UTF-8"?>
<Relationships xmlns="http://schemas.openxmlformats.org/package/2006/relationships"><Relationship Id="rId1" Type="http://schemas.openxmlformats.org/officeDocument/2006/relationships/hyperlink" Target="mailto:lsuters@tntech.edu" TargetMode="External"/><Relationship Id="rId2" Type="http://schemas.openxmlformats.org/officeDocument/2006/relationships/hyperlink" Target="mailto:kpennycuff@tntech.edu" TargetMode="External"/><Relationship Id="rId3" Type="http://schemas.openxmlformats.org/officeDocument/2006/relationships/slideLayout" Target="../slideLayouts/slideLayout3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title"/>
          </p:nvPr>
        </p:nvSpPr>
        <p:spPr>
          <a:xfrm>
            <a:off x="2590560" y="1600200"/>
            <a:ext cx="5715000" cy="274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TEXT COMPLEXITY</a:t>
            </a:r>
            <a:br>
              <a:rPr sz="3000"/>
            </a:br>
            <a:endParaRPr b="0" lang="en-US" sz="3000" spc="-1" strike="noStrike">
              <a:solidFill>
                <a:srgbClr val="575f6d"/>
              </a:solidFill>
              <a:latin typeface="Century Schoolbook"/>
            </a:endParaRPr>
          </a:p>
        </p:txBody>
      </p:sp>
      <p:sp>
        <p:nvSpPr>
          <p:cNvPr id="1661" name="PlaceHolder 2"/>
          <p:cNvSpPr>
            <a:spLocks noGrp="1"/>
          </p:cNvSpPr>
          <p:nvPr>
            <p:ph type="subTitle"/>
          </p:nvPr>
        </p:nvSpPr>
        <p:spPr>
          <a:xfrm>
            <a:off x="2666880" y="4266720"/>
            <a:ext cx="4965840" cy="10033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Dr. Leslie Suters</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Dr. Kristen Pennycuff Trent</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ADING IN SCIENCE: TEXT COMPLEXITY QUALITATIVE MEASURES</a:t>
            </a:r>
            <a:endParaRPr b="0" lang="en-US" sz="2800" spc="-1" strike="noStrike">
              <a:solidFill>
                <a:srgbClr val="575f6d"/>
              </a:solidFill>
              <a:latin typeface="Century Schoolbook"/>
            </a:endParaRPr>
          </a:p>
        </p:txBody>
      </p:sp>
      <p:sp>
        <p:nvSpPr>
          <p:cNvPr id="1685"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1686" name="Picture 3" descr="Screen Clipping"/>
          <p:cNvPicPr/>
          <p:nvPr/>
        </p:nvPicPr>
        <p:blipFill>
          <a:blip r:embed="rId1"/>
          <a:stretch/>
        </p:blipFill>
        <p:spPr>
          <a:xfrm>
            <a:off x="776160" y="1219320"/>
            <a:ext cx="7497720" cy="534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ADING IN SCIENCE: TEXT COMPLEXITY MATCHING READERS AND TEXTS</a:t>
            </a:r>
            <a:endParaRPr b="0" lang="en-US" sz="2800" spc="-1" strike="noStrike">
              <a:solidFill>
                <a:srgbClr val="575f6d"/>
              </a:solidFill>
              <a:latin typeface="Century Schoolbook"/>
            </a:endParaRPr>
          </a:p>
        </p:txBody>
      </p:sp>
      <p:sp>
        <p:nvSpPr>
          <p:cNvPr id="1688" name=""/>
          <p:cNvSpPr txBox="1"/>
          <p:nvPr/>
        </p:nvSpPr>
        <p:spPr>
          <a:xfrm>
            <a:off x="685800" y="1218960"/>
            <a:ext cx="7696080" cy="426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1689" name="Picture 3" descr="Screen Clipping"/>
          <p:cNvPicPr/>
          <p:nvPr/>
        </p:nvPicPr>
        <p:blipFill>
          <a:blip r:embed="rId1"/>
          <a:stretch/>
        </p:blipFill>
        <p:spPr>
          <a:xfrm>
            <a:off x="1676520" y="1270080"/>
            <a:ext cx="5510160" cy="52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1691"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169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5747E-FC35-43F4-8977-DFF755F2D65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693" name="Picture 5" descr=""/>
          <p:cNvPicPr/>
          <p:nvPr/>
        </p:nvPicPr>
        <p:blipFill>
          <a:blip r:embed="rId1"/>
          <a:stretch/>
        </p:blipFill>
        <p:spPr>
          <a:xfrm>
            <a:off x="695160" y="533520"/>
            <a:ext cx="7434360" cy="555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TRATEGIC READING IN SCIENCE</a:t>
            </a:r>
            <a:endParaRPr b="0" lang="en-US" sz="3000" spc="-1" strike="noStrike">
              <a:solidFill>
                <a:srgbClr val="575f6d"/>
              </a:solidFill>
              <a:latin typeface="Century Schoolbook"/>
            </a:endParaRPr>
          </a:p>
        </p:txBody>
      </p:sp>
      <p:graphicFrame>
        <p:nvGraphicFramePr>
          <p:cNvPr id="1695" name=""/>
          <p:cNvGraphicFramePr/>
          <p:nvPr/>
        </p:nvGraphicFramePr>
        <p:xfrm>
          <a:off x="826920" y="1430280"/>
          <a:ext cx="6728040" cy="5213520"/>
        </p:xfrm>
        <a:graphic>
          <a:graphicData uri="http://schemas.openxmlformats.org/drawingml/2006/table">
            <a:tbl>
              <a:tblPr/>
              <a:tblGrid>
                <a:gridCol w="6728040"/>
              </a:tblGrid>
              <a:tr h="182880">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Calibri"/>
                        </a:rPr>
                        <a:t>BEFORE READING- scientifically literate individuals ask…</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402560">
                <a:tc>
                  <a:txBody>
                    <a:bodyPr lIns="66240" rIns="6624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recognize this type of selection?</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Is the source of this information reputable?</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Could the source have a bias?</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es it give me information or tell directions? How do I know?</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will this selection be about? Do the graphics tell me anything?</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already know something about the topic that will help me?</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questions do I have about the topic?</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is my purpose for reading this selection?</a:t>
                      </a:r>
                      <a:endParaRPr b="0" lang="en-US" sz="1000" spc="-1" strike="noStrike">
                        <a:solidFill>
                          <a:srgbClr val="000000"/>
                        </a:solidFill>
                        <a:latin typeface="Arial"/>
                      </a:endParaRPr>
                    </a:p>
                    <a:p>
                      <a:pPr marL="343080" indent="-34308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Calibri"/>
                        </a:rPr>
                        <a:t>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6240" rIns="66240" tIns="0" bIns="0" anchor="t">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Calibri"/>
                        </a:rPr>
                        <a:t>DURING READING-  scientifically literate individuals ask…</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500480">
                <a:tc>
                  <a:txBody>
                    <a:bodyPr lIns="66240" rIns="66240" tIns="0" bIns="0" anchor="t">
                      <a:noAutofit/>
                    </a:bodyPr>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have I learned so far?</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can I figure out difficult words or parts of the selection I don't understand?</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the meanings of terms I know fit with the scientific context or do I need to learn more?</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strategies will help me understand and remember this kind of reading?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is the author saying directly and what do they imply?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Am I able to detect any bias in the information? Would another author or groups present the information differently?</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Can I visualize what has been described?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Are the visuals in the text helpful to my understanding?</a:t>
                      </a:r>
                      <a:endParaRPr b="0" lang="en-US" sz="1000" spc="-1" strike="noStrike">
                        <a:solidFill>
                          <a:srgbClr val="000000"/>
                        </a:solidFill>
                        <a:latin typeface="Arial"/>
                      </a:endParaRPr>
                    </a:p>
                    <a:p>
                      <a:pPr marL="343080" indent="-34308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6240" rIns="66240" tIns="0" bIns="0" anchor="t">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Calibri"/>
                        </a:rPr>
                        <a:t>AFTER READING-  scientifically literate individuals ask…</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734480">
                <a:tc>
                  <a:txBody>
                    <a:bodyPr lIns="66240" rIns="66240" tIns="0" bIns="0" anchor="t">
                      <a:noAutofit/>
                    </a:bodyPr>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id the questions I had before reading get answered?</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id I learn what I wanted to? What can I do if I still have unanswered questions?</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ould I recommend this selection to someone else?  Why or why not?</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ere my predictions about the selection correct?</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agree with what the source said?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would I summarize what I read?</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Are there any parts that I should read again to be sure that I understand what it meant?</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was this selection similar to and different from other information I have read on this topic?</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have any personal experiences that tie in with this information?</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might I use this information to investigate further?</a:t>
                      </a:r>
                      <a:endParaRPr b="0" lang="en-US" sz="1000" spc="-1" strike="noStrike">
                        <a:solidFill>
                          <a:srgbClr val="000000"/>
                        </a:solidFill>
                        <a:latin typeface="Arial"/>
                      </a:endParaRPr>
                    </a:p>
                    <a:p>
                      <a:pPr marL="343080" indent="-34308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B77B2-9C20-4FD2-9813-E105DE8AAB5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697" name="Rectangle 1"/>
          <p:cNvSpPr/>
          <p:nvPr/>
        </p:nvSpPr>
        <p:spPr>
          <a:xfrm>
            <a:off x="5307120" y="1521000"/>
            <a:ext cx="183960" cy="276120"/>
          </a:xfrm>
          <a:prstGeom prst="rect">
            <a:avLst/>
          </a:prstGeom>
          <a:no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COMMENTS?</a:t>
            </a:r>
            <a:endParaRPr b="0" lang="en-US" sz="3000" spc="-1" strike="noStrike">
              <a:solidFill>
                <a:srgbClr val="575f6d"/>
              </a:solidFill>
              <a:latin typeface="Century Schoolbook"/>
            </a:endParaRPr>
          </a:p>
        </p:txBody>
      </p:sp>
      <p:sp>
        <p:nvSpPr>
          <p:cNvPr id="169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r. Leslie Suter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1"/>
              </a:rPr>
              <a:t>lsuters@tntech.edu</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r. Kristen Pennycuff Tren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2"/>
              </a:rPr>
              <a:t>kpennycuff@tntech.edu</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HINK, PAIR, SHARE</a:t>
            </a:r>
            <a:endParaRPr b="0" lang="en-US" sz="3000" spc="-1" strike="noStrike">
              <a:solidFill>
                <a:srgbClr val="575f6d"/>
              </a:solidFill>
              <a:latin typeface="Century Schoolbook"/>
            </a:endParaRPr>
          </a:p>
        </p:txBody>
      </p:sp>
      <p:sp>
        <p:nvSpPr>
          <p:cNvPr id="166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y is it important to use informational text in science classrooms?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Y SHOULD WE?</a:t>
            </a:r>
            <a:endParaRPr b="0" lang="en-US" sz="3000" spc="-1" strike="noStrike">
              <a:solidFill>
                <a:srgbClr val="575f6d"/>
              </a:solidFill>
              <a:latin typeface="Century Schoolbook"/>
            </a:endParaRPr>
          </a:p>
        </p:txBody>
      </p:sp>
      <p:sp>
        <p:nvSpPr>
          <p:cNvPr id="1665" name=""/>
          <p:cNvSpPr txBox="1"/>
          <p:nvPr/>
        </p:nvSpPr>
        <p:spPr>
          <a:xfrm>
            <a:off x="456840" y="1828440"/>
            <a:ext cx="7924680" cy="4419720"/>
          </a:xfrm>
          <a:prstGeom prst="rect">
            <a:avLst/>
          </a:prstGeom>
          <a:solidFill>
            <a:srgbClr val="ffffff"/>
          </a:solid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udents in school usually read informational text to answer questions at the back of the chapter, to complete a test prep worksheet, or simply because the teacher said to do so. Some of these activities may be unavoidable, but </a:t>
            </a:r>
            <a:r>
              <a:rPr b="0" i="1" lang="en-US" sz="2400" spc="-1" strike="noStrike">
                <a:solidFill>
                  <a:srgbClr val="000000"/>
                </a:solidFill>
                <a:latin typeface="Century Schoolbook"/>
              </a:rPr>
              <a:t>we need to create classrooms in which students read informational text as often as possible for more compelling purposes</a:t>
            </a:r>
            <a:r>
              <a:rPr b="0" lang="en-US" sz="2400" spc="-1" strike="noStrike">
                <a:solidFill>
                  <a:srgbClr val="000000"/>
                </a:solidFill>
                <a:latin typeface="Century Schoolbook"/>
              </a:rPr>
              <a:t>. In a recent study, 2nd and 3rd grade students whose teachers encouraged more authentic reading and writing of informational and how-to texts in science showed higher growth in reading comprehension as well as in writing (Purcell-Gates &amp; Duke, 2003).</a:t>
            </a:r>
            <a:endParaRPr b="0" lang="en-US" sz="24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6840" y="274680"/>
            <a:ext cx="7543800" cy="15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HOW DO WE CREATE COMPELLING REASONS TO READ INFORMATIONAL TEXT? </a:t>
            </a:r>
            <a:endParaRPr b="0" lang="en-US" sz="3600" spc="-1" strike="noStrike">
              <a:solidFill>
                <a:srgbClr val="575f6d"/>
              </a:solidFill>
              <a:latin typeface="Century Schoolbook"/>
            </a:endParaRPr>
          </a:p>
        </p:txBody>
      </p:sp>
      <p:sp>
        <p:nvSpPr>
          <p:cNvPr id="1667" name=""/>
          <p:cNvSpPr txBox="1"/>
          <p:nvPr/>
        </p:nvSpPr>
        <p:spPr>
          <a:xfrm>
            <a:off x="0" y="1828800"/>
            <a:ext cx="8229600" cy="4952880"/>
          </a:xfrm>
          <a:prstGeom prst="rect">
            <a:avLst/>
          </a:prstGeom>
          <a:noFill/>
          <a:ln w="9360">
            <a:solidFill>
              <a:srgbClr val="3668c4"/>
            </a:solidFill>
            <a:miter/>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2200" spc="-1" strike="noStrike">
                <a:solidFill>
                  <a:srgbClr val="000000"/>
                </a:solidFill>
                <a:latin typeface="Century Schoolbook"/>
              </a:rPr>
              <a:t>Teachers can set up situations in which students need information, then encourage students to read to obtain that information. Students may want to find information about the life cycles of frogs before setting up a tadpole tank or learn about the needs of growing things before planting a window box. Teachers can pique students' curiosity: putting out some earthworms for students to observe; demonstrating that water left out in a pan on Friday has “disappeared” on Monday; setting out some magnets with various materials that the magnets will or will not attract. Students will read informational books and other print materials on earthworms, evaporation, and magnetism with greater interest and purpose after such activities as these</a:t>
            </a:r>
            <a:r>
              <a:rPr b="1" lang="en-US" sz="2200" spc="-1" strike="noStrike">
                <a:solidFill>
                  <a:srgbClr val="d0a80a"/>
                </a:solidFill>
                <a:latin typeface="Century Schoolbook"/>
              </a:rPr>
              <a:t>. </a:t>
            </a:r>
            <a:endParaRPr b="0" lang="en-US" sz="2200" spc="-1" strike="noStrike">
              <a:solidFill>
                <a:srgbClr val="000000"/>
              </a:solidFill>
              <a:latin typeface="Century Schoolbook"/>
            </a:endParaRPr>
          </a:p>
        </p:txBody>
      </p:sp>
      <p:pic>
        <p:nvPicPr>
          <p:cNvPr id="1668" name="Picture 2" descr="C:\Users\Katie\AppData\Local\Microsoft\Windows\Temporary Internet Files\Content.IE5\RDPL7504\MC900340404[1].wmf"/>
          <p:cNvPicPr/>
          <p:nvPr/>
        </p:nvPicPr>
        <p:blipFill>
          <a:blip r:embed="rId1"/>
          <a:stretch/>
        </p:blipFill>
        <p:spPr>
          <a:xfrm>
            <a:off x="7734240" y="1065240"/>
            <a:ext cx="949320" cy="1050840"/>
          </a:xfrm>
          <a:prstGeom prst="rect">
            <a:avLst/>
          </a:prstGeom>
          <a:ln w="0">
            <a:noFill/>
          </a:ln>
        </p:spPr>
      </p:pic>
      <p:pic>
        <p:nvPicPr>
          <p:cNvPr id="1669" name="Picture 3" descr="C:\Users\Katie\AppData\Local\Microsoft\Windows\Temporary Internet Files\Content.IE5\RDPL7504\MC900329589[1].wmf"/>
          <p:cNvPicPr/>
          <p:nvPr/>
        </p:nvPicPr>
        <p:blipFill>
          <a:blip r:embed="rId2"/>
          <a:stretch/>
        </p:blipFill>
        <p:spPr>
          <a:xfrm>
            <a:off x="5051520" y="1260360"/>
            <a:ext cx="691920" cy="658800"/>
          </a:xfrm>
          <a:prstGeom prst="rect">
            <a:avLst/>
          </a:prstGeom>
          <a:ln w="0">
            <a:noFill/>
          </a:ln>
        </p:spPr>
      </p:pic>
      <p:pic>
        <p:nvPicPr>
          <p:cNvPr id="1670" name="Picture 4" descr="C:\Users\Katie\AppData\Local\Microsoft\Windows\Temporary Internet Files\Content.IE5\EJH4E1OI\MC900057341[1].wmf"/>
          <p:cNvPicPr/>
          <p:nvPr/>
        </p:nvPicPr>
        <p:blipFill>
          <a:blip r:embed="rId3"/>
          <a:stretch/>
        </p:blipFill>
        <p:spPr>
          <a:xfrm>
            <a:off x="2639880" y="1136520"/>
            <a:ext cx="838440" cy="69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READING TO OR WITH? </a:t>
            </a:r>
            <a:endParaRPr b="0" lang="en-US" sz="3200" spc="-1" strike="noStrike">
              <a:solidFill>
                <a:srgbClr val="575f6d"/>
              </a:solidFill>
              <a:latin typeface="Century Schoolbook"/>
            </a:endParaRPr>
          </a:p>
        </p:txBody>
      </p:sp>
      <p:sp>
        <p:nvSpPr>
          <p:cNvPr id="1672" name=""/>
          <p:cNvSpPr txBox="1"/>
          <p:nvPr/>
        </p:nvSpPr>
        <p:spPr>
          <a:xfrm>
            <a:off x="457200" y="1600200"/>
            <a:ext cx="8229600" cy="50292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formational text may be portioned into small segments for reading to or with stud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re is not a plot moving from chapter to chapter with the reader left dangling at the end of a chapter so they will want to read on as in a novel.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ers can dip into nonfiction text, part by par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bout independent readin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ADING IN SCIENCE: TEXT COMPLEXITY </a:t>
            </a:r>
            <a:endParaRPr b="0" lang="en-US" sz="3000" spc="-1" strike="noStrike">
              <a:solidFill>
                <a:srgbClr val="575f6d"/>
              </a:solidFill>
              <a:latin typeface="Century Schoolbook"/>
            </a:endParaRPr>
          </a:p>
        </p:txBody>
      </p:sp>
      <p:graphicFrame>
        <p:nvGraphicFramePr>
          <p:cNvPr id="1674" name=""/>
          <p:cNvGraphicFramePr/>
          <p:nvPr/>
        </p:nvGraphicFramePr>
        <p:xfrm>
          <a:off x="2133720" y="1981080"/>
          <a:ext cx="4876560" cy="2579760"/>
        </p:xfrm>
        <a:graphic>
          <a:graphicData uri="http://schemas.openxmlformats.org/drawingml/2006/table">
            <a:tbl>
              <a:tblPr/>
              <a:tblGrid>
                <a:gridCol w="1814400"/>
                <a:gridCol w="3062160"/>
              </a:tblGrid>
              <a:tr h="793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Qualitativ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evaluation of th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Levels of meaning, structure, language conventionality and clarity, and knowledge demand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93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Quantitativ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evaluation of th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Readability measures and other scores of text complexity</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92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Reader &amp; Task</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Matching reader variables (such as motivation, knowledge and experiences) and task variables (such as purpose and complexity generated by the task assigned and the questions posed).</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75" name="Picture 1" descr=""/>
          <p:cNvPicPr/>
          <p:nvPr/>
        </p:nvPicPr>
        <p:blipFill>
          <a:blip r:embed="rId1"/>
          <a:stretch/>
        </p:blipFill>
        <p:spPr>
          <a:xfrm>
            <a:off x="3352680" y="4770360"/>
            <a:ext cx="2229120" cy="190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ADING IN SCIENCE: TEXT COMPLEXITY AND LEXILE SCORES</a:t>
            </a:r>
            <a:endParaRPr b="0" lang="en-US" sz="3200" spc="-1" strike="noStrike">
              <a:solidFill>
                <a:srgbClr val="575f6d"/>
              </a:solidFill>
              <a:latin typeface="Century Schoolbook"/>
            </a:endParaRPr>
          </a:p>
        </p:txBody>
      </p:sp>
      <p:pic>
        <p:nvPicPr>
          <p:cNvPr id="1677" name="Picture 2" descr=""/>
          <p:cNvPicPr/>
          <p:nvPr/>
        </p:nvPicPr>
        <p:blipFill>
          <a:blip r:embed="rId1"/>
          <a:stretch/>
        </p:blipFill>
        <p:spPr>
          <a:xfrm>
            <a:off x="1676520" y="1905120"/>
            <a:ext cx="5779800" cy="3316320"/>
          </a:xfrm>
          <a:prstGeom prst="rect">
            <a:avLst/>
          </a:prstGeom>
          <a:ln w="0">
            <a:noFill/>
          </a:ln>
        </p:spPr>
      </p:pic>
      <p:sp>
        <p:nvSpPr>
          <p:cNvPr id="1678" name="Rectangle 3"/>
          <p:cNvSpPr/>
          <p:nvPr/>
        </p:nvSpPr>
        <p:spPr>
          <a:xfrm>
            <a:off x="4119120" y="51814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om CCSS ELA Appendix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CCELERATED READER ATOS LEVELS</a:t>
            </a:r>
            <a:endParaRPr b="0" lang="en-US" sz="3000" spc="-1" strike="noStrike">
              <a:solidFill>
                <a:srgbClr val="575f6d"/>
              </a:solidFill>
              <a:latin typeface="Century Schoolbook"/>
            </a:endParaRPr>
          </a:p>
        </p:txBody>
      </p:sp>
      <p:pic>
        <p:nvPicPr>
          <p:cNvPr id="1680" name="Content Placeholder 4" descr=""/>
          <p:cNvPicPr/>
          <p:nvPr/>
        </p:nvPicPr>
        <p:blipFill>
          <a:blip r:embed="rId1"/>
          <a:stretch/>
        </p:blipFill>
        <p:spPr>
          <a:xfrm>
            <a:off x="446040" y="2057400"/>
            <a:ext cx="7871040" cy="3030480"/>
          </a:xfrm>
          <a:prstGeom prst="rect">
            <a:avLst/>
          </a:prstGeom>
          <a:ln w="0">
            <a:noFill/>
          </a:ln>
        </p:spPr>
      </p:pic>
      <p:sp>
        <p:nvSpPr>
          <p:cNvPr id="168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A5D9-35E7-4608-8B8F-92B147EA5CE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685440" y="151920"/>
            <a:ext cx="6870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ADING IN SCIENCE: ANALYZING LEXILE SCORES AT LEXILE.COM</a:t>
            </a:r>
            <a:endParaRPr b="0" lang="en-US" sz="3200" spc="-1" strike="noStrike">
              <a:solidFill>
                <a:srgbClr val="575f6d"/>
              </a:solidFill>
              <a:latin typeface="Century Schoolbook"/>
            </a:endParaRPr>
          </a:p>
        </p:txBody>
      </p:sp>
      <p:pic>
        <p:nvPicPr>
          <p:cNvPr id="1683" name="Content Placeholder 3" descr="Screen Clipping"/>
          <p:cNvPicPr/>
          <p:nvPr/>
        </p:nvPicPr>
        <p:blipFill>
          <a:blip r:embed="rId1"/>
          <a:stretch/>
        </p:blipFill>
        <p:spPr>
          <a:xfrm>
            <a:off x="1698480" y="1371600"/>
            <a:ext cx="588024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1:47:23Z</dcterms:created>
  <dc:creator>Shane  Trent</dc:creator>
  <dc:description/>
  <dc:language>en-US</dc:language>
  <cp:lastModifiedBy>Pennycuff, Kristen</cp:lastModifiedBy>
  <cp:lastPrinted>2016-06-30T01:22:36Z</cp:lastPrinted>
  <dcterms:modified xsi:type="dcterms:W3CDTF">2016-07-11T19:29:19Z</dcterms:modified>
  <cp:revision>152</cp:revision>
  <dc:subject/>
  <dc:title>Sustaining Talk</dc:title>
</cp:coreProperties>
</file>