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603-31A9-4C82-8078-BAF08F5E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48B-B4F9-464B-86C1-BA03E41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25C-3F64-4B9A-8A61-C23479C1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7AA-2978-4E34-A574-9E087D2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682-BAD8-4620-8078-B4F3B21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251-DB03-4F77-BED6-45CAAAD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29A-C33A-4599-943A-8629F47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3D1-5D72-484D-8D6F-D1492AD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233-3FE0-4463-8105-28E5636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813-1093-4768-9711-ED41F07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B6E-C35A-4A39-8CD5-D031B58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70C-313E-4DA6-AE7A-16B4A16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B19-092B-4561-90B2-72B7F74A1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the Big Pictu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Textmapping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ne B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baker@tntech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ha_title.jpg"/>
          <p:cNvPicPr/>
          <p:nvPr/>
        </p:nvPicPr>
        <p:blipFill>
          <a:blip r:embed="rId1"/>
          <a:stretch/>
        </p:blipFill>
        <p:spPr>
          <a:xfrm>
            <a:off x="3048120" y="380880"/>
            <a:ext cx="2666880" cy="1940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df69c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mapping a Textbook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d or Orang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Divide the text into three sections:  intro, main body, and review.  Mark off side bar materials als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7bc29"/>
                </a:solidFill>
                <a:latin typeface="Calibri"/>
              </a:rPr>
              <a:t>Yell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textstre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620e"/>
                </a:solidFill>
                <a:latin typeface="Calibri"/>
              </a:rPr>
              <a:t>Brow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000" spc="-1" strike="noStrike">
                <a:solidFill>
                  <a:srgbClr val="7f7f7f"/>
                </a:solidFill>
                <a:latin typeface="Calibri"/>
              </a:rPr>
              <a:t>Gr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illust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Circle each heading and box its corresponding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urple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b55475"/>
                </a:solidFill>
                <a:latin typeface="Calibri"/>
              </a:rPr>
              <a:t>Pink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x all review quest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alibri"/>
              </a:rPr>
              <a:t>Gre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Highlight the vocabulary words in the main body of the tex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illustration relates to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side bar relates to the tex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expect to learn about this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do you feel are important to your comprehen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might you pay attention to before you read the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you use the questions in the text to check your comprehension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will you apply what you learned today to future reading assign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 Benefits to Textmapp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ed from www.textmapping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re explic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teach students to be strategic r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courage students to develop active reading ski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able comprehension to be linked directly, explicitly and concretely to the tex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xtmap is a traceable visual record of a thought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ccommodate a wide range of learning sty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can be particularly helpful to individuals who have learning disabilities or attention iss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Ways to Use Text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instructional purposes could textmapping be use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eatures might you have students mark when mapping a magazine article? A newspaper article? A short fiction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extmapping be use before reading?  During reading?  After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I use textmapp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y classroo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ould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units or tex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studen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hallenges might I face with implementing this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4:12:00Z</dcterms:created>
  <dc:creator>Tony</dc:creator>
  <dc:description/>
  <dc:language>en-US</dc:language>
  <cp:lastModifiedBy>Baker, Jane</cp:lastModifiedBy>
  <dcterms:modified xsi:type="dcterms:W3CDTF">2016-07-12T00:27:31Z</dcterms:modified>
  <cp:revision>5</cp:revision>
  <dc:subject/>
  <dc:title>See the Big Picture  with Textmapping!</dc:title>
</cp:coreProperties>
</file>