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6BD-010C-42CC-8FEB-80CD46C4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FD7-CC1C-4D8F-BBD6-F6014DA2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AC6-379D-4047-A9D5-26BAE77E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933-E133-44A1-915A-9EC326B5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3A4-26BE-476D-9963-93404089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354-19A9-44FB-BAEA-E3148094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CD7-EF8D-4169-A05A-B7349F5F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78A-B04E-4B00-A3FF-49A039F0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80D-FA89-4126-BB69-D3845DD7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B59-F1FE-4D8B-AB44-AAF6117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A6A-BE8F-4600-A12D-5B02A5C8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8B2-B321-4BF5-9B34-773238E3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F784-5600-4A01-AE6D-BE7517B91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e the Big Pictur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th Textmapping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ane Ba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baker@tntech.e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aha_title.jpg"/>
          <p:cNvPicPr/>
          <p:nvPr/>
        </p:nvPicPr>
        <p:blipFill>
          <a:blip r:embed="rId1"/>
          <a:stretch/>
        </p:blipFill>
        <p:spPr>
          <a:xfrm>
            <a:off x="3048120" y="380880"/>
            <a:ext cx="2666880" cy="1940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df69c">
                <a:alpha val="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mapping a Textbook Chap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d or Orang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Divide the text into three sections:  intro, main body, and review.  Mark off side bar materials als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7bc29"/>
                </a:solidFill>
                <a:latin typeface="Calibri"/>
              </a:rPr>
              <a:t>Yellow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Box the textstre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620e"/>
                </a:solidFill>
                <a:latin typeface="Calibri"/>
              </a:rPr>
              <a:t>Brown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000" spc="-1" strike="noStrike">
                <a:solidFill>
                  <a:srgbClr val="7f7f7f"/>
                </a:solidFill>
                <a:latin typeface="Calibri"/>
              </a:rPr>
              <a:t>Gre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Box the illust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Blu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Circle each heading and box its corresponding section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urple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b55475"/>
                </a:solidFill>
                <a:latin typeface="Calibri"/>
              </a:rPr>
              <a:t>Pink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x all review questio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Calibri"/>
              </a:rPr>
              <a:t>Gre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Highlight the vocabulary words in the main body of the tex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line indicating how each illustration relates to the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line indicating how each side bar relates to the tex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expect to learn about this chapt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features of the text do you feel are important to your comprehens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features of the text might you pay attention to before you read the chapt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can you use the questions in the text to check your comprehension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will you apply what you learned today to future reading assignm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 Benefits to Textmappin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pted from www.textmapping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are explic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teach students to be strategic rea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encourage students to develop active reading ski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enable comprehension to be linked directly, explicitly and concretely to the tex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xtmap is a traceable visual record of a thought pro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accommodate a wide range of learning sty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can be particularly helpful to individuals who have learning disabilities or attention issu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Ways to Use Text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other instructional purposes could textmapping be used f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eatures might you have students mark when mapping a magazine article? A newspaper article? A short fiction pie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ight textmapping be use before reading?  During reading?  After read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will I use textmapp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y classroom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ould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at units or texts might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at students might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hallenges might I face with implementing this techniq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04:12:00Z</dcterms:created>
  <dc:creator>Tony</dc:creator>
  <dc:description/>
  <dc:language>en-US</dc:language>
  <cp:lastModifiedBy>Baker, Jane</cp:lastModifiedBy>
  <dcterms:modified xsi:type="dcterms:W3CDTF">2016-07-12T00:27:31Z</dcterms:modified>
  <cp:revision>5</cp:revision>
  <dc:subject/>
  <dc:title>See the Big Picture  with Textmapping!</dc:title>
</cp:coreProperties>
</file>