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CD3-1C54-44E8-BE17-460D23B9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2E6-D77E-45CF-8251-F543C8A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538-6396-470A-B821-AC99978F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74F-F609-4B09-9882-ED044941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1B6-006F-4373-A4DF-AB2BE97E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229-D985-4B27-8A38-6E095BC1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473-F776-4A81-8EC2-A7D6F77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8B3-FA02-428A-831A-4728B968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69F-80A7-4884-8BD1-4EB686A5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C4E-34EA-4193-A51E-E4DCB309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894-75DB-46AB-8E74-7596E260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1B3-B26D-4E16-870C-754EEBBA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FF6A-599C-49BB-942C-D55BCCE54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e the Big Pictur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th Textmapping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ane Ba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baker@tntech.e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aha_title.jpg"/>
          <p:cNvPicPr/>
          <p:nvPr/>
        </p:nvPicPr>
        <p:blipFill>
          <a:blip r:embed="rId1"/>
          <a:stretch/>
        </p:blipFill>
        <p:spPr>
          <a:xfrm>
            <a:off x="3048120" y="380880"/>
            <a:ext cx="2666880" cy="1940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df69c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mapping a Textbook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d or Orang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Divide the text into three sections:  intro, main body, and review.  Mark off side bar materials als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7bc29"/>
                </a:solidFill>
                <a:latin typeface="Calibri"/>
              </a:rPr>
              <a:t>Yellow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Box the textstre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620e"/>
                </a:solidFill>
                <a:latin typeface="Calibri"/>
              </a:rPr>
              <a:t>Brown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000" spc="-1" strike="noStrike">
                <a:solidFill>
                  <a:srgbClr val="7f7f7f"/>
                </a:solidFill>
                <a:latin typeface="Calibri"/>
              </a:rPr>
              <a:t>Gre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Box the illust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Circle each heading and box its corresponding sect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urple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b55475"/>
                </a:solidFill>
                <a:latin typeface="Calibri"/>
              </a:rPr>
              <a:t>Pink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x all review questi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Calibri"/>
              </a:rPr>
              <a:t>Gre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Highlight the vocabulary words in the main body of the tex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line indicating how each illustration relates to the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line indicating how each side bar relates to the tex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expect to learn about this chap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features of the text do you feel are important to your comprehens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features of the text might you pay attention to before you read the chap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can you use the questions in the text to check your comprehension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will you apply what you learned today to future reading assignm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 Benefits to Textmapp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ed from www.textmapping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are explic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teach students to be strategic rea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encourage students to develop active reading ski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enable comprehension to be linked directly, explicitly and concretely to the tex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xtmap is a traceable visual record of a thought pro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accommodate a wide range of learning sty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can be particularly helpful to individuals who have learning disabilities or attention issu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Ways to Use Text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ther instructional purposes could textmapping be used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eatures might you have students mark when mapping a magazine article? A newspaper article? A short fiction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ight textmapping be use before reading?  During reading?  After rea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ill I use textmapp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y classroom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ould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at units or texts might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at students might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hallenges might I face with implementing this techniq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04:12:00Z</dcterms:created>
  <dc:creator>Tony</dc:creator>
  <dc:description/>
  <dc:language>en-US</dc:language>
  <cp:lastModifiedBy>Baker, Jane</cp:lastModifiedBy>
  <dcterms:modified xsi:type="dcterms:W3CDTF">2016-07-12T00:27:31Z</dcterms:modified>
  <cp:revision>5</cp:revision>
  <dc:subject/>
  <dc:title>See the Big Picture  with Textmapping!</dc:title>
</cp:coreProperties>
</file>