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47B-72BD-4854-94D0-E12DE359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C57-2B61-4C59-9964-D9A58791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E60-EC9B-40B1-ABC0-F8EF3B85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1D9-0311-4388-B137-7E7DB30D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D45-2261-4019-94AC-60625A25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738-E87B-4325-8B30-DF4397D3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3F8-A70B-46BE-9A9D-D974B1FE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A59-FDAB-485E-AB8D-F2EAED0A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3D3-FA19-43B6-8EE6-63F7D9C4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BB7-FA80-46AF-99E5-C70EFD63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256-4CF0-4EED-B649-BF00A05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B42-A5F3-4AAD-A822-A50CA65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205-35D3-4514-B62F-CE6673D48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e the Big Pictur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th Textmapping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ane Ba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baker@tntech.e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aha_title.jpg"/>
          <p:cNvPicPr/>
          <p:nvPr/>
        </p:nvPicPr>
        <p:blipFill>
          <a:blip r:embed="rId1"/>
          <a:stretch/>
        </p:blipFill>
        <p:spPr>
          <a:xfrm>
            <a:off x="3048120" y="380880"/>
            <a:ext cx="2666880" cy="1940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df69c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mapping a Textbook Cha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d or Orang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Divide the text into three sections:  intro, main body, and review.  Mark off side bar materials als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7bc29"/>
                </a:solidFill>
                <a:latin typeface="Calibri"/>
              </a:rPr>
              <a:t>Yellow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Box the textstrea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620e"/>
                </a:solidFill>
                <a:latin typeface="Calibri"/>
              </a:rPr>
              <a:t>Brown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000" spc="-1" strike="noStrike">
                <a:solidFill>
                  <a:srgbClr val="7f7f7f"/>
                </a:solidFill>
                <a:latin typeface="Calibri"/>
              </a:rPr>
              <a:t>Gre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Box the illust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Circle each heading and box its corresponding sect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urple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b55475"/>
                </a:solidFill>
                <a:latin typeface="Calibri"/>
              </a:rPr>
              <a:t>Pink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x all review questi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Calibri"/>
              </a:rPr>
              <a:t>Gre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Highlight the vocabulary words in the main body of the tex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line indicating how each illustration relates to the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line indicating how each side bar relates to the tex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expect to learn about this chap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features of the text do you feel are important to your comprehens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features of the text might you pay attention to before you read the chap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can you use the questions in the text to check your comprehension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will you apply what you learned today to future reading assignm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 Benefits to Textmapp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ed from www.textmapping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are explic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teach students to be strategic rea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encourage students to develop active reading ski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enable comprehension to be linked directly, explicitly and concretely to the tex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xtmap is a traceable visual record of a thought pro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accommodate a wide range of learning sty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s and textmapping can be particularly helpful to individuals who have learning disabilities or attention issu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Ways to Use Text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other instructional purposes could textmapping be used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eatures might you have students mark when mapping a magazine article? A newspaper article? A short fiction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ight textmapping be use before reading?  During reading?  After rea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ill I use textmapp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y classroom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ould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at units or texts might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at students might I use this techniq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hallenges might I face with implementing this techniq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04:12:00Z</dcterms:created>
  <dc:creator>Tony</dc:creator>
  <dc:description/>
  <dc:language>en-US</dc:language>
  <cp:lastModifiedBy>Baker, Jane</cp:lastModifiedBy>
  <dcterms:modified xsi:type="dcterms:W3CDTF">2016-07-12T00:27:31Z</dcterms:modified>
  <cp:revision>5</cp:revision>
  <dc:subject/>
  <dc:title>See the Big Picture  with Textmapping!</dc:title>
</cp:coreProperties>
</file>