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1C69-2B9A-45FC-B23A-0DC0A5629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B918-5A47-4D3F-B5C0-D01B8147F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8C24-3AE9-4535-A1E0-F24CA1098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39CD-4397-4543-AEB9-6AF6EE521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7E3F1-6F17-4F74-A204-2EE4F1A01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D61FB-6BB3-44D0-9301-C849AA9DD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3BD17-3CA8-4C93-BE6F-18F9CE4C0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FD1EC-5B01-4A3C-9BEA-305BA1D23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63BFAD8-C2E0-46EB-A6FC-06C35146C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A00FB1-8331-4F9D-9359-10BCD2A12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DCD0EE-0B21-47DB-A208-B8087033F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E2C8D2-57A1-40D6-A74C-ECFF7C33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59AF28-871C-404D-8D4B-B9083887A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FDE307-69FD-41C5-A793-0027D002C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3CFA1D-2B68-4BF2-9197-B5757711A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2CCE-449A-4EE9-824C-FF7604072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B62917-0E93-48A5-B6D9-D82875849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3E969B-BBB7-47EB-9AA1-241BB0A2F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A88A16-C9E5-4DCB-9D54-29DECCA90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AC23EB-4AA8-42E4-B917-7C2D7C9E5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A45ECD0-E785-4E4F-905E-22FA1F7BA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36059C-B760-4D2A-9CB9-A3CA1FE370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68D507-8866-46A3-BFE6-76A7BA003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E4C112-2A4B-4E43-956A-D9FC70C58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27B12D-CE8D-46E0-97CE-4B174027A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0C89C7-D9D1-4FE6-ABA5-C3AA69DD7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B260-BCB1-4A0C-B6DA-77A718BA9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4C4972-9692-4315-A0B4-E96CF8925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F40337-CAAF-43AA-AE9A-1607AA958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A20032-452C-4DAD-A97D-02A4BE075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065672-D0FD-46F4-BB0D-4F3012A3C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B52408-932E-4183-8B72-5A7655E70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A9DCD6-EA0A-407F-9B77-6BC3E3A15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AD3066-105B-47E6-92D7-DF9DD28BD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DFC4A-37DA-42D3-9A25-F0ECBDC398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56DE0-809F-46CE-B5E1-6E7D7C752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A4F34-D9A9-4367-A7A1-7AF39E6C1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3F9A4-99A0-4A82-97B1-850F5C5D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130F8-FAE7-4A5A-B669-E6E33A17B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792CFC-9042-4CE9-AFBC-4C46ECB83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1BFDB-68E1-45DC-8224-AD8B94CA5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E845E-EB81-46B1-9001-1CE36C3B7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51C6F-FD0D-44C0-B6A5-3243C1B09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50E6C-AF55-450E-B4D7-D39A3DB46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EF199-9DBB-4AE7-8832-C13299972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7D810-447D-49B2-9BBF-62A8BE8100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C80A6-0B92-4D0D-9973-C75819895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E0CFC-4282-4C8D-962B-6690EAF6E0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C9C3-7278-4895-88FF-8E80B943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15DE8-CB32-434B-A1B9-0B455A391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8A7BB-98B1-4252-BA03-F67D8A7A0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1185D5-85AB-4346-85EB-90CBA8EF15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08D57E-106F-47FB-BE7E-FFFB7E0279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AF8D6-C556-47EE-9026-C23C6FAC3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1B3DA-86A0-4D3C-A682-489555A40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50ED4-8020-476D-8639-84BFB38CC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582A1-41E2-4E09-9606-205067820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E5ECE-4903-4422-9123-DA4A4D5E4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F43859-B95D-4052-9850-7EC55CD95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FE8D-4CA6-410A-B2E9-B2BA757C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347C0-8691-4F4F-86B4-BE324ACFAE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2C7ADC-9A43-4010-8E3E-FBB85367D3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94668D-5D81-4D71-B3A9-B5482455D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46A53-2DB0-41F8-B16E-5A91E8D6E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D587F-00E5-43B0-B933-51B5FE6379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AB8744-6B3C-48E0-8CAC-41DC5B89F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E7C68-9DC5-4C95-BDFE-E042B8DE30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E416A-5042-454F-89DE-67965A797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2C1AF-744A-48ED-A6E9-88709FADB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C4EA6-00B7-4D95-BDB5-03178E160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0537-DD0A-458C-A049-F1EDE15F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6881E7-DA44-499F-B724-676DE2202E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BD0C16-B6AF-4A6F-A282-F8117F57F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D7A435-5A46-4E4C-9335-B9F7C6C91C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4E16C2-BD07-4791-9337-9024D463A3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E8951-E494-4C62-825B-A6D2A4343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17D7A-0954-4AB8-A16A-142F65C40F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54D4A7-B063-475D-A90F-60E8CB2E9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0B874D-F422-4878-95AF-748E365C15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7ABD0-2124-4F1A-9B32-239E81925F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69434-DBCD-48BF-B28F-3808BF402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4177-CD4D-45D7-8DAF-033744D1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8DD2D8-6830-4F42-AA32-BA752CE87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69237-8A8B-4053-9502-72034DA05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A1A74E-FA52-46E5-94EE-0F0B2823F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49B344-835B-4D09-88AE-DFE8A9BF04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2A1175-CD8E-4C4C-96E4-43E15209B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EA3A-6A59-44F1-95B1-8221AD1AA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595B-9EC9-4DCC-B8A3-27C043C1E65D}"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3F03-A248-4D63-A45D-AD2320E32F5A}"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A296-9CFF-4C7E-A159-4C1751D6EC70}"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8FFD-F638-46B9-9D1F-B10B33ADD73C}"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D0B1-609D-453A-ADFB-AB2669043FF3}"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4965-BF9F-4EC4-8230-FA6E2DD8E53C}"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B1DD-C55E-4E15-861F-21BCB03DAD71}"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4">
                                  <p:stCondLst>
                                    <p:cond delay="0"/>
                                  </p:stCondLst>
                                  <p:childTnLst>
                                    <p:set>
                                      <p:cBhvr>
                                        <p:cTn id="157" dur="1" fill="hold">
                                          <p:stCondLst>
                                            <p:cond delay="0"/>
                                          </p:stCondLst>
                                        </p:cTn>
                                        <p:tgtEl>
                                          <p:spTgt spid="347"/>
                                        </p:tgtEl>
                                        <p:attrNameLst>
                                          <p:attrName>style.visibility</p:attrName>
                                        </p:attrNameLst>
                                      </p:cBhvr>
                                      <p:to>
                                        <p:strVal val="visible"/>
                                      </p:to>
                                    </p:set>
                                    <p:animEffect filter="checkerboard(down)" transition="in">
                                      <p:cBhvr additive="repl">
                                        <p:cTn id="15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 calcmode="lin" valueType="num">
                                      <p:cBhvr additive="repl">
                                        <p:cTn id="125" dur="500" fill="hold"/>
                                        <p:tgtEl>
                                          <p:spTgt spid="342"/>
                                        </p:tgtEl>
                                        <p:attrNameLst>
                                          <p:attrName>ppt_w</p:attrName>
                                        </p:attrNameLst>
                                      </p:cBhvr>
                                      <p:tavLst>
                                        <p:tav tm="0">
                                          <p:val>
                                            <p:strVal val="0"/>
                                          </p:val>
                                        </p:tav>
                                        <p:tav tm="100000">
                                          <p:val>
                                            <p:strVal val="#ppt_w"/>
                                          </p:val>
                                        </p:tav>
                                      </p:tavLst>
                                    </p:anim>
                                    <p:anim calcmode="lin" valueType="num">
                                      <p:cBhvr additive="repl">
                                        <p:cTn id="126" dur="500" fill="hold"/>
                                        <p:tgtEl>
                                          <p:spTgt spid="342"/>
                                        </p:tgtEl>
                                        <p:attrNameLst>
                                          <p:attrName>ppt_h</p:attrName>
                                        </p:attrNameLst>
                                      </p:cBhvr>
                                      <p:tavLst>
                                        <p:tav tm="0">
                                          <p:val>
                                            <p:strVal val="0"/>
                                          </p:val>
                                        </p:tav>
                                        <p:tav tm="100000">
                                          <p:val>
                                            <p:strVal val="#ppt_h"/>
                                          </p:val>
                                        </p:tav>
                                      </p:tavLst>
                                    </p:anim>
                                    <p:animEffect filter="fade" transition="in">
                                      <p:cBhvr additive="repl">
                                        <p:cTn id="127" dur="500"/>
                                        <p:tgtEl>
                                          <p:spTgt spid="34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345"/>
                                        </p:tgtEl>
                                        <p:attrNameLst>
                                          <p:attrName>style.visibility</p:attrName>
                                        </p:attrNameLst>
                                      </p:cBhvr>
                                      <p:to>
                                        <p:strVal val="visible"/>
                                      </p:to>
                                    </p:set>
                                    <p:anim calcmode="lin" valueType="num">
                                      <p:cBhvr additive="repl">
                                        <p:cTn id="132"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5" dur="1000" fill="hold"/>
                                        <p:tgtEl>
                                          <p:spTgt spid="345"/>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345"/>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344"/>
                                        </p:tgtEl>
                                        <p:attrNameLst>
                                          <p:attrName>style.visibility</p:attrName>
                                        </p:attrNameLst>
                                      </p:cBhvr>
                                      <p:to>
                                        <p:strVal val="visible"/>
                                      </p:to>
                                    </p:set>
                                    <p:anim calcmode="lin" valueType="num">
                                      <p:cBhvr additive="repl">
                                        <p:cTn id="144" dur="1000" fill="hold"/>
                                        <p:tgtEl>
                                          <p:spTgt spid="344"/>
                                        </p:tgtEl>
                                        <p:attrNameLst>
                                          <p:attrName>ppt_w</p:attrName>
                                        </p:attrNameLst>
                                      </p:cBhvr>
                                      <p:tavLst>
                                        <p:tav tm="0">
                                          <p:val>
                                            <p:strVal val="#ppt_w*0.70"/>
                                          </p:val>
                                        </p:tav>
                                        <p:tav tm="100000">
                                          <p:val>
                                            <p:strVal val="#ppt_w"/>
                                          </p:val>
                                        </p:tav>
                                      </p:tavLst>
                                    </p:anim>
                                    <p:anim calcmode="lin" valueType="num">
                                      <p:cBhvr additive="repl">
                                        <p:cTn id="145" dur="1000" fill="hold"/>
                                        <p:tgtEl>
                                          <p:spTgt spid="344"/>
                                        </p:tgtEl>
                                        <p:attrNameLst>
                                          <p:attrName>ppt_h</p:attrName>
                                        </p:attrNameLst>
                                      </p:cBhvr>
                                      <p:tavLst>
                                        <p:tav tm="0">
                                          <p:val>
                                            <p:strVal val="#ppt_h"/>
                                          </p:val>
                                        </p:tav>
                                        <p:tav tm="100000">
                                          <p:val>
                                            <p:strVal val="#ppt_h"/>
                                          </p:val>
                                        </p:tav>
                                      </p:tavLst>
                                    </p:anim>
                                    <p:animEffect filter="fade" transition="in">
                                      <p:cBhvr additive="repl">
                                        <p:cTn id="146" dur="1000"/>
                                        <p:tgtEl>
                                          <p:spTgt spid="3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343"/>
                                        </p:tgtEl>
                                        <p:attrNameLst>
                                          <p:attrName>style.visibility</p:attrName>
                                        </p:attrNameLst>
                                      </p:cBhvr>
                                      <p:to>
                                        <p:strVal val="visible"/>
                                      </p:to>
                                    </p:set>
                                    <p:animEffect filter="slide(fromTop)" transition="in">
                                      <p:cBhvr additive="repl">
                                        <p:cTn id="15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