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FA610-A3FA-4B65-BBB2-7D75A31E52D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acher should provide  various bouncing balls for students to investig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achers need to know that a single scientific method does not work in all cases. Though it is important to learn the science process skills, it should be learned in context of what is being investiga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09AB0-0C7D-4CA1-9C76-5559C6E915A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ce fair projects should start with the teacher introducing a probl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E67C1-A35C-4BFC-8CD1-C7A8F37F0E0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kinds of problems do you encounter everyday that you will like to find a solution fo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in brainstorming  there are not bad ide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get you started think your kitchen, TV, toys, the environ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9F9EA-C777-417F-878C-399F7611F67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Before delving into how to plan for science fairs, It is important to remind teachers that it is important to teach students about the N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Teachers what are your views about the nature of science and is there a single defini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A7FDD-C986-44FF-BAAC-B83AFC74EE9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12964-B9EB-4300-B03D-E87D123AC7E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your definition of the scientific method or how have you described it to your studen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 it always follow a linear process such as obs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FE3CF-6D88-4512-90EC-3F56D64324D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7330-2445-4A9E-B57D-2AFDE8C25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92D7-EB05-442F-9ADC-FDE9669F6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4EAA-0417-4026-9D49-476744956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464E-6EDC-4F82-8911-F8F6B4134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AC9E4-2C1F-4D93-9F54-C7272B12E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B9491-FC78-4E0B-BD5B-9832DA2E0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931AD-2D7D-4019-BD27-D19837BD8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E575D-85DE-4CF4-95DA-620925A63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22A8A-7B98-42F7-B44A-1095F0451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A1927-0ABD-4125-8FA2-C90D7547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E7580-ED7B-419A-9BF0-7742D0B9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35EC-4944-4F77-93AB-422E47134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A1468-99CA-4863-9AAB-CAC6C4B8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3573D-80FE-48DD-8B7D-2492AAB4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EA5DB-2955-485D-83F6-DD52B615A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6CEC1-3DA6-48AC-8BEB-FB182D5DF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3F3F5-AECC-44EB-BF15-C10126421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012A-62A0-4E65-8247-71EA95C51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66E7-9581-4A8B-9E55-E8AD6F147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30A0-F3A3-40F4-BAFA-24D9C8470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058D-B0A1-4825-8A58-BEEBD6897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806F-9FE7-4E44-BFBD-28C4DFE3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C370-EC71-4DE8-B704-34D9688D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99C1-9E2B-4703-BAA3-59F4D997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51CC8-13FB-4EA0-A6FA-18DAF0F37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FBA1A-303D-4A6C-BB40-2442CD7E8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SP- Summer 2017-Day #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2556000" y="3213000"/>
            <a:ext cx="49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. Queen Ogbomo- T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ly 11,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es the scientific method always follow a linear process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ser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ulation of hypothesis, experiment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ion of results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ment of conclus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ime to Test it 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907560"/>
            <a:ext cx="8578800" cy="590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would you proceed to investigating the different bouncing balls before y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ould you think of fir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your group, come up with your process of investig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your plan of investig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d you follow the known scientific method? If not how did you approach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7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ing Students the art of scientific problem solving through Science fair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Science fair is a scientific activity that promotes scientific thin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It should be ”careful and deliberat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It involves taking things apart and putting them back toge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It involves simple explanations of theo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It should challenge students to solve probl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It allows students to take ownership of their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tting sta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3964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Teacher should introduce a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Give students a chance to solve it (in group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Reflect on their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Compare what they did to how a scientist might proc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Allow students to discuss the reliability of their procedures and if it can be repe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our 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In a group of 2 or 3 you will come up with a topic of interest or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Think of a catching title for your top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Come up with a question or questions to guide your investig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Employ a scientific method to investigate your top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Collect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Analyze your data and present your findings on a poster board by the 2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  <a:ea typeface="Comic Sans MS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Your work will be judg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nerating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 by brainstorming ideas from the world around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rate a list of questions that might be able to ans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if your questions are research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the Nature of sci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he Nature of 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 scientifically literate, science students should have deeper understandings of science that studying the Nature of Science (NOS) prov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tricky-tracks2"/>
          <p:cNvPicPr/>
          <p:nvPr/>
        </p:nvPicPr>
        <p:blipFill>
          <a:blip r:embed="rId1"/>
          <a:stretch/>
        </p:blipFill>
        <p:spPr>
          <a:xfrm>
            <a:off x="3048120" y="1143000"/>
            <a:ext cx="5562360" cy="54864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914400" y="1773360"/>
            <a:ext cx="570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rite an accou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 what you th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ppened bas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 what you s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822240" y="49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2230920" y="0"/>
            <a:ext cx="3847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NO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tricky-tracks3"/>
          <p:cNvPicPr/>
          <p:nvPr/>
        </p:nvPicPr>
        <p:blipFill>
          <a:blip r:embed="rId1"/>
          <a:stretch/>
        </p:blipFill>
        <p:spPr>
          <a:xfrm>
            <a:off x="1116000" y="260280"/>
            <a:ext cx="3290760" cy="54864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4826880" y="190512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your story chan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4880520" y="404640"/>
            <a:ext cx="384732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NO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s your story Chang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tricky-tracks1&amp;4"/>
          <p:cNvPicPr/>
          <p:nvPr/>
        </p:nvPicPr>
        <p:blipFill>
          <a:blip r:embed="rId1"/>
          <a:stretch/>
        </p:blipFill>
        <p:spPr>
          <a:xfrm>
            <a:off x="1447920" y="609480"/>
            <a:ext cx="2658960" cy="54864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4"/>
          <p:cNvSpPr/>
          <p:nvPr/>
        </p:nvSpPr>
        <p:spPr>
          <a:xfrm>
            <a:off x="4442400" y="2362320"/>
            <a:ext cx="4502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o you obser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o you inf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e what you think n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your earlier written accou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4210560" y="762120"/>
            <a:ext cx="38473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NO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me Aspects of the N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cientific knowledge is tentative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cientific knowledge has basis in empirical evid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ere is a difference between data and evidence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cientific laws and theories are separate kinds of scientific knowled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cientific knowledge is based upon observations and infere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cientific knowledge is heavily dependent upon theo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me Aspect of the N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cientific knowledge is created from human imagination and logical reaso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cientific knowledge can be obtained by a variety of scientific meth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cientific observations are inherently subjective based on interpret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cience is a human endeavor influenced by society and cul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all Teachers need to k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oid the mistaken impression that there is one distinctive approach common to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ience- a single “scientific” method—(NRC, 2012 in Haysom, 2013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Microsoft Office User</cp:lastModifiedBy>
  <dcterms:modified xsi:type="dcterms:W3CDTF">2017-07-13T17:07:38Z</dcterms:modified>
  <cp:revision>62</cp:revision>
  <dc:subject/>
  <dc:title>TITLE</dc:title>
</cp:coreProperties>
</file>