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E982-54D9-4DB6-BE50-23660CCD0C1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 should provide  various bouncing balls for students to investig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s need to know that a single scientific method does not work in all cases. Though it is important to learn the science process skills, it should be learned in context of what is being investiga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6117-4B91-4086-8EE8-FB610E22D43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ce fair projects should start with the teacher introducing a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F874-0D2C-445C-AE09-9565DB9EC94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kinds of problems do you encounter everyday that you will like to find a solution fo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in brainstorming  there are not bad ide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et you started think your kitchen, TV, toys, the enviro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4451-2907-47C0-806F-40BCBE2C857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Before delving into how to plan for science fairs, It is important to remind teachers that it is important to teach students about the N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eachers what are your views about the nature of science and is there a single defini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9E83-88FC-49BF-A0B1-D36E85F0184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80D9-6222-41FD-B620-5970223B83C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your definition of the scientific method or how have you described it to your stud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it always follow a linear process such as obs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6822-096F-4B02-954F-C9D03C75D3E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E1D9-BA50-41F3-9DDE-9752CDFB6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019E-8321-43FC-A1E3-218791AD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3BB4-6488-488E-9B64-173030705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EE52-476D-4CD6-893A-C9472EC24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42FF-F00A-4ADB-81DF-29E4FB876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C3A2-562B-4212-97CB-303F97E5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4948-292D-46A8-97ED-10707598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0975-BF4D-41AE-9824-B8D07815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CBE7-6448-44AA-8B99-1CE4DA61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FCEF5-B890-467D-8A79-E5A77915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E6B3-53BE-4BA1-ABAF-98B35F68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D008-A740-4AF8-B7F4-3B0BB207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B876-3025-46C3-B8EA-21584FD8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804D-2F99-4BFD-AD6B-9085B462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55AB-9245-48D9-9718-334D0268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9105-DBB9-472D-AEFF-F19E610CA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4ED28-2833-41A8-8F92-B74C90558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3C5B-D6B0-4C28-B93F-02F3803E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DA41-5374-4506-9893-62627360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70F1-C086-42EE-973B-FDCD43DE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DB17-CD4D-4253-A9CD-F2C1ACBE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2A25-3169-4D65-A779-1398F768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3C28-4C62-4B75-AB5D-C3ECDD2B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53B9-0F66-4D75-9A74-511036BF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AACF-311E-4721-A752-60159E698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6EE9-A88C-4C18-8774-4B1E34E28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SP- Summer 2017-Day #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2556000" y="321300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. Queen Ogbomo- T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ly 11,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es the scientific method always follow a linear process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ulation of hypothesis, experiment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of results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ment of conclus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me to Test it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907560"/>
            <a:ext cx="8578800" cy="590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ould you proceed to investigating the different bouncing balls before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ould you think of fir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your group, come up with your process of investig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your plan of investig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d you follow the known scientific method? If not how did you approach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ing Students the art of scientific problem solving through Science fair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Science fair is a scientific activity that promotes scientific thin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It should be ”careful and deliberat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It involves taking things apart and putting them back toge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It involves simple explanations of theo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It should challenge students to solve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It allows students to take ownership of their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tting sta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3964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eacher should introduce a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Give students a chance to solve it (in group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Reflect on their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Compare what they did to how a scientist might proc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Allow students to discuss the reliability of their procedures and if it can be repe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our 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In a group of 2 or 3 you will come up with a topic of interest or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ink of a catching title for your top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Come up with a question or questions to guide your investig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Employ a scientific method to investigate your top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Collect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Analyze your data and present your findings on a poster board by the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  <a:ea typeface="Comic Sans MS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Your work will be judg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nerating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by brainstorming ideas from the world around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te a list of questions that might be able to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if your questions are research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the Nature of sci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he Nature of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scientifically literate, science students should have deeper understandings of science that studying the Nature of Science (NOS) prov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tricky-tracks2"/>
          <p:cNvPicPr/>
          <p:nvPr/>
        </p:nvPicPr>
        <p:blipFill>
          <a:blip r:embed="rId1"/>
          <a:stretch/>
        </p:blipFill>
        <p:spPr>
          <a:xfrm>
            <a:off x="3048120" y="1143000"/>
            <a:ext cx="5562360" cy="54864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914400" y="1773360"/>
            <a:ext cx="570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rite an acco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what you th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ppened ba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 what you s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822240" y="49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2230920" y="0"/>
            <a:ext cx="384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O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tricky-tracks3"/>
          <p:cNvPicPr/>
          <p:nvPr/>
        </p:nvPicPr>
        <p:blipFill>
          <a:blip r:embed="rId1"/>
          <a:stretch/>
        </p:blipFill>
        <p:spPr>
          <a:xfrm>
            <a:off x="1116000" y="260280"/>
            <a:ext cx="3290760" cy="54864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4826880" y="190512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your story chan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4880520" y="404640"/>
            <a:ext cx="384732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O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s your story Chang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tricky-tracks1&amp;4"/>
          <p:cNvPicPr/>
          <p:nvPr/>
        </p:nvPicPr>
        <p:blipFill>
          <a:blip r:embed="rId1"/>
          <a:stretch/>
        </p:blipFill>
        <p:spPr>
          <a:xfrm>
            <a:off x="1447920" y="609480"/>
            <a:ext cx="2658960" cy="54864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4442400" y="2362320"/>
            <a:ext cx="450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 you obser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 you inf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 what you think n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your earlier written accou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4210560" y="762120"/>
            <a:ext cx="38473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O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me Aspects of the 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ientific knowledge is tentative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ientific knowledge has basis in empirical evid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re is a difference between data and evidence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ientific laws and theories are separate kinds of scientific knowled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ientific knowledge is based upon observations and infer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ientific knowledge is heavily dependent upon theo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me Aspect of the 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ientific knowledge is created from human imagination and logical reaso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ientific knowledge can be obtained by a variety of scientific meth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ientific observations are inherently subjective based on interpret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ience is a human endeavor influenced by society and cul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all Teachers need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the mistaken impression that there is one distinctive approach common to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ience- a single “scientific” method—(NRC, 2012 in Haysom, 201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icrosoft Office User</cp:lastModifiedBy>
  <dcterms:modified xsi:type="dcterms:W3CDTF">2017-07-13T17:07:38Z</dcterms:modified>
  <cp:revision>62</cp:revision>
  <dc:subject/>
  <dc:title>TITLE</dc:title>
</cp:coreProperties>
</file>