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5F70-585A-44E5-82F1-3B8A4474DCA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 should provide  various bouncing balls for students to investig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s need to know that a single scientific method does not work in all cases. Though it is important to learn the science process skills, it should be learned in context of what is being investig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0939-1EA4-486E-823E-94A2D5BE805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fair projects should start with the teacher introducing a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F314-DA83-4197-85EF-90756E2E29B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s of problems do you encounter everyday that you will like to find a solution f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in brainstorming  there are not bad id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you started think your kitchen, TV, toys, the enviro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308D-CE2A-4032-9B7D-2E81496DB01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Before delving into how to plan for science fairs, It is important to remind teachers that it is important to teach students about the N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eachers what are your views about the nature of science and is there a single defini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A4CA-791F-4EB2-8515-041E29FC5D3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D798-C1D2-48F8-98E9-425B3C65E4A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your definition of the scientific method or how have you described it to your stud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it always follow a linear process such as obs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1B4E-A1B2-4FE1-8418-6AD7060E8EE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FE57-B3C7-49E7-810F-D4156A4D2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5B97-130D-431D-8822-77B11398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A9DC-EEE9-4F9D-93B4-C6241E9B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93FF-E225-45BB-B7C3-0001C0ED8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6591-2D5B-4DA7-9BBC-9F35D683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5645-B5BB-4A12-8820-FA1D4946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751E-099F-4579-A539-8C6FAFC5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C280-2011-4977-8E4C-7CB58DFD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767C-C0E3-46C2-BCE2-15AADE5C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63D9-E691-45E9-B6FE-2D6EFA03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DC81-6AAF-45F8-8C8F-C4CF1159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2619-0F86-4BF5-B95C-DA6747DE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8A21-889C-4296-8518-6BB6E0CE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0ED9-FA82-4748-916C-026C65A6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C589-ABD4-40B2-B151-5C9BB967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7918-C2D5-4822-AE1D-3FFE69EE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72E1-90FD-4E7C-9B66-4423CF578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B403-ECC0-413F-8423-DA96779B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623C-604E-418C-B895-01D15B03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A0EB-4220-48DE-A9F7-FA4E08CC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FBDD-E283-4C7F-A82D-FCF83CCC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03B5-CEB8-4ACF-8D14-B37DA95E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259A-3726-4D9E-90E3-2B70752E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C48B-0DDD-4A5D-8DF0-08B20E3E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B8FE-3E75-4177-A041-32256ED05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88AC-B70F-400F-9E91-ED211AA62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SP- Summer 2017-Day #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2556000" y="321300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. Queen Ogbomo- T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ly 11,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es the scientific method always follow a linear process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ulation of hypothesis, experiment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of result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ment of conclu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me to Test it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907560"/>
            <a:ext cx="8578800" cy="59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ould you proceed to investigating the different bouncing balls before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ould you think of fir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your group, come up with your process of investig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your plan of investig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you follow the known scientific method? If not how did you approach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 Students the art of scientific problem solving through Science fair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Science fair is a scientific activity that promotes scientific thin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t should be ”careful and deliberat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t involves taking things apart and putting them back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t involves simple explanations of the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t should challenge students to solve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t allows students to take ownership of their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3964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eacher should introduce a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Give students a chance to solve it (in group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Reflect on their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Compare what they did to how a scientist might proc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llow students to discuss the reliability of their procedures and if it can be rep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n a group of 2 or 3 you will come up with a topic of interest or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ink of a catching title for your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Come up with a question or questions to guide your investig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Employ a scientific method to investigate your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Collect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nalyze your data and present your findings on a poster board by the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  <a:ea typeface="Comic Sans MS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Your work will be jud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ratin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by brainstorming ideas from the world around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te a list of questions that might be able to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if your questions are research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the Nature of sci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he Nature of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scientifically literate, science students should have deeper understandings of science that studying the Nature of Science (NOS) prov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tricky-tracks2"/>
          <p:cNvPicPr/>
          <p:nvPr/>
        </p:nvPicPr>
        <p:blipFill>
          <a:blip r:embed="rId1"/>
          <a:stretch/>
        </p:blipFill>
        <p:spPr>
          <a:xfrm>
            <a:off x="3048120" y="1143000"/>
            <a:ext cx="5562360" cy="54864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914400" y="1773360"/>
            <a:ext cx="570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ite an acco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what you th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ppened ba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 what you s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822240" y="49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2230920" y="0"/>
            <a:ext cx="384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O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tricky-tracks3"/>
          <p:cNvPicPr/>
          <p:nvPr/>
        </p:nvPicPr>
        <p:blipFill>
          <a:blip r:embed="rId1"/>
          <a:stretch/>
        </p:blipFill>
        <p:spPr>
          <a:xfrm>
            <a:off x="1116000" y="260280"/>
            <a:ext cx="3290760" cy="54864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4826880" y="190512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your story chan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4880520" y="404640"/>
            <a:ext cx="38473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O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 your story Chang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tricky-tracks1&amp;4"/>
          <p:cNvPicPr/>
          <p:nvPr/>
        </p:nvPicPr>
        <p:blipFill>
          <a:blip r:embed="rId1"/>
          <a:stretch/>
        </p:blipFill>
        <p:spPr>
          <a:xfrm>
            <a:off x="1447920" y="609480"/>
            <a:ext cx="2658960" cy="54864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4442400" y="2362320"/>
            <a:ext cx="450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you obser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you inf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what you think n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your earlier written accou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210560" y="762120"/>
            <a:ext cx="38473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O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me Aspects of the 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knowledge is tentativ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knowledge has basis in empirical evi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re is a difference between data and evidenc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laws and theories are separate kinds of scientific knowl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knowledge is based upon observations and infer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knowledge is heavily dependent upon the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me Aspect of the 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knowledge is created from human imagination and logical reaso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knowledge can be obtained by a variety of scientific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observations are inherently subjective based on interpret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ce is a human endeavor influenced by society and 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ll Teachers need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the mistaken impression that there is one distinctive approach common to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ce- a single “scientific” method—(NRC, 2012 in Haysom, 201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icrosoft Office User</cp:lastModifiedBy>
  <dcterms:modified xsi:type="dcterms:W3CDTF">2017-07-13T17:07:38Z</dcterms:modified>
  <cp:revision>62</cp:revision>
  <dc:subject/>
  <dc:title>TITLE</dc:title>
</cp:coreProperties>
</file>