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735F-DD6C-436E-B1EA-E0C5CB0FBAA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should provide  various bouncing balls for students to investig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s need to know that a single scientific method does not work in all cases. Though it is important to learn the science process skills, it should be learned in context of what is being investig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2D30-CE6B-4DDA-B56E-10CD78ABC99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fair projects should start with the teacher introducing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014A-6542-4358-A545-45432128A94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s of problems do you encounter everyday that you will like to find a solution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in brainstorming  there are not bad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you started think your kitchen, TV, toys, the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DE84-724D-4224-92BF-C05A88A403F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Before delving into how to plan for science fairs, It is important to remind teachers that it is important to teach students about the N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eachers what are your views about the nature of science and is there a single defini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1E53-C357-4AEB-BAEE-BB5280230F5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C454-D6BE-400C-A622-3A7587A68E3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your definition of the scientific method or how have you described it to your stud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it always follow a linear process such as ob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192A-841A-416F-8EBB-20D9A7E1C7E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AB4B-5FF6-417F-8A62-79745CAA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586D-0229-4B50-8546-5548C45F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4584-6281-4E2E-84B3-E06A22C1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1E0-8398-4AF0-8C0A-9DBF8455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E546-E9DD-4A00-AF5E-A9F72FED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0034-B389-4304-AFD2-EEEF47C9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E93B-B291-4429-A351-DBDF5BAA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93F1-C3D8-4533-8875-1830FC34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30A4-7269-43AD-8BC2-EA955DE5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2203-34EF-4424-A15D-28CD92A7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6DA8-A6DE-47C0-B270-3C2E1574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D2D3-0B38-49D5-AEFE-F856CC6B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BDCB-6B7D-4702-8767-B10BD670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C35E-1AC3-4222-8AEF-2391B3C2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93A8-DB36-421E-8CCA-882CAD47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921B-7491-44C6-BFDC-109E4B53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70CE-9C6E-4E0B-9CF4-B60F126B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C75-5D90-4F0F-B584-62BA87FC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9445-CA60-4BB9-A92D-58750A6C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3367-1DA4-467C-8823-757BE3B8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81E4-5A02-4B06-8E2A-D36C1948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6B10-8727-4564-82A5-73153A7C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2ED9-F8C0-4AA6-9FF5-35A87FD9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CAB4-BD0C-406D-99C7-870FEE27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98F1-DB4E-4ED4-99B6-AE39A18AC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009E-376B-48F7-B787-62511EFC7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SP- Summer 2017-Day 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2556000" y="321300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Queen Ogbomo- T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11,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es the scientific method always follow a linear proces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ulation of hypothesis, experiment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of result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 of conclu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me to Test it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907560"/>
            <a:ext cx="85788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 proceed to investigating the different bouncing balls befo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ould you think of fir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your group, come up with your process of investi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plan of investig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you follow the known scientific method? If not how did you approach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Students the art of scientific problem solving through Science fair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cience fair is a scientific activity that promotes scientific thin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should be ”careful and deliberat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involves taking things apart and putting them back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involves simple explanations of the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should challenge students to solve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allows students to take ownership of their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964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eacher should introduce a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Give students a chance to solve it (in group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Reflect on their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ompare what they did to how a scientist might proc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llow students to discuss the reliability of their procedures and if it can be rep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n a group of 2 or 3 you will come up with a topic of interest or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ink of a catching title for your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ome up with a question or questions to guide your investi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Employ a scientific method to investigate your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ollect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nalyze your data and present your findings on a poster board by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  <a:ea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Your work will be jud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tin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by brainstorming ideas from the world around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te a list of questions that might be able to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if your questions are research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e Nature of sci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he Nature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cientifically literate, science students should have deeper understandings of science that studying the Nature of Science (NOS) prov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tricky-tracks2"/>
          <p:cNvPicPr/>
          <p:nvPr/>
        </p:nvPicPr>
        <p:blipFill>
          <a:blip r:embed="rId1"/>
          <a:stretch/>
        </p:blipFill>
        <p:spPr>
          <a:xfrm>
            <a:off x="3048120" y="1143000"/>
            <a:ext cx="556236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914400" y="1773360"/>
            <a:ext cx="570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 an acco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what you 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ppened ba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what you s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822240" y="49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230920" y="0"/>
            <a:ext cx="384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tricky-tracks3"/>
          <p:cNvPicPr/>
          <p:nvPr/>
        </p:nvPicPr>
        <p:blipFill>
          <a:blip r:embed="rId1"/>
          <a:stretch/>
        </p:blipFill>
        <p:spPr>
          <a:xfrm>
            <a:off x="1116000" y="260280"/>
            <a:ext cx="3290760" cy="5486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4826880" y="190512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your story 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880520" y="404640"/>
            <a:ext cx="38473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your story Chang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tricky-tracks1&amp;4"/>
          <p:cNvPicPr/>
          <p:nvPr/>
        </p:nvPicPr>
        <p:blipFill>
          <a:blip r:embed="rId1"/>
          <a:stretch/>
        </p:blipFill>
        <p:spPr>
          <a:xfrm>
            <a:off x="1447920" y="609480"/>
            <a:ext cx="2658960" cy="5486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4442400" y="2362320"/>
            <a:ext cx="450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you obser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you inf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what you think n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your earlier written accou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210560" y="762120"/>
            <a:ext cx="3847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 Aspects of the 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is tentativ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has basis in empirical ev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re is a difference between data and evidenc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laws and theories are separate kinds of scientific knowl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is based upon observations and infer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is heavily dependent upon the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 Aspect of the 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is created from human imagination and logical reaso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can be obtained by a variety of scientific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observations are inherently subjective based on interpre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ce is a human endeavor influenced by society and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ll Teachers need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the mistaken impression that there is one distinctive approach common to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- a single “scientific” method—(NRC, 2012 in Haysom, 201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icrosoft Office User</cp:lastModifiedBy>
  <dcterms:modified xsi:type="dcterms:W3CDTF">2017-07-13T17:07:38Z</dcterms:modified>
  <cp:revision>62</cp:revision>
  <dc:subject/>
  <dc:title>TITLE</dc:title>
</cp:coreProperties>
</file>