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ACD5-D72B-4F4A-967D-A1FFFF462A3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should provide  various bouncing balls for students to investi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need to know that a single scientific method does not work in all cases. Though it is important to learn the science process skills, it should be learned in context of what is being investig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3C2C-3958-44F8-8583-D32D65ACE6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fair projects should start with the teacher introduc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8912-6177-4EA0-BA2A-5F7C171BCC3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problems do you encounter everyday that you will like to find a solution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 brainstorming  there are not bad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 started think your kitchen, TV, toys, the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52C3-073C-4B5E-8DA3-46AC76842C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Before delving into how to plan for science fairs, It is important to remind teachers that it is important to teach students about the N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eachers what are your views about the nature of science and is there a single defini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A3A8-589C-4616-B092-1CB06B6DB95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23B8-484A-4075-BB08-043E20A19E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our definition of the scientific method or how have you described it to your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it always follow a linear process such as ob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0897-4927-490E-8634-C4A2F3AFAF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67B-AFE3-464A-98AB-B7C47212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2F1-117E-4EBA-83E0-1C8500A0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57F-D31A-4D42-9570-A53943E3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84D-9C92-4E18-9D0B-BBD13CA9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736F-42F5-4287-8D23-5F4AD101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7408-65F8-4E43-9207-6A541B80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6FD8-FD0A-451D-8265-8B775B50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466A-064D-4D30-BF42-85EDB637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7518-0181-4A03-8A3C-4007F79B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A87B-1ACE-4819-A6E2-01B25219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118E-0553-4B30-8ECA-0EC189B3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39A-5E12-4516-B78C-8D9433BE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DCCA-4665-491E-B206-F10CFAE0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DF2A-6C23-4963-93E1-4FEAD666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BE8C-6ACE-4443-8810-76213460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065D-4016-46BA-AF5D-0515A2F5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0C56-8202-4C88-ABA4-E9B1472D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A4E-690F-4C38-8DF0-DC277F50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923-DDFB-48D2-B014-60D6643F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84B3-D090-45F3-8468-CA910AD0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EF7-2C0D-47FB-81B0-DB6D6B0D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6D9-B481-4F65-87D4-6D8F2F15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FEC-87F6-4904-87D2-21C851F8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ACA-A665-47A7-877C-D12ECEBA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0291-DE94-4005-88C5-7D927688C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905A-723D-47BA-B1FB-EA332E966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SP- Summer 2017-Day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556000" y="321300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Queen Ogbomo- T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1,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es the scientific method always follow a linear proces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tion of hypothesis, experim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result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conclu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to Test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07560"/>
            <a:ext cx="85788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proceed to investigating the different bouncing balls befo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uld you think of fir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group, come up with your process of invest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lan of investig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you follow the known scientific method? If not how did you approach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art of scientific problem solving through Science fai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cience fair is a scientific activity that promotes scientific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should be ”careful and delibera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involves taking things apart and putting them back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involves simple explanations of the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should challenge students to solv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t allows students to take ownership of thei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96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eacher should introduce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Give students a chance to solve it (in group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flect on their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pare what they did to how a scientist might proc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low students to discuss the reliability of their procedures and if it can be rep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n a group of 2 or 3 you will come up with a topic of interest or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ink of a catching title for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me up with a question or questions to guide your invest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Employ a scientific method to investigate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llect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nalyze your data and present your findings on a poster board by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  <a:ea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Your work will be jud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tin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by brainstorming ideas from the world around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a list of questions that might be able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if your questions are research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Nature of sci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he Natur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scientifically literate, science students should have deeper understandings of science that studying the Nature of Science (NOS) prov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tricky-tracks2"/>
          <p:cNvPicPr/>
          <p:nvPr/>
        </p:nvPicPr>
        <p:blipFill>
          <a:blip r:embed="rId1"/>
          <a:stretch/>
        </p:blipFill>
        <p:spPr>
          <a:xfrm>
            <a:off x="3048120" y="1143000"/>
            <a:ext cx="556236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914400" y="1773360"/>
            <a:ext cx="57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an acc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what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ened 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what you 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22240" y="49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30920" y="0"/>
            <a:ext cx="384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tricky-tracks3"/>
          <p:cNvPicPr/>
          <p:nvPr/>
        </p:nvPicPr>
        <p:blipFill>
          <a:blip r:embed="rId1"/>
          <a:stretch/>
        </p:blipFill>
        <p:spPr>
          <a:xfrm>
            <a:off x="1116000" y="260280"/>
            <a:ext cx="3290760" cy="5486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4826880" y="1905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your story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880520" y="404640"/>
            <a:ext cx="38473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your story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tricky-tracks1&amp;4"/>
          <p:cNvPicPr/>
          <p:nvPr/>
        </p:nvPicPr>
        <p:blipFill>
          <a:blip r:embed="rId1"/>
          <a:stretch/>
        </p:blipFill>
        <p:spPr>
          <a:xfrm>
            <a:off x="1447920" y="609480"/>
            <a:ext cx="265896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4442400" y="2362320"/>
            <a:ext cx="450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obser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in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what you think 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your earlier written accou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210560" y="762120"/>
            <a:ext cx="3847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Aspects of the 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tentativ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has basis in empirical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is a difference between data and evidenc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laws and theories are separate kinds of scientific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based upon observations and in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heavily dependent upon the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Aspect of the 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is created from human imagination and logical rea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knowledge can be obtained by a variety of scientific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observations are inherently subjective based on interpre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ce is a human endeavor influenced by society and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ll Teachers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the mistaken impression that there is one distinctive approach common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- a single “scientific” method—(NRC, 2012 in Haysom, 201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icrosoft Office User</cp:lastModifiedBy>
  <dcterms:modified xsi:type="dcterms:W3CDTF">2017-07-13T17:07:38Z</dcterms:modified>
  <cp:revision>62</cp:revision>
  <dc:subject/>
  <dc:title>TITLE</dc:title>
</cp:coreProperties>
</file>