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8E6-7EDD-461E-AEAB-3040A58794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should provide  various bouncing balls for students to investi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need to know that a single scientific method does not work in all cases. Though it is important to learn the science process skills, it should be learned in context of what is being investig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F52-C202-44E6-AB69-E8B4892438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fair projects should start with the teacher introduc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1408-D68F-4DD3-87DB-671DD9176A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problems do you encounter everyday that you will like to find a solution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 brainstorming  there are not bad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 started think your kitchen, TV, toys, the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7867-C056-421C-9D3C-E111CC1991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efore delving into how to plan for science fairs, It is important to remind teachers that it is important to teach students about the N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achers what are your views about the nature of science and is there a single defini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D263-A8C1-4A31-AFEA-597CA5FBE6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58BB-C982-4478-96A4-54FA8853AA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definition of the scientific method or how have you described it to your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t always follow a linear process such as ob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0A62-4A39-4633-AAC9-3A6B943742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936-3F7E-4878-82FC-1B919EE7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994-EF02-4BF3-8085-14EED7DE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2B1-A2A9-4F09-ACDE-94D27D68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0C9-E8DF-4D0D-AAF7-96F7E99A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3178-8BEB-49D6-8E77-C1A6F470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13AF-1AB2-4925-9734-277AFF7B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7815-5F7F-4E16-816A-D623E43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85AA-A432-452C-9DAF-B23B436A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9D27-7B0D-48AE-AFAD-B628A582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D67F-EDC3-4506-97A3-5F187E3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256-8AAC-4840-94F9-CD74047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2B4-7C81-4ADA-9183-2B2DC7CF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71E8-56A6-485F-B02C-C5DCA48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541C-872A-47B5-A167-C1A4FA0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C6AA-7BE1-4102-AFC5-ECE4C4B2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02E3-6410-41EF-8357-9B82727E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F94C-8BD8-4F88-A0BC-7C953F4B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CEB-9125-44B5-B154-FC997990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86F-94D9-4D62-87BE-024607F9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08F-64C9-4BC8-8001-DBBCB35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C23-3D50-46D2-B20D-74171B4F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D39-3059-4E7F-B659-B69C5B6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C76-DE83-447F-B33B-AE9F29F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166-7A06-436A-AC82-D0B4547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27A-7A26-4263-8CDB-72F8D327E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6FD-E7D1-4CC3-90AB-9774B916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P- Summer 2017-Day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56000" y="32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Queen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1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scientific method always follow a linear proces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 of hypothesis, 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resul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o Test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5788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proceed to investigating the different bouncing balls befo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think of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group, come up with your process of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lan of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ollow the known scientific method? If not how did you approach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art of scientific problem solving through Science fai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cience fair is a scientific activity that promotes scientific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be ”careful and deliber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taking things apart and putting them bac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simple explanations of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challenge students to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allows students to take ownership of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acher should introduc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ive students a chance to solve it (in grou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flect on thei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are what they did to how a scientist might pro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low students to discuss the reliability of their procedures and if it can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a group of 2 or 3 you will come up with a topic of interest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ink of a catching title for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e up with a question or questions to guide your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Employ a scientific method to investigate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llec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alyze your data and present your findings on a poster board by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Your work will be jud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t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y brainstorming ideas from the world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questions that might be able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f your questions are research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Nature of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cientifically literate, science students should have deeper understandings of science that studying the Nature of Science (NOS) 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ricky-tracks2"/>
          <p:cNvPicPr/>
          <p:nvPr/>
        </p:nvPicPr>
        <p:blipFill>
          <a:blip r:embed="rId1"/>
          <a:stretch/>
        </p:blipFill>
        <p:spPr>
          <a:xfrm>
            <a:off x="3048120" y="11430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914400" y="1773360"/>
            <a:ext cx="57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n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ened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what you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30920" y="0"/>
            <a:ext cx="384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icky-tracks3"/>
          <p:cNvPicPr/>
          <p:nvPr/>
        </p:nvPicPr>
        <p:blipFill>
          <a:blip r:embed="rId1"/>
          <a:stretch/>
        </p:blipFill>
        <p:spPr>
          <a:xfrm>
            <a:off x="1116000" y="260280"/>
            <a:ext cx="3290760" cy="548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26880" y="190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stor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880520" y="404640"/>
            <a:ext cx="384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your story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tricky-tracks1&amp;4"/>
          <p:cNvPicPr/>
          <p:nvPr/>
        </p:nvPicPr>
        <p:blipFill>
          <a:blip r:embed="rId1"/>
          <a:stretch/>
        </p:blipFill>
        <p:spPr>
          <a:xfrm>
            <a:off x="1447920" y="609480"/>
            <a:ext cx="265896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442400" y="23623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in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what you think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your earlier written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210560" y="762120"/>
            <a:ext cx="384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s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tentativ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has basis in empirical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data and evidenc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laws and theories are separate kinds of scientific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based upon observations and i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heavily dependent upon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created from human imagination and logical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can be obtained by a variety of scientific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observations are inherently subjective based on interpre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 is a human endeavor influenced by society and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ll Teachers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he mistaken impression that there is one distinctive approach commo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- a single “scientific” method—(NRC, 2012 in Haysom, 20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icrosoft Office User</cp:lastModifiedBy>
  <dcterms:modified xsi:type="dcterms:W3CDTF">2017-07-13T17:07:38Z</dcterms:modified>
  <cp:revision>62</cp:revision>
  <dc:subject/>
  <dc:title>TITLE</dc:title>
</cp:coreProperties>
</file>