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9.png" ContentType="image/png"/>
  <Override PartName="/ppt/media/image8.png" ContentType="image/png"/>
  <Override PartName="/ppt/media/image14.jpeg" ContentType="image/jpeg"/>
  <Override PartName="/ppt/media/image7.png" ContentType="image/pn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6.png" ContentType="image/png"/>
  <Override PartName="/ppt/media/image11.png" ContentType="image/pn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580F1-7D3C-43A6-BECA-6C5F94C2A746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w the vide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is the rubber band toy like  the wind up to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BF4F4-14BA-4870-8645-55860ED76076}" type="slidenum">
              <a:rPr b="0" lang="en-US" sz="1200" spc="-1" strike="noStrike">
                <a:solidFill>
                  <a:srgbClr val="eaeaea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B4FC1-B0BA-4045-9351-5B060986C8C4}" type="slidenum">
              <a:rPr b="0" lang="en-US" sz="1200" spc="-1" strike="noStrike">
                <a:solidFill>
                  <a:srgbClr val="eaeaea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is lesson students will observe the motion of a wind up toy. As you read ask the above ques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ubber band can be a spring because it stretch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udents are also engaged in the science and engineering practice of constructing explanations and designing solu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EA2AD-6768-4F85-B5FE-C0C4F6495189}" type="slidenum">
              <a:rPr b="0" lang="en-US" sz="1200" spc="-1" strike="noStrike">
                <a:solidFill>
                  <a:srgbClr val="eaeaea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the questions on page 103 to guide the discussion on the explo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98415-97B8-448A-A2CF-AD670D3D3C30}" type="slidenum">
              <a:rPr b="0" lang="en-US" sz="1200" spc="-1" strike="noStrike">
                <a:solidFill>
                  <a:srgbClr val="eaeaea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ll students they are going to find out how the spring inside the robot makes it mo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d aloud pages 4-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the activites on pages 8-1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ces- two pulling fo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7A56E-8496-4B5D-89D8-B8E3EE195353}" type="slidenum">
              <a:rPr b="0" lang="en-US" sz="1200" spc="-1" strike="noStrike">
                <a:solidFill>
                  <a:srgbClr val="eaeaea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4C404-D818-40C7-8580-5FCE3861684B}" type="slidenum">
              <a:rPr b="0" lang="en-US" sz="1200" spc="-1" strike="noStrike">
                <a:solidFill>
                  <a:srgbClr val="eaeaea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 sloping surface, such as a ramp. An inclined plane can be used to alter the effort and distance involved in doing work, such as lifting loads. The trade-off is that an object must be moved a longer distance than if it was lifted straight up, but less force is needed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can use this machine to move an object to a lower or higher place.  Inclined planes make the work of moving things easier.  You would need less energy and force to move objects with an inclined plane.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A7E0A-CBF5-49A4-92B8-B28124AE3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774C3-7405-4F09-8B6F-9D6E8C617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E9C6D-156B-4CBC-8C33-BEF128192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1AB31-901C-490E-9637-87FB24ACC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628A9-294F-4F24-A5C1-37871E176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7CFEA-501F-4431-A213-9B974C719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C485B-6FE8-4171-AE4C-ABE74317B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A9A64-F474-4080-804E-982982A1B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37FF2-4E3B-4C24-A110-7CEDDE3A3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B18EB-3C27-4753-9372-AF053FE3F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C5C3C-11C7-44A7-BD48-88C288EF0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54133-6782-43E2-B39D-B777C1F8D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2FF39-0557-4856-B261-A98F305AC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CEC8D-E1A5-4EB7-821A-22BA20846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76446-9557-4BFD-BDA5-1B92D1D20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34FFD-D4DC-4E8D-853E-503E7C7A4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AE384-0A1E-4C5F-A935-69C885A54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D2839-723D-4DD7-8566-E2F4B7F57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65824-BB68-416F-BB39-E3BF0A239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8DC3A-F4D2-4F42-9FEC-E63068BA4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E4915-9427-40E7-9DA5-2466ADDE6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59143-F291-495D-8A47-26F9A7F57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40B14-0EC8-49D5-906E-39B7A798A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C1E47-FACB-4833-8ED3-57473B16C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026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" name="Freeform 1027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" name="Freeform 1028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" name="Freeform 1029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" name="Freeform 1030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" name="Freeform 1031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" name="Freeform 1032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7" name="Freeform 1033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8" name="Picture 1034" descr="Facbanna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2CE88-4A85-4B5F-85BB-F967ACB2CEAE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2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1" name="Freeform 3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2" name="Freeform 4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3" name="Freeform 5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4" name="Freeform 6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5" name="Freeform 7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6" name="Freeform 8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7" name="Freeform 9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8" name="Freeform 10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59" name="Picture 11" descr="Facbanna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6F369-E021-457B-AF72-226D4E3E0D51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s://www.youtube.com/watch?v=T8MYymAIumo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bd189"/>
                </a:solidFill>
                <a:latin typeface="Arial"/>
              </a:rPr>
              <a:t>Wind it Up</a:t>
            </a:r>
            <a:endParaRPr b="0" lang="en-US" sz="72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9" name="Text Box 9"/>
          <p:cNvSpPr/>
          <p:nvPr/>
        </p:nvSpPr>
        <p:spPr>
          <a:xfrm>
            <a:off x="3276720" y="2362320"/>
            <a:ext cx="3962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aeaea"/>
                </a:solidFill>
                <a:latin typeface="Times New Roman"/>
              </a:rPr>
              <a:t>PP-STEM</a:t>
            </a:r>
            <a:endParaRPr b="0" lang="en-US" sz="5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laborat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ind up Racer”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ime to build your own wind up racer( A spool car race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https://www.youtube.com/watch?v=k8yZwrEaXiw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d189"/>
                </a:solidFill>
                <a:latin typeface="Arial"/>
              </a:rPr>
              <a:t>Evaluate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974880" y="2165040"/>
            <a:ext cx="3673440" cy="19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Use the Spool Car Instruction Manua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9" name="AutoShape 5"/>
          <p:cNvSpPr/>
          <p:nvPr/>
        </p:nvSpPr>
        <p:spPr>
          <a:xfrm>
            <a:off x="2006640" y="223920"/>
            <a:ext cx="9360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50" name="AutoShape 5"/>
          <p:cNvSpPr/>
          <p:nvPr/>
        </p:nvSpPr>
        <p:spPr>
          <a:xfrm>
            <a:off x="3530520" y="-225360"/>
            <a:ext cx="93600" cy="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151" name="Picture 11" descr="mage result for spool car images"/>
          <p:cNvPicPr/>
          <p:nvPr/>
        </p:nvPicPr>
        <p:blipFill>
          <a:blip r:embed="rId1"/>
          <a:stretch/>
        </p:blipFill>
        <p:spPr>
          <a:xfrm>
            <a:off x="5410080" y="4118040"/>
            <a:ext cx="3124440" cy="23637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7" descr="mage result for spool car images"/>
          <p:cNvPicPr/>
          <p:nvPr/>
        </p:nvPicPr>
        <p:blipFill>
          <a:blip r:embed="rId2"/>
          <a:stretch/>
        </p:blipFill>
        <p:spPr>
          <a:xfrm>
            <a:off x="1328760" y="4568760"/>
            <a:ext cx="2514600" cy="18781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3" descr="mage result for spool car images"/>
          <p:cNvPicPr/>
          <p:nvPr/>
        </p:nvPicPr>
        <p:blipFill>
          <a:blip r:embed="rId3"/>
          <a:stretch/>
        </p:blipFill>
        <p:spPr>
          <a:xfrm>
            <a:off x="4191120" y="457200"/>
            <a:ext cx="4276440" cy="30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2"/>
          <p:cNvSpPr/>
          <p:nvPr/>
        </p:nvSpPr>
        <p:spPr>
          <a:xfrm>
            <a:off x="2081160" y="622440"/>
            <a:ext cx="4516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cab40"/>
                </a:solidFill>
                <a:latin typeface="Arial Narrow"/>
              </a:rPr>
              <a:t>Feature Books</a:t>
            </a:r>
            <a:endParaRPr b="0" lang="en-US" sz="6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11" name="AutoShape 10"/>
          <p:cNvSpPr/>
          <p:nvPr/>
        </p:nvSpPr>
        <p:spPr>
          <a:xfrm>
            <a:off x="2057400" y="3124080"/>
            <a:ext cx="118116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112" name="Picture 14" descr="mage result for clink by kelly dipucchio"/>
          <p:cNvPicPr/>
          <p:nvPr/>
        </p:nvPicPr>
        <p:blipFill>
          <a:blip r:embed="rId1"/>
          <a:stretch/>
        </p:blipFill>
        <p:spPr>
          <a:xfrm>
            <a:off x="5867280" y="1936800"/>
            <a:ext cx="2124360" cy="27399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6" descr="mage result for making machines with springs by chris oxlade image"/>
          <p:cNvPicPr/>
          <p:nvPr/>
        </p:nvPicPr>
        <p:blipFill>
          <a:blip r:embed="rId2"/>
          <a:stretch/>
        </p:blipFill>
        <p:spPr>
          <a:xfrm>
            <a:off x="1504800" y="3067200"/>
            <a:ext cx="2286000" cy="264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Lesson Objectives: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1047600" y="2133720"/>
          <a:ext cx="7944120" cy="4022640"/>
        </p:xfrm>
        <a:graphic>
          <a:graphicData uri="http://schemas.openxmlformats.org/drawingml/2006/table">
            <a:tbl>
              <a:tblPr/>
              <a:tblGrid>
                <a:gridCol w="2648160"/>
                <a:gridCol w="2647800"/>
                <a:gridCol w="264816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Science and engineering Practices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fcab4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Disciplinary Core Ideas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fcab4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Crosscutting Concepts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fcab40"/>
                    </a:solidFill>
                  </a:tcPr>
                </a:tc>
              </a:tr>
              <a:tr h="33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54"/>
                          </a:solidFill>
                          <a:latin typeface="Arial"/>
                        </a:rPr>
                        <a:t>Asking Questions and Defining Problems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54"/>
                          </a:solidFill>
                          <a:latin typeface="Arial"/>
                        </a:rPr>
                        <a:t>Analyzing and Interpreting Data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54"/>
                          </a:solidFill>
                          <a:latin typeface="Arial"/>
                        </a:rPr>
                        <a:t>Constructing Explanations and Designing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54"/>
                          </a:solidFill>
                          <a:latin typeface="Arial"/>
                        </a:rPr>
                        <a:t>Solutions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54"/>
                          </a:solidFill>
                          <a:latin typeface="Arial"/>
                        </a:rPr>
                        <a:t>Using Mathematics and Computational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54"/>
                          </a:solidFill>
                          <a:latin typeface="Arial"/>
                        </a:rPr>
                        <a:t>Thinking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fee2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54"/>
                          </a:solidFill>
                          <a:latin typeface="Arial"/>
                        </a:rPr>
                        <a:t>PS2.A: Forces and Motion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54"/>
                          </a:solidFill>
                          <a:latin typeface="Arial"/>
                        </a:rPr>
                        <a:t>ETS1.C: Optimizing the Design Solution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fee2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54"/>
                          </a:solidFill>
                          <a:latin typeface="Arial"/>
                        </a:rPr>
                        <a:t>Patterns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54"/>
                          </a:solidFill>
                          <a:latin typeface="Arial"/>
                        </a:rPr>
                        <a:t>Cause and Effect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fee2c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68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ngag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90720" y="1118880"/>
            <a:ext cx="7772400" cy="520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ngage with Clink! Read-Aloud and Explore with Wind-Up Robot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link read by Kevin- link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b97c01"/>
                </a:solidFill>
                <a:uFillTx/>
                <a:latin typeface="Arial"/>
                <a:hlinkClick r:id="rId1"/>
              </a:rPr>
              <a:t>https://www.youtube.com/watch?v=T8MYymAIumo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What is a Spring?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Can you name examples of spring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Are all springs metal?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Why doesn’t anyone want to buy Clink? (H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is an old toy.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Why does the boy think Clink is perfect?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How do you think Clink works? What are his parts?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Are there any clues in the text or illustrations?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18" name="Picture 14" descr="mage result for clink by kelly dipucchio"/>
          <p:cNvPicPr/>
          <p:nvPr/>
        </p:nvPicPr>
        <p:blipFill>
          <a:blip r:embed="rId2"/>
          <a:stretch/>
        </p:blipFill>
        <p:spPr>
          <a:xfrm>
            <a:off x="7113600" y="281160"/>
            <a:ext cx="64944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d189"/>
                </a:solidFill>
                <a:latin typeface="바탕"/>
              </a:rPr>
              <a:t>Explore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294920"/>
            <a:ext cx="35100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Give each pair of students  a wind up robot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Have students  observe how it moves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To collect data give students the wind it up student page, ruler or tape measure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Give students time to explore and collect, compare and share data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5028840" y="121932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Questions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How do you get the toy to move?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How do you think the number of times you wind it up affect the distance the toy travels?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How could we find out?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What would be a good way to collect the data?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What do you think is inside the toy?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What makes it go?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How can we find out?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2" name="TextBox 2"/>
          <p:cNvSpPr/>
          <p:nvPr/>
        </p:nvSpPr>
        <p:spPr>
          <a:xfrm>
            <a:off x="1101960" y="5792760"/>
            <a:ext cx="57646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cab40"/>
                </a:solidFill>
                <a:uFillTx/>
                <a:latin typeface="Arial Narrow"/>
              </a:rPr>
              <a:t>Safety</a:t>
            </a:r>
            <a:endParaRPr b="0" lang="en-US" sz="1600" spc="-1" strike="noStrike">
              <a:solidFill>
                <a:srgbClr val="eaeaea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cab40"/>
                </a:solidFill>
                <a:latin typeface="Arial Narrow"/>
              </a:rPr>
              <a:t>Teacher will need a protective glove and screwdriver to disassemble the toy</a:t>
            </a:r>
            <a:endParaRPr b="0" lang="en-US" sz="1600" spc="-1" strike="noStrike">
              <a:solidFill>
                <a:srgbClr val="eaeaea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cab40"/>
                </a:solidFill>
                <a:uFillTx/>
                <a:latin typeface="Arial Narrow"/>
              </a:rPr>
              <a:t>Mathematics</a:t>
            </a:r>
            <a:r>
              <a:rPr b="0" lang="en-US" sz="1600" spc="-1" strike="noStrike">
                <a:solidFill>
                  <a:srgbClr val="fcab40"/>
                </a:solidFill>
                <a:latin typeface="Arial Narrow"/>
              </a:rPr>
              <a:t> – Connecting to common core</a:t>
            </a:r>
            <a:endParaRPr b="0" lang="en-US" sz="1600" spc="-1" strike="noStrike">
              <a:solidFill>
                <a:srgbClr val="eaeaea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cab40"/>
                </a:solidFill>
                <a:latin typeface="Arial Narrow"/>
              </a:rPr>
              <a:t>Measurement and data-3MD.3, 3MD4</a:t>
            </a:r>
            <a:endParaRPr b="0" lang="en-US" sz="16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plai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aking machines with springs read aloud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5028840" y="16765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urn &amp; Talk: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What is a spring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Where are springs used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What forces do you need to make a spring change shape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What is a spring?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990720" y="99072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Springs are elastic bodies (generally metal) that can be twisted, pulled, or stretched by some force. They can return to their original shape when the force is released.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In other words it is also termed as a resilient member</a:t>
            </a: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When a spring is compressed or stretched (force applied), then it gets a change in length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i.e.,  Force or Load </a:t>
            </a:r>
            <a:r>
              <a:rPr b="0" lang="el-GR" sz="2400" spc="-1" strike="noStrike">
                <a:solidFill>
                  <a:srgbClr val="eaeaea"/>
                </a:solidFill>
                <a:latin typeface="Constantia"/>
              </a:rPr>
              <a:t>α</a:t>
            </a:r>
            <a:r>
              <a:rPr b="0" lang="en-US" sz="2400" spc="-1" strike="noStrike">
                <a:solidFill>
                  <a:srgbClr val="eaeaea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Length of Spring. applied), then it gets a change in length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28" name="Picture 6" descr="C:\Users\DAFFODIL\Desktop\alex\200px-Springs_009.jpg"/>
          <p:cNvPicPr/>
          <p:nvPr/>
        </p:nvPicPr>
        <p:blipFill>
          <a:blip r:embed="rId1"/>
          <a:stretch/>
        </p:blipFill>
        <p:spPr>
          <a:xfrm>
            <a:off x="6022800" y="79200"/>
            <a:ext cx="1273320" cy="1097280"/>
          </a:xfrm>
          <a:prstGeom prst="rect">
            <a:avLst/>
          </a:prstGeom>
          <a:ln w="0">
            <a:noFill/>
          </a:ln>
        </p:spPr>
      </p:pic>
      <p:pic>
        <p:nvPicPr>
          <p:cNvPr id="129" name="Content Placeholder 3" descr=""/>
          <p:cNvPicPr/>
          <p:nvPr/>
        </p:nvPicPr>
        <p:blipFill>
          <a:blip r:embed="rId2"/>
          <a:stretch/>
        </p:blipFill>
        <p:spPr>
          <a:xfrm>
            <a:off x="6157800" y="3819600"/>
            <a:ext cx="1546200" cy="1084320"/>
          </a:xfrm>
          <a:prstGeom prst="rect">
            <a:avLst/>
          </a:prstGeom>
          <a:ln w="0">
            <a:noFill/>
          </a:ln>
        </p:spPr>
      </p:pic>
      <p:sp>
        <p:nvSpPr>
          <p:cNvPr id="130" name="TextBox 5"/>
          <p:cNvSpPr/>
          <p:nvPr/>
        </p:nvSpPr>
        <p:spPr>
          <a:xfrm>
            <a:off x="7299360" y="463680"/>
            <a:ext cx="123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cab40"/>
                </a:solidFill>
                <a:latin typeface="Arial Narrow"/>
              </a:rPr>
              <a:t>Coil springs</a:t>
            </a:r>
            <a:endParaRPr b="0" lang="en-US" sz="1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31" name="TextBox 6"/>
          <p:cNvSpPr/>
          <p:nvPr/>
        </p:nvSpPr>
        <p:spPr>
          <a:xfrm>
            <a:off x="7683480" y="403848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cab40"/>
                </a:solidFill>
                <a:latin typeface="Arial Narrow"/>
              </a:rPr>
              <a:t>Clock or spiral spring</a:t>
            </a:r>
            <a:endParaRPr b="0" lang="en-US" sz="18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543800" cy="812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mmon uses of Spring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pic>
        <p:nvPicPr>
          <p:cNvPr id="133" name="Picture 3" descr="C:\Users\DAFFODIL\Desktop\alex\220px-Measuring-tape.jpg"/>
          <p:cNvPicPr/>
          <p:nvPr/>
        </p:nvPicPr>
        <p:blipFill>
          <a:blip r:embed="rId1"/>
          <a:stretch/>
        </p:blipFill>
        <p:spPr>
          <a:xfrm>
            <a:off x="4376880" y="1316160"/>
            <a:ext cx="3498840" cy="23907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2" descr="C:\Users\DAFFODIL\Desktop\alex\Mausefalle_300px.jpg"/>
          <p:cNvPicPr/>
          <p:nvPr/>
        </p:nvPicPr>
        <p:blipFill>
          <a:blip r:embed="rId2"/>
          <a:stretch/>
        </p:blipFill>
        <p:spPr>
          <a:xfrm>
            <a:off x="5608800" y="3981600"/>
            <a:ext cx="3601800" cy="2309760"/>
          </a:xfrm>
          <a:prstGeom prst="rect">
            <a:avLst/>
          </a:prstGeom>
          <a:ln w="0">
            <a:noFill/>
          </a:ln>
        </p:spPr>
      </p:pic>
      <p:grpSp>
        <p:nvGrpSpPr>
          <p:cNvPr id="135" name="Group 10"/>
          <p:cNvGrpSpPr/>
          <p:nvPr/>
        </p:nvGrpSpPr>
        <p:grpSpPr>
          <a:xfrm>
            <a:off x="1184400" y="5029200"/>
            <a:ext cx="4545000" cy="1406520"/>
            <a:chOff x="1184400" y="5029200"/>
            <a:chExt cx="4545000" cy="1406520"/>
          </a:xfrm>
        </p:grpSpPr>
        <p:pic>
          <p:nvPicPr>
            <p:cNvPr id="136" name="Picture 4" descr="C:\Users\DAFFODIL\Desktop\alex\cl1.jpg"/>
            <p:cNvPicPr/>
            <p:nvPr/>
          </p:nvPicPr>
          <p:blipFill>
            <a:blip r:embed="rId3"/>
            <a:stretch/>
          </p:blipFill>
          <p:spPr>
            <a:xfrm>
              <a:off x="2326680" y="5034960"/>
              <a:ext cx="2121480" cy="136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" name="Picture 5" descr="C:\Users\DAFFODIL\Desktop\alex\cl2.jpg"/>
            <p:cNvPicPr/>
            <p:nvPr/>
          </p:nvPicPr>
          <p:blipFill>
            <a:blip r:embed="rId4"/>
            <a:stretch/>
          </p:blipFill>
          <p:spPr>
            <a:xfrm>
              <a:off x="1184400" y="5034960"/>
              <a:ext cx="1178640" cy="1376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" name="Picture 6" descr="C:\Users\DAFFODIL\Desktop\alex\cl3.jpg"/>
            <p:cNvPicPr/>
            <p:nvPr/>
          </p:nvPicPr>
          <p:blipFill>
            <a:blip r:embed="rId5"/>
            <a:stretch/>
          </p:blipFill>
          <p:spPr>
            <a:xfrm>
              <a:off x="4411800" y="5029200"/>
              <a:ext cx="1317600" cy="14065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39" name="Picture 3" descr="C:\Users\DAFFODIL\Desktop\alex\1350680045HkXcE9.jpg"/>
          <p:cNvPicPr/>
          <p:nvPr/>
        </p:nvPicPr>
        <p:blipFill>
          <a:blip r:embed="rId6"/>
          <a:stretch/>
        </p:blipFill>
        <p:spPr>
          <a:xfrm>
            <a:off x="1195560" y="1116000"/>
            <a:ext cx="2693880" cy="306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mmon Uses of Spring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pic>
        <p:nvPicPr>
          <p:cNvPr id="141" name="Picture 14" descr="stapler"/>
          <p:cNvPicPr/>
          <p:nvPr/>
        </p:nvPicPr>
        <p:blipFill>
          <a:blip r:embed="rId1"/>
          <a:stretch/>
        </p:blipFill>
        <p:spPr>
          <a:xfrm>
            <a:off x="4952880" y="4208400"/>
            <a:ext cx="2862360" cy="25192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9" descr="europa-trampoline-lg"/>
          <p:cNvPicPr/>
          <p:nvPr/>
        </p:nvPicPr>
        <p:blipFill>
          <a:blip r:embed="rId2"/>
          <a:stretch/>
        </p:blipFill>
        <p:spPr>
          <a:xfrm>
            <a:off x="1905120" y="1171440"/>
            <a:ext cx="2971800" cy="19735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9" descr="11428"/>
          <p:cNvPicPr/>
          <p:nvPr/>
        </p:nvPicPr>
        <p:blipFill>
          <a:blip r:embed="rId3"/>
          <a:stretch/>
        </p:blipFill>
        <p:spPr>
          <a:xfrm>
            <a:off x="1876320" y="3429000"/>
            <a:ext cx="2590920" cy="32004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8" descr="2478_ADAMS_Conceptual_Suspension"/>
          <p:cNvPicPr/>
          <p:nvPr/>
        </p:nvPicPr>
        <p:blipFill>
          <a:blip r:embed="rId4"/>
          <a:stretch/>
        </p:blipFill>
        <p:spPr>
          <a:xfrm>
            <a:off x="5257800" y="1058760"/>
            <a:ext cx="3581280" cy="29037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2T18:48:26Z</dcterms:created>
  <dc:creator> </dc:creator>
  <dc:description/>
  <dc:language>en-US</dc:language>
  <cp:lastModifiedBy>Microsoft Office User</cp:lastModifiedBy>
  <dcterms:modified xsi:type="dcterms:W3CDTF">2017-07-18T19:00:21Z</dcterms:modified>
  <cp:revision>50</cp:revision>
  <dc:subject/>
  <dc:title>PowerPoint Presentation</dc:title>
</cp:coreProperties>
</file>