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5AD6-6653-4CA2-8E9A-319B15DB1A8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rubber band toy like  the wind up to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33A2-A45F-4F7D-9D45-969FEF91C3D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BB8E-98BF-453A-8F39-DE674671A0BD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lesson students will observe the motion of a wind up toy. As you read ask the above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band can be a spring because it stret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are also engaged in the science and engineering practice of constructing explanations and designing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BA04-F59A-4040-825C-794CF2CC99E6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questions on page 103 to guide the discussion on the explo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F09E-30B1-4AD8-81DC-4F57B2391F6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students they are going to find out how the spring inside the robot makes it m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aloud pages 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the activites on pages 8-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- two pulling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31FF-153F-4961-B869-22E3F332C54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61D5-59E3-4D10-966D-F5FC25935D2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loping surface, such as a ramp. An inclined plane can be used to alter the effort and distance involved in doing work, such as lifting loads. The trade-off is that an object must be moved a longer distance than if it was lifted straight up, but less force is need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use this machine to move an object to a lower or higher place.  Inclined planes make the work of moving things easier.  You would need less energy and force to move objects with an inclined plan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59A-0DF0-41D2-9C82-E146F41F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943-0D64-43D1-9AB9-580EB2F0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450-C972-42D8-9736-DFAE05F0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1B25-9A0C-4A83-8264-BD35C6BF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B399-E6DD-44A1-8BF1-E4F3212F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ECEA-FAC6-46C0-92D1-3C725313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75E2-D086-4027-8D97-2C68155C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DE2A-82B5-4C2E-8A8B-E6483AC9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8A1F-7DFA-44C4-BBA0-255379F3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C2FF-DC4D-4B04-86AD-8AE984A5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CD8A-2636-49B4-B31A-9BCF7379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C2D-F4D4-4F85-8BCF-8E1A895A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064C-F0D6-46A6-96E2-3FFE119D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E79E-0AE4-46AA-90B6-D845CCBB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E22F-0753-49D2-A4CE-D9C53BCE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640A-705D-4A75-9936-67BF007F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291F-7FFE-465C-B0F0-299447D0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4A4-331A-4CAB-AEFD-A68F2E2A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D7B-2D5C-4F2F-9378-346E632D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4FB-F484-4A76-86D2-C2CCAAA7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DCF-D5DD-4991-864A-1C9B384E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8C3-C410-4C33-B47C-90F9A429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758-4FB4-47C1-8D80-3D3CD6FB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806-9106-40CC-9BA6-4F258AB8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026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1027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1029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34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527F-35CD-45C1-958B-C48917EB826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C9D9-1CEA-444A-9481-3353DD53D6F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T8MYymAIumo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ind it Up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276720" y="236232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PP-STEM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labora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ind up Racer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ime to build your own wind up racer( A spool car rac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ttps://www.youtube.com/watch?v=k8yZwrEaXi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Evaluat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74880" y="2165040"/>
            <a:ext cx="3673440" cy="19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the Spool Car Instruction Manu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2006640" y="223920"/>
            <a:ext cx="93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3530520" y="-225360"/>
            <a:ext cx="936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1" name="Picture 11" descr="mage result for spool car images"/>
          <p:cNvPicPr/>
          <p:nvPr/>
        </p:nvPicPr>
        <p:blipFill>
          <a:blip r:embed="rId1"/>
          <a:stretch/>
        </p:blipFill>
        <p:spPr>
          <a:xfrm>
            <a:off x="5410080" y="4118040"/>
            <a:ext cx="3124440" cy="2363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mage result for spool car images"/>
          <p:cNvPicPr/>
          <p:nvPr/>
        </p:nvPicPr>
        <p:blipFill>
          <a:blip r:embed="rId2"/>
          <a:stretch/>
        </p:blipFill>
        <p:spPr>
          <a:xfrm>
            <a:off x="1328760" y="456876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mage result for spool car images"/>
          <p:cNvPicPr/>
          <p:nvPr/>
        </p:nvPicPr>
        <p:blipFill>
          <a:blip r:embed="rId3"/>
          <a:stretch/>
        </p:blipFill>
        <p:spPr>
          <a:xfrm>
            <a:off x="4191120" y="457200"/>
            <a:ext cx="42764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081160" y="622440"/>
            <a:ext cx="451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ab40"/>
                </a:solidFill>
                <a:latin typeface="Arial Narrow"/>
              </a:rPr>
              <a:t>Feature Books</a:t>
            </a:r>
            <a:endParaRPr b="0" lang="en-US" sz="6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2057400" y="3124080"/>
            <a:ext cx="1181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12" name="Picture 14" descr="mage result for clink by kelly dipucchio"/>
          <p:cNvPicPr/>
          <p:nvPr/>
        </p:nvPicPr>
        <p:blipFill>
          <a:blip r:embed="rId1"/>
          <a:stretch/>
        </p:blipFill>
        <p:spPr>
          <a:xfrm>
            <a:off x="5867280" y="1936800"/>
            <a:ext cx="2124360" cy="2739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mage result for making machines with springs by chris oxlade image"/>
          <p:cNvPicPr/>
          <p:nvPr/>
        </p:nvPicPr>
        <p:blipFill>
          <a:blip r:embed="rId2"/>
          <a:stretch/>
        </p:blipFill>
        <p:spPr>
          <a:xfrm>
            <a:off x="1504800" y="3067200"/>
            <a:ext cx="22860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sson Objectives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47600" y="2133720"/>
          <a:ext cx="7944120" cy="4022640"/>
        </p:xfrm>
        <a:graphic>
          <a:graphicData uri="http://schemas.openxmlformats.org/drawingml/2006/table">
            <a:tbl>
              <a:tblPr/>
              <a:tblGrid>
                <a:gridCol w="2648160"/>
                <a:gridCol w="2647800"/>
                <a:gridCol w="2648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 and engineering Practic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isciplinary Core Idea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osscutting Concept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sking Questions and Defining Problem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nalyzing and Interpreting Dat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onstructing Explanations and Design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olution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Using Mathematics and Computation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Think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PS2.A: Forces and Mo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ETS1.C: Optimizing the Design Solu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Pattern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ause and Effec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ngag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118880"/>
            <a:ext cx="7772400" cy="52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gage with Clink! Read-Aloud and Explore with Wind-Up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nk read by Kevin- lin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s://www.youtube.com/watch?v=T8MYymAIum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at is a Spring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you name examples of spring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e all springs metal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y doesn’t anyone want to buy Clink? (H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s an old toy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y does the boy think Clink is perfect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w do you think Clink works? What are his parts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e there any clues in the text or illustrations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Picture 14" descr="mage result for clink by kelly dipucchio"/>
          <p:cNvPicPr/>
          <p:nvPr/>
        </p:nvPicPr>
        <p:blipFill>
          <a:blip r:embed="rId2"/>
          <a:stretch/>
        </p:blipFill>
        <p:spPr>
          <a:xfrm>
            <a:off x="7113600" y="281160"/>
            <a:ext cx="649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바탕"/>
              </a:rPr>
              <a:t>Explor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510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ive each pair of students  a wind up robot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ave students  observe how it move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o collect data give students the wind it up student page, ruler or tape measur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ive students time to explore and collect, compare and share dat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28840" y="12193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Questions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do you get the toy to move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do you think the number of times you wind it up affect the distance the toy travels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could we find out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would be a good way to collect the data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do you think is inside the toy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makes it go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can we find out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1101960" y="5792760"/>
            <a:ext cx="576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cab40"/>
                </a:solidFill>
                <a:uFillTx/>
                <a:latin typeface="Arial Narrow"/>
              </a:rPr>
              <a:t>Safety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ab40"/>
                </a:solidFill>
                <a:latin typeface="Arial Narrow"/>
              </a:rPr>
              <a:t>Teacher will need a protective glove and screwdriver to disassemble the toy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cab40"/>
                </a:solidFill>
                <a:uFillTx/>
                <a:latin typeface="Arial Narrow"/>
              </a:rPr>
              <a:t>Mathematics</a:t>
            </a:r>
            <a:r>
              <a:rPr b="0" lang="en-US" sz="1600" spc="-1" strike="noStrike">
                <a:solidFill>
                  <a:srgbClr val="fcab40"/>
                </a:solidFill>
                <a:latin typeface="Arial Narrow"/>
              </a:rPr>
              <a:t> – Connecting to common core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ab40"/>
                </a:solidFill>
                <a:latin typeface="Arial Narrow"/>
              </a:rPr>
              <a:t>Measurement and data-3MD.3, 3MD4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ing machines with springs read alou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urn &amp; Talk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is a spring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re are springs used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forces do you need to make a spring change shap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at is a spring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7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prings are elastic bodies (generally metal) that can be twisted, pulled, or stretched by some force. They can return to their original shape when the force is release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 other words it is also termed as a resilient member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a spring is compressed or stretched (force applied), then it gets a change in length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.e.,  Force or Load </a:t>
            </a:r>
            <a:r>
              <a:rPr b="0" lang="el-GR" sz="2400" spc="-1" strike="noStrike">
                <a:solidFill>
                  <a:srgbClr val="eaeaea"/>
                </a:solidFill>
                <a:latin typeface="Constantia"/>
              </a:rPr>
              <a:t>α</a:t>
            </a:r>
            <a:r>
              <a:rPr b="0" lang="en-US" sz="2400" spc="-1" strike="noStrike">
                <a:solidFill>
                  <a:srgbClr val="eaeaea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ngth of Spring. applied), then it gets a change in length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Picture 6" descr="C:\Users\DAFFODIL\Desktop\alex\200px-Springs_009.jpg"/>
          <p:cNvPicPr/>
          <p:nvPr/>
        </p:nvPicPr>
        <p:blipFill>
          <a:blip r:embed="rId1"/>
          <a:stretch/>
        </p:blipFill>
        <p:spPr>
          <a:xfrm>
            <a:off x="6022800" y="79200"/>
            <a:ext cx="1273320" cy="109728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3" descr=""/>
          <p:cNvPicPr/>
          <p:nvPr/>
        </p:nvPicPr>
        <p:blipFill>
          <a:blip r:embed="rId2"/>
          <a:stretch/>
        </p:blipFill>
        <p:spPr>
          <a:xfrm>
            <a:off x="6157800" y="3819600"/>
            <a:ext cx="1546200" cy="10843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7299360" y="4636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ab40"/>
                </a:solidFill>
                <a:latin typeface="Arial Narrow"/>
              </a:rPr>
              <a:t>Coil spring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7683480" y="4038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ab40"/>
                </a:solidFill>
                <a:latin typeface="Arial Narrow"/>
              </a:rPr>
              <a:t>Clock or spiral spring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81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mon uses of Spring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3" name="Picture 3" descr="C:\Users\DAFFODIL\Desktop\alex\220px-Measuring-tape.jpg"/>
          <p:cNvPicPr/>
          <p:nvPr/>
        </p:nvPicPr>
        <p:blipFill>
          <a:blip r:embed="rId1"/>
          <a:stretch/>
        </p:blipFill>
        <p:spPr>
          <a:xfrm>
            <a:off x="4376880" y="1316160"/>
            <a:ext cx="3498840" cy="2390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DAFFODIL\Desktop\alex\Mausefalle_300px.jpg"/>
          <p:cNvPicPr/>
          <p:nvPr/>
        </p:nvPicPr>
        <p:blipFill>
          <a:blip r:embed="rId2"/>
          <a:stretch/>
        </p:blipFill>
        <p:spPr>
          <a:xfrm>
            <a:off x="5608800" y="3981600"/>
            <a:ext cx="3601800" cy="230976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0"/>
          <p:cNvGrpSpPr/>
          <p:nvPr/>
        </p:nvGrpSpPr>
        <p:grpSpPr>
          <a:xfrm>
            <a:off x="1184400" y="5029200"/>
            <a:ext cx="4545000" cy="1406520"/>
            <a:chOff x="1184400" y="5029200"/>
            <a:chExt cx="4545000" cy="1406520"/>
          </a:xfrm>
        </p:grpSpPr>
        <p:pic>
          <p:nvPicPr>
            <p:cNvPr id="136" name="Picture 4" descr="C:\Users\DAFFODIL\Desktop\alex\cl1.jpg"/>
            <p:cNvPicPr/>
            <p:nvPr/>
          </p:nvPicPr>
          <p:blipFill>
            <a:blip r:embed="rId3"/>
            <a:stretch/>
          </p:blipFill>
          <p:spPr>
            <a:xfrm>
              <a:off x="2326680" y="5034960"/>
              <a:ext cx="2121480" cy="13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5" descr="C:\Users\DAFFODIL\Desktop\alex\cl2.jpg"/>
            <p:cNvPicPr/>
            <p:nvPr/>
          </p:nvPicPr>
          <p:blipFill>
            <a:blip r:embed="rId4"/>
            <a:stretch/>
          </p:blipFill>
          <p:spPr>
            <a:xfrm>
              <a:off x="1184400" y="5034960"/>
              <a:ext cx="1178640" cy="13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6" descr="C:\Users\DAFFODIL\Desktop\alex\cl3.jpg"/>
            <p:cNvPicPr/>
            <p:nvPr/>
          </p:nvPicPr>
          <p:blipFill>
            <a:blip r:embed="rId5"/>
            <a:stretch/>
          </p:blipFill>
          <p:spPr>
            <a:xfrm>
              <a:off x="4411800" y="5029200"/>
              <a:ext cx="1317600" cy="140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Picture 3" descr="C:\Users\DAFFODIL\Desktop\alex\1350680045HkXcE9.jpg"/>
          <p:cNvPicPr/>
          <p:nvPr/>
        </p:nvPicPr>
        <p:blipFill>
          <a:blip r:embed="rId6"/>
          <a:stretch/>
        </p:blipFill>
        <p:spPr>
          <a:xfrm>
            <a:off x="1195560" y="1116000"/>
            <a:ext cx="26938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mon Uses of Spring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41" name="Picture 14" descr="stapler"/>
          <p:cNvPicPr/>
          <p:nvPr/>
        </p:nvPicPr>
        <p:blipFill>
          <a:blip r:embed="rId1"/>
          <a:stretch/>
        </p:blipFill>
        <p:spPr>
          <a:xfrm>
            <a:off x="4952880" y="4208400"/>
            <a:ext cx="286236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europa-trampoline-lg"/>
          <p:cNvPicPr/>
          <p:nvPr/>
        </p:nvPicPr>
        <p:blipFill>
          <a:blip r:embed="rId2"/>
          <a:stretch/>
        </p:blipFill>
        <p:spPr>
          <a:xfrm>
            <a:off x="1905120" y="1171440"/>
            <a:ext cx="2971800" cy="197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11428"/>
          <p:cNvPicPr/>
          <p:nvPr/>
        </p:nvPicPr>
        <p:blipFill>
          <a:blip r:embed="rId3"/>
          <a:stretch/>
        </p:blipFill>
        <p:spPr>
          <a:xfrm>
            <a:off x="1876320" y="3429000"/>
            <a:ext cx="2590920" cy="3200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2478_ADAMS_Conceptual_Suspension"/>
          <p:cNvPicPr/>
          <p:nvPr/>
        </p:nvPicPr>
        <p:blipFill>
          <a:blip r:embed="rId4"/>
          <a:stretch/>
        </p:blipFill>
        <p:spPr>
          <a:xfrm>
            <a:off x="5257800" y="1058760"/>
            <a:ext cx="3581280" cy="290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8:48:26Z</dcterms:created>
  <dc:creator> </dc:creator>
  <dc:description/>
  <dc:language>en-US</dc:language>
  <cp:lastModifiedBy>Microsoft Office User</cp:lastModifiedBy>
  <dcterms:modified xsi:type="dcterms:W3CDTF">2017-07-18T19:00:21Z</dcterms:modified>
  <cp:revision>50</cp:revision>
  <dc:subject/>
  <dc:title>PowerPoint Presentation</dc:title>
</cp:coreProperties>
</file>