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EF1A-9220-48E5-8C31-E5943B84784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rubber band toy like  the wind up to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FE4D-3F46-450C-82AC-E0A4622FA86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1E54-1FE9-46B8-8FA4-FBEE7754413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lesson students will observe the motion of a wind up toy. As you read ask the abov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band can be a spring because it stret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are also engaged in the science and engineering practice of constructing explanations and designing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55E1-17F9-4CDE-95B2-F81459DD581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questions on page 103 to guide the discussion on the explo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E3A0-62C3-4B4E-87D4-6EB29F089BF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students they are going to find out how the spring inside the robot makes i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aloud pages 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the activites on pages 8-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- two pulling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71F0-8B5E-4487-B1FF-08D5BA952A2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1DC8-D995-4765-A2E5-12CE1338893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loping surface, such as a ramp. An inclined plane can be used to alter the effort and distance involved in doing work, such as lifting loads. The trade-off is that an object must be moved a longer distance than if it was lifted straight up, but less force is need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use this machine to move an object to a lower or higher place.  Inclined planes make the work of moving things easier.  You would need less energy and force to move objects with an inclined plan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9C3-DA55-4C20-B7EA-5DA5AD6C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ECD-120D-4D5B-847A-BC2E9706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9CF-C320-49DA-907B-ADD1ABEC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3C2-E46E-4D4E-9B88-B7A0217C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A56C-5A8D-4A37-88B7-7898FF53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106E-90CF-4AFE-A940-7D2C89FC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1F05-B6E6-43D1-AC7C-5B2AE7A8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D3FD-B34B-4CB2-A2EE-34AEE2FA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4BCF-BE02-43E7-99FF-403E84A1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4A99-E8C7-4DD1-8EEC-A8BA07CF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15C7-02CE-4D52-A8F9-99516E0E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E63-6D0D-4AED-9419-D8C80C64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4DBE-BA2F-4C99-A66E-7B102ED3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8152-1D90-4768-93A6-A6BF2674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A321-DC5F-4356-8C51-898122B1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845F-8B3D-49E2-9D64-113E74DD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FDAF-1CCF-4369-985B-F44DE042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4D5-F139-439C-BA66-A710C6A5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38D-AB28-46E4-89AE-C480CB0F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078-3D98-4350-A86F-CF40FC73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6AB-3A5C-48B2-AE67-A82AF166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FBE-91D8-4B41-AE19-B2AEDC20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1DA-276C-4EA3-A869-5A2F42FA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29F-D0BD-451A-9C82-C287057C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026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1027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1029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34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DC9B-4B4C-4E49-ADBB-38500859C28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2752-0673-4776-8F68-90FC6FAC0CD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8MYymAIumo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ind it Up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76720" y="23623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PP-STEM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labora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nd up Racer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ime to build your own wind up racer( A spool car rac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s://www.youtube.com/watch?v=k8yZwrEaXi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Evaluat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4880" y="2165040"/>
            <a:ext cx="367344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he Spool Car Instruction Manu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2006640" y="2239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530520" y="-225360"/>
            <a:ext cx="936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1" name="Picture 11" descr="mage result for spool car images"/>
          <p:cNvPicPr/>
          <p:nvPr/>
        </p:nvPicPr>
        <p:blipFill>
          <a:blip r:embed="rId1"/>
          <a:stretch/>
        </p:blipFill>
        <p:spPr>
          <a:xfrm>
            <a:off x="5410080" y="4118040"/>
            <a:ext cx="3124440" cy="2363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age result for spool car images"/>
          <p:cNvPicPr/>
          <p:nvPr/>
        </p:nvPicPr>
        <p:blipFill>
          <a:blip r:embed="rId2"/>
          <a:stretch/>
        </p:blipFill>
        <p:spPr>
          <a:xfrm>
            <a:off x="1328760" y="456876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mage result for spool car images"/>
          <p:cNvPicPr/>
          <p:nvPr/>
        </p:nvPicPr>
        <p:blipFill>
          <a:blip r:embed="rId3"/>
          <a:stretch/>
        </p:blipFill>
        <p:spPr>
          <a:xfrm>
            <a:off x="4191120" y="457200"/>
            <a:ext cx="42764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081160" y="622440"/>
            <a:ext cx="451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ab40"/>
                </a:solidFill>
                <a:latin typeface="Arial Narrow"/>
              </a:rPr>
              <a:t>Feature Books</a:t>
            </a:r>
            <a:endParaRPr b="0" lang="en-US" sz="6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2057400" y="3124080"/>
            <a:ext cx="1181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12" name="Picture 14" descr="mage result for clink by kelly dipucchio"/>
          <p:cNvPicPr/>
          <p:nvPr/>
        </p:nvPicPr>
        <p:blipFill>
          <a:blip r:embed="rId1"/>
          <a:stretch/>
        </p:blipFill>
        <p:spPr>
          <a:xfrm>
            <a:off x="5867280" y="1936800"/>
            <a:ext cx="2124360" cy="2739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mage result for making machines with springs by chris oxlade image"/>
          <p:cNvPicPr/>
          <p:nvPr/>
        </p:nvPicPr>
        <p:blipFill>
          <a:blip r:embed="rId2"/>
          <a:stretch/>
        </p:blipFill>
        <p:spPr>
          <a:xfrm>
            <a:off x="1504800" y="3067200"/>
            <a:ext cx="2286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sson Objective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7600" y="2133720"/>
          <a:ext cx="7944120" cy="4022640"/>
        </p:xfrm>
        <a:graphic>
          <a:graphicData uri="http://schemas.openxmlformats.org/drawingml/2006/table">
            <a:tbl>
              <a:tblPr/>
              <a:tblGrid>
                <a:gridCol w="2648160"/>
                <a:gridCol w="2647800"/>
                <a:gridCol w="2648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cience and engineering Practic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isciplinary Core Idea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osscutting Concep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cab40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sking Questions and Defining Problem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nalyzing and Interpreting Dat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onstructing Explanations and Design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olutio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Using Mathematics and Computation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Think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PS2.A: Forces and Mo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ETS1.C: Optimizing the Design Solu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Patter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use and Effec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ee2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ng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118880"/>
            <a:ext cx="7772400" cy="52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gage with Clink! Read-Aloud and Explore with Wind-Up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nk read by Kevin- lin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s://www.youtube.com/watch?v=T8MYymAIum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is a Spr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you name examples of spring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all springs metal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esn’t anyone want to buy Clink? (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s an old toy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es the boy think Clink is perfect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w do you think Clink works? What are his parts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there any clues in the text or illustrations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icture 14" descr="mage result for clink by kelly dipucchio"/>
          <p:cNvPicPr/>
          <p:nvPr/>
        </p:nvPicPr>
        <p:blipFill>
          <a:blip r:embed="rId2"/>
          <a:stretch/>
        </p:blipFill>
        <p:spPr>
          <a:xfrm>
            <a:off x="7113600" y="281160"/>
            <a:ext cx="649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바탕"/>
              </a:rPr>
              <a:t>Explor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510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ive each pair of students  a wind up robo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ave students  observe how it move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o collect data give students the wind it up student page, ruler or tape measur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ive students time to explore and collect, compare and share dat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28840" y="12193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uestions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do you get the toy to move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do you think the number of times you wind it up affect the distance the toy travel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could we find ou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would be a good way to collect the data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do you think is inside the toy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makes it go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w can we find ou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101960" y="5792760"/>
            <a:ext cx="576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ab40"/>
                </a:solidFill>
                <a:uFillTx/>
                <a:latin typeface="Arial Narrow"/>
              </a:rPr>
              <a:t>Safety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Teacher will need a protective glove and screwdriver to disassemble the toy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cab40"/>
                </a:solidFill>
                <a:uFillTx/>
                <a:latin typeface="Arial Narrow"/>
              </a:rPr>
              <a:t>Mathematics</a:t>
            </a: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 – Connecting to common cor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ab40"/>
                </a:solidFill>
                <a:latin typeface="Arial Narrow"/>
              </a:rPr>
              <a:t>Measurement and data-3MD.3, 3MD4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ing machines with springs read alou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urn &amp; Talk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is a spring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re are springs use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forces do you need to make a spring change shap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a spring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prings are elastic bodies (generally metal) that can be twisted, pulled, or stretched by some force. They can return to their original shape when the force is release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 other words it is also termed as a resilient member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a spring is compressed or stretched (force applied), then it gets a change in leng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.e.,  Force or Load </a:t>
            </a:r>
            <a:r>
              <a:rPr b="0" lang="el-GR" sz="2400" spc="-1" strike="noStrike">
                <a:solidFill>
                  <a:srgbClr val="eaeaea"/>
                </a:solidFill>
                <a:latin typeface="Constantia"/>
              </a:rPr>
              <a:t>α</a:t>
            </a:r>
            <a:r>
              <a:rPr b="0" lang="en-US" sz="2400" spc="-1" strike="noStrike">
                <a:solidFill>
                  <a:srgbClr val="eaeaea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ngth of Spring. applied), then it gets a change in leng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Picture 6" descr="C:\Users\DAFFODIL\Desktop\alex\200px-Springs_009.jpg"/>
          <p:cNvPicPr/>
          <p:nvPr/>
        </p:nvPicPr>
        <p:blipFill>
          <a:blip r:embed="rId1"/>
          <a:stretch/>
        </p:blipFill>
        <p:spPr>
          <a:xfrm>
            <a:off x="6022800" y="79200"/>
            <a:ext cx="1273320" cy="10972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"/>
          <p:cNvPicPr/>
          <p:nvPr/>
        </p:nvPicPr>
        <p:blipFill>
          <a:blip r:embed="rId2"/>
          <a:stretch/>
        </p:blipFill>
        <p:spPr>
          <a:xfrm>
            <a:off x="6157800" y="3819600"/>
            <a:ext cx="1546200" cy="10843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7299360" y="463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ab40"/>
                </a:solidFill>
                <a:latin typeface="Arial Narrow"/>
              </a:rPr>
              <a:t>Coil spring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768348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ab40"/>
                </a:solidFill>
                <a:latin typeface="Arial Narrow"/>
              </a:rPr>
              <a:t>Clock or spiral spr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uses of Spr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3" name="Picture 3" descr="C:\Users\DAFFODIL\Desktop\alex\220px-Measuring-tape.jpg"/>
          <p:cNvPicPr/>
          <p:nvPr/>
        </p:nvPicPr>
        <p:blipFill>
          <a:blip r:embed="rId1"/>
          <a:stretch/>
        </p:blipFill>
        <p:spPr>
          <a:xfrm>
            <a:off x="4376880" y="1316160"/>
            <a:ext cx="3498840" cy="2390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DAFFODIL\Desktop\alex\Mausefalle_300px.jpg"/>
          <p:cNvPicPr/>
          <p:nvPr/>
        </p:nvPicPr>
        <p:blipFill>
          <a:blip r:embed="rId2"/>
          <a:stretch/>
        </p:blipFill>
        <p:spPr>
          <a:xfrm>
            <a:off x="5608800" y="3981600"/>
            <a:ext cx="3601800" cy="23097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0"/>
          <p:cNvGrpSpPr/>
          <p:nvPr/>
        </p:nvGrpSpPr>
        <p:grpSpPr>
          <a:xfrm>
            <a:off x="1184400" y="5029200"/>
            <a:ext cx="4545000" cy="1406520"/>
            <a:chOff x="1184400" y="5029200"/>
            <a:chExt cx="4545000" cy="1406520"/>
          </a:xfrm>
        </p:grpSpPr>
        <p:pic>
          <p:nvPicPr>
            <p:cNvPr id="136" name="Picture 4" descr="C:\Users\DAFFODIL\Desktop\alex\cl1.jpg"/>
            <p:cNvPicPr/>
            <p:nvPr/>
          </p:nvPicPr>
          <p:blipFill>
            <a:blip r:embed="rId3"/>
            <a:stretch/>
          </p:blipFill>
          <p:spPr>
            <a:xfrm>
              <a:off x="2326680" y="5034960"/>
              <a:ext cx="2121480" cy="13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C:\Users\DAFFODIL\Desktop\alex\cl2.jpg"/>
            <p:cNvPicPr/>
            <p:nvPr/>
          </p:nvPicPr>
          <p:blipFill>
            <a:blip r:embed="rId4"/>
            <a:stretch/>
          </p:blipFill>
          <p:spPr>
            <a:xfrm>
              <a:off x="1184400" y="5034960"/>
              <a:ext cx="1178640" cy="13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" descr="C:\Users\DAFFODIL\Desktop\alex\cl3.jpg"/>
            <p:cNvPicPr/>
            <p:nvPr/>
          </p:nvPicPr>
          <p:blipFill>
            <a:blip r:embed="rId5"/>
            <a:stretch/>
          </p:blipFill>
          <p:spPr>
            <a:xfrm>
              <a:off x="4411800" y="5029200"/>
              <a:ext cx="1317600" cy="140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3" descr="C:\Users\DAFFODIL\Desktop\alex\1350680045HkXcE9.jpg"/>
          <p:cNvPicPr/>
          <p:nvPr/>
        </p:nvPicPr>
        <p:blipFill>
          <a:blip r:embed="rId6"/>
          <a:stretch/>
        </p:blipFill>
        <p:spPr>
          <a:xfrm>
            <a:off x="1195560" y="1116000"/>
            <a:ext cx="26938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Uses of Spr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41" name="Picture 14" descr="stapler"/>
          <p:cNvPicPr/>
          <p:nvPr/>
        </p:nvPicPr>
        <p:blipFill>
          <a:blip r:embed="rId1"/>
          <a:stretch/>
        </p:blipFill>
        <p:spPr>
          <a:xfrm>
            <a:off x="4952880" y="4208400"/>
            <a:ext cx="286236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europa-trampoline-lg"/>
          <p:cNvPicPr/>
          <p:nvPr/>
        </p:nvPicPr>
        <p:blipFill>
          <a:blip r:embed="rId2"/>
          <a:stretch/>
        </p:blipFill>
        <p:spPr>
          <a:xfrm>
            <a:off x="1905120" y="1171440"/>
            <a:ext cx="2971800" cy="197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11428"/>
          <p:cNvPicPr/>
          <p:nvPr/>
        </p:nvPicPr>
        <p:blipFill>
          <a:blip r:embed="rId3"/>
          <a:stretch/>
        </p:blipFill>
        <p:spPr>
          <a:xfrm>
            <a:off x="1876320" y="3429000"/>
            <a:ext cx="259092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2478_ADAMS_Conceptual_Suspension"/>
          <p:cNvPicPr/>
          <p:nvPr/>
        </p:nvPicPr>
        <p:blipFill>
          <a:blip r:embed="rId4"/>
          <a:stretch/>
        </p:blipFill>
        <p:spPr>
          <a:xfrm>
            <a:off x="5257800" y="1058760"/>
            <a:ext cx="3581280" cy="290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8:48:26Z</dcterms:created>
  <dc:creator> </dc:creator>
  <dc:description/>
  <dc:language>en-US</dc:language>
  <cp:lastModifiedBy>Microsoft Office User</cp:lastModifiedBy>
  <dcterms:modified xsi:type="dcterms:W3CDTF">2017-07-18T19:00:21Z</dcterms:modified>
  <cp:revision>50</cp:revision>
  <dc:subject/>
  <dc:title>PowerPoint Presentation</dc:title>
</cp:coreProperties>
</file>